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5560" y="549000"/>
            <a:ext cx="782604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5560" y="549000"/>
            <a:ext cx="782604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5e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2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85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3480" y="998280"/>
            <a:ext cx="8351640" cy="1708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5f"/>
                </a:solidFill>
                <a:latin typeface="Courier New"/>
              </a:rPr>
              <a:t>draft-ietf-ccamp-rsvp-te-mpls-tp-oam-ext-03</a:t>
            </a:r>
            <a:r>
              <a:rPr b="0" lang="en-US" sz="2800" spc="-1" strike="noStrike">
                <a:solidFill>
                  <a:srgbClr val="00285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85f"/>
                </a:solidFill>
                <a:latin typeface="Arial"/>
              </a:rPr>
              <a:t>Configuration of pro-active MPLS-TP OAM functions using RSVP-TE</a:t>
            </a:r>
            <a:endParaRPr b="0" lang="en-US" sz="2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3840" y="3654360"/>
            <a:ext cx="8354880" cy="2308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Elisa Bellagamba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Ericsson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Loa Andersson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Ericsson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Pontus Sköldström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creo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David Ward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Juniper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John Drake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Juniper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Attila Takacs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Ericsson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Benoit Tremblay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Ericsson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1280" y="4014720"/>
            <a:ext cx="8551800" cy="247500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280" y="1449360"/>
            <a:ext cx="8551800" cy="2340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1280" y="1692000"/>
            <a:ext cx="4905360" cy="187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o specify the mechanisms necessary to establish MPLS-TP OAM entities monitoring an LSP and define information elements and procedures to configure pro-active MPLS OAM functions. 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01640" y="2079720"/>
            <a:ext cx="2384640" cy="585720"/>
          </a:xfrm>
          <a:prstGeom prst="rect">
            <a:avLst/>
          </a:prstGeom>
        </p:spPr>
        <p:txBody>
          <a:bodyPr wrap="none" lIns="72000" rIns="72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285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JECTIVE</a:t>
            </a:r>
            <a:endParaRPr b="1" lang="en-US" sz="1800" spc="1" strike="noStrike">
              <a:ln w="9360">
                <a:solidFill>
                  <a:srgbClr val="00285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88080" y="4626000"/>
            <a:ext cx="1933560" cy="1143000"/>
          </a:xfrm>
          <a:prstGeom prst="rect">
            <a:avLst/>
          </a:prstGeom>
        </p:spPr>
        <p:txBody>
          <a:bodyPr wrap="none" lIns="72000" rIns="72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sio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897360" y="3968640"/>
            <a:ext cx="50385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560" y="4141800"/>
            <a:ext cx="576108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85e"/>
                </a:solidFill>
                <a:latin typeface="Arial"/>
              </a:rPr>
              <a:t>Configuration via RSVP-TE and  LSP-PING  of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BFD CC and CV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Performance Monitoring Loss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 as specified in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draft-frost-mpls-tp-loss-del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Performance Monitoring Delay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 as specified in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draft-frost-mpls-tp-loss-del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Fault Management Signal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67360" y="4059360"/>
            <a:ext cx="1169640" cy="493560"/>
          </a:xfrm>
          <a:prstGeom prst="ellipse">
            <a:avLst/>
          </a:prstGeom>
          <a:noFill/>
          <a:ln w="38160">
            <a:solidFill>
              <a:srgbClr val="f0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3840" y="259560"/>
            <a:ext cx="7826400" cy="792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hanges respect to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draft-ietf-ccamp-rsvp-te-mpls-tp-oam-ext-01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2143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The LSP-Ping configuration has been moved to a new draft: </a:t>
            </a:r>
            <a:r>
              <a:rPr b="1" lang="en-US" sz="1800" spc="-1" strike="noStrike">
                <a:solidFill>
                  <a:srgbClr val="00a9d4"/>
                </a:solidFill>
                <a:latin typeface="Courier New"/>
              </a:rPr>
              <a:t>draft-absw-mpls-lsp-ping-mpls-tp-oam-conf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the TLV structure is common for both drafts and it is still defined in draft-ietf-ccamp-rsvp-te-mpls-tp-oam-ext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f"/>
                </a:solidFill>
                <a:latin typeface="Arial"/>
              </a:rPr>
              <a:t>Yet another draft is now available for PW configuration via LDP: </a:t>
            </a:r>
            <a:r>
              <a:rPr b="1" lang="en-US" sz="1800" spc="-1" strike="noStrike">
                <a:solidFill>
                  <a:srgbClr val="00a9d4"/>
                </a:solidFill>
                <a:latin typeface="Courier New"/>
              </a:rPr>
              <a:t>draft-zhang-mpls-tp-pw-oam-config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85f"/>
                </a:solidFill>
                <a:latin typeface="Arial"/>
              </a:rPr>
              <a:t>it also refers to the CCAMP draft for the TLVs  structure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67000" y="3697200"/>
            <a:ext cx="2835360" cy="1216080"/>
          </a:xfrm>
          <a:prstGeom prst="verticalScroll">
            <a:avLst>
              <a:gd name="adj" fmla="val 25000"/>
            </a:avLst>
          </a:prstGeom>
          <a:solidFill>
            <a:srgbClr val="fabb00"/>
          </a:solidFill>
          <a:ln w="12600">
            <a:solidFill>
              <a:srgbClr val="7b0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7000" y="3697200"/>
            <a:ext cx="23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663"/>
                </a:solidFill>
                <a:latin typeface="Courier New"/>
              </a:rPr>
              <a:t>draft-ietf-ccamp-...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280" y="5183280"/>
            <a:ext cx="2835360" cy="1216080"/>
          </a:xfrm>
          <a:prstGeom prst="verticalScroll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7b0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32360" y="5184720"/>
            <a:ext cx="3060720" cy="1216080"/>
          </a:xfrm>
          <a:prstGeom prst="verticalScroll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7b0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6640" y="519264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bb00"/>
                </a:solidFill>
                <a:latin typeface="Courier New"/>
              </a:rPr>
              <a:t>draft-absw-mpls-...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6640" y="519444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1d6"/>
                </a:solidFill>
                <a:latin typeface="Courier New"/>
              </a:rPr>
              <a:t>draft-zhang-mpls-tp-pw...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22760" y="377604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663"/>
                </a:solidFill>
                <a:latin typeface="Arial"/>
              </a:rPr>
              <a:t>RSVP-T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5306400" y="528192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9d4"/>
                </a:solidFill>
                <a:latin typeface="Arial"/>
              </a:rPr>
              <a:t>LDP for PW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208080" y="523908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2119"/>
                </a:solidFill>
                <a:latin typeface="Arial"/>
              </a:rPr>
              <a:t>LSP - p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62360" y="4103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25f"/>
                </a:solidFill>
                <a:latin typeface="Arial"/>
              </a:rPr>
              <a:t>TLVs structure definition (protocol agnostic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71640" y="3968640"/>
            <a:ext cx="1035000" cy="80964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21" stAng="10800000" swAng="5400000"/>
                <a:lnTo>
                  <a:pt x="16432" y="3939"/>
                </a:lnTo>
                <a:lnTo>
                  <a:pt x="16432" y="0"/>
                </a:lnTo>
                <a:lnTo>
                  <a:pt x="21600" y="6079"/>
                </a:lnTo>
                <a:lnTo>
                  <a:pt x="16432" y="12158"/>
                </a:lnTo>
                <a:lnTo>
                  <a:pt x="16432" y="8219"/>
                </a:lnTo>
                <a:lnTo>
                  <a:pt x="12427" y="8219"/>
                </a:lnTo>
                <a:arcTo wR="8147" hR="3941" stAng="16200000" swAng="-5400000"/>
                <a:lnTo>
                  <a:pt x="4280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7b0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7000" y="3968640"/>
            <a:ext cx="1125720" cy="809640"/>
          </a:xfrm>
          <a:custGeom>
            <a:avLst/>
            <a:gdLst>
              <a:gd name="textAreaLeft" fmla="*/ -360 w 1125720"/>
              <a:gd name="textAreaRight" fmla="*/ 1125720 w 11257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21" stAng="10800000" swAng="5400000"/>
                <a:lnTo>
                  <a:pt x="16432" y="3939"/>
                </a:lnTo>
                <a:lnTo>
                  <a:pt x="16432" y="0"/>
                </a:lnTo>
                <a:lnTo>
                  <a:pt x="21600" y="6079"/>
                </a:lnTo>
                <a:lnTo>
                  <a:pt x="16432" y="12158"/>
                </a:lnTo>
                <a:lnTo>
                  <a:pt x="16432" y="8219"/>
                </a:lnTo>
                <a:lnTo>
                  <a:pt x="12427" y="8219"/>
                </a:lnTo>
                <a:arcTo wR="8147" hR="3941" stAng="16200000" swAng="-5400000"/>
                <a:lnTo>
                  <a:pt x="428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7b0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425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Work in parallel with the work done in MPLS-TP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Keep aligned the three drafts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285e"/>
                </a:solidFill>
                <a:latin typeface="Arial"/>
              </a:rPr>
              <a:t>Receive more comments from the Working Groups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eelibel</cp:lastModifiedBy>
  <dcterms:modified xsi:type="dcterms:W3CDTF">2010-07-23T12:27:16Z</dcterms:modified>
  <cp:revision>182</cp:revision>
  <dc:subject/>
  <dc:title>RSVP-TE extensions  for MPLS-TP OAM Configu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03-1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 Internal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03-1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