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ETF – Maastricht, Netherlands,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95280"/>
            <a:ext cx="76320" cy="472464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066680"/>
            <a:ext cx="8077320" cy="7632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- </a:t>
            </a:r>
            <a:fld id="{664F6F25-2C7E-47E7-BD2C-6105B6D8A4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regb@grotto-networking.com" TargetMode="External"/><Relationship Id="rId2" Type="http://schemas.openxmlformats.org/officeDocument/2006/relationships/hyperlink" Target="mailto:ylee@huawei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uting and Wavelength Assignment Information Encoding for Wavelength Switched Optic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28880" y="44197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eg Bernst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gregb@grotto-networking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otto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ylee@huawe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uaw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9200" y="3352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aft-ietf-ccamp-rwa-wson-encode-05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uthors/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eg Bernste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Grotto Net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ego Caviglia  (Erics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nder Gavler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Jianrui (Rebecca) Han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n 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aru Imaju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N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Jonas Martensson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aru Nishioka (NEC Cor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ncoding RWA Info in W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op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s 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WSON specific aspec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f the RWA WSON Framework and Info Model drafts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(scope redu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document provides efficient, protocol-agnostic encodings for the WSON specific information elements. It is intended that protocol-specific documents will reference this memo to describe how information is carried for specific u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hanges from Encoding 05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encodings to deal with access to resource blocks via shared fi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Pool Information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s from the WSON Inform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Resource block could have shared access for ingress or eg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length availability for shared block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ode_Info&gt; ::= &lt;Node_ID&gt;[Other GMPLS sub-TLVs]  [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Po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] [&lt;RBPoolState&gt;]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[&lt;BlockSharedAccessWavelengthAvailability&gt;...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Po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::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&lt;ResourceBlockInfo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... [&lt;ResourceBlockAccessibility&gt;...] [&lt;ResourceWaveConstraints&gt;...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Block Info sub-T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066680"/>
            <a:ext cx="67057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RB Set Field         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990000"/>
                </a:solidFill>
                <a:latin typeface="Courier New"/>
              </a:rPr>
              <a:t>|  Shared Ingress Indicator     | Shared Egress Indicator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Input Modulation Type List Sub-Sub-TLV  (opt)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Input FEC Type List Sub-Sub-TLV    (opt)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Input Client Signal Type Sub-TLV      (opt)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Input Bit Rate Range List  Sub-Sub-TLV (opt)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Processing Capabilities List Sub-Sub-TLV (opt)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Output Modulation Type List Sub-Sub-TLV  (opt)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                                                            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Output FEC Type List Sub-Sub-TLV  (opt)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86600" y="2361960"/>
            <a:ext cx="380880" cy="10666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304812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dditional information f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Shared Access Wavelength Availability sub-TLV (n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what we’ve used to model wavelength availability on links, but simpler since this is associated with a particular resource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12408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Resource Block ID           |I|E|          Reserved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Ingress Available Wavelength Set Field 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Egress Available Wavelength Set Field 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ine, prepare for last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Dr. Greg M. Bernstein</dc:creator>
  <dc:description/>
  <dc:language>en-US</dc:language>
  <cp:lastModifiedBy>Greg M. Bernstein</cp:lastModifiedBy>
  <dcterms:modified xsi:type="dcterms:W3CDTF">2010-07-14T22:02:03Z</dcterms:modified>
  <cp:revision>166</cp:revision>
  <dc:subject/>
  <dc:title>Optical Network Control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8841750</vt:lpwstr>
  </property>
</Properties>
</file>