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380880"/>
            <a:ext cx="7010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7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 IETF – Maastricht, Netherlands,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95280"/>
            <a:ext cx="76320" cy="472464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066680"/>
            <a:ext cx="8077320" cy="7632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4008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Page - </a:t>
            </a:r>
            <a:fld id="{14DED689-95F2-42A1-9508-ED5C00DCC1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regb@grotto-networking.com" TargetMode="External"/><Relationship Id="rId2" Type="http://schemas.openxmlformats.org/officeDocument/2006/relationships/hyperlink" Target="mailto:ylee@huawei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General Network Element Constraint Encoding for GMPLS Controlled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28880" y="441972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reg Bernste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"/>
              </a:rPr>
              <a:t>gregb@grotto-networking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rotto 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Young L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"/>
              </a:rPr>
              <a:t>ylee@huawe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uaw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3800" y="3352680"/>
            <a:ext cx="62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raft-ietf-ccamp-general-constraint-encode-02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uthors/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Greg Bernste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(Grotto Networ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Diego Caviglia  (Erics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Ander Gavler (Acreo 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Jianrui (Rebecca) Han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Young L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Dan 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Wataru Imaju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(NT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Jonas Martensson (Acreo 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Itaru Nishioka (NEC Cor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General Constraint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MPLS can be used to control a wide variety of technologies. In some of these technologies network elements and links may impose additional routing constraints such as asymmetric switch connectivity, label limitation and label availability on link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is document provides efficient, protocol-agnostic encodings for general information elements representing connectivity and label constraints as well as label availability. These encodings are applicable to a wide range of technologies and not limited to WS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cop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s 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spe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he RWA WSON Framework and Info Model drafts that maybe useful to other technologies. Text extracted from draft-ietf-ccamp-rwa-wson-encode-03, no new mate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Changes from 0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Edits  to make text more general and use WSON technology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ection 1.1 “Node Switching Asymmetry Constrain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ection 1.2 “Non-Local Label Assignment Constrain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Edits for clarity additional text in section 3 on en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No Technic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SimSun"/>
              </a:rPr>
              <a:t>This document not affected by updated WSON information model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pare for last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21:08:18Z</dcterms:created>
  <dc:creator>Dr. Greg M. Bernstein</dc:creator>
  <dc:description/>
  <dc:language>en-US</dc:language>
  <cp:lastModifiedBy>Greg M. Bernstein</cp:lastModifiedBy>
  <dcterms:modified xsi:type="dcterms:W3CDTF">2010-07-14T21:29:49Z</dcterms:modified>
  <cp:revision>161</cp:revision>
  <dc:subject/>
  <dc:title>Optical Network Control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47595307</vt:lpwstr>
  </property>
</Properties>
</file>