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693-2AFF-4502-A5D1-B4A354B0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E8D-1CB5-4841-A87B-A7BF794D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3B1-2149-4F9C-B45E-C8C84452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527-C72D-448B-9CEC-4975D431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BB0-FF4B-4658-9E8E-771A3FD7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6D4-3A68-47B7-B39C-0ED3A2EC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D0E-4022-409E-AD7A-F5F5DEBB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1FB-4675-4320-95CD-4E1365F6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BCB-844D-4561-9481-7ADF22E7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E45-C199-4571-AA96-4794AA3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020-8CFF-4342-8492-255A585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EF6-E26D-4062-996C-DE32A94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0640" y="6278040"/>
            <a:ext cx="40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8th IETF – Maastricht Netherlands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788F-153A-4C19-8815-BBF1D1C0D1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ngfatai@huawei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hyperlink" Target="mailto:hanjianrui@huawei.com" TargetMode="External"/><Relationship Id="rId4" Type="http://schemas.openxmlformats.org/officeDocument/2006/relationships/hyperlink" Target="mailto:gregb@grotto-networking.com" TargetMode="External"/><Relationship Id="rId5" Type="http://schemas.openxmlformats.org/officeDocument/2006/relationships/hyperlink" Target="mailto:xuyunbin@mail.ritt.com.cn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SPF Extensions for WSON and General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080" y="2406600"/>
            <a:ext cx="839484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aft-zhang-ccamp-rwa-wson-routing-ospf-03.t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-ietf-ccamp-wson-signal-compatibility-ospf-01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426240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tai Zhang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zhangfatai@huawei.com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oung Lee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lee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ianrui Han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anjianrui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reg Bernstein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regb@grotto-networking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unbin Xu (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xuyunbin@mail.ritt.com.c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677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rrent Document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8200" y="10018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Inform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8840" y="284472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Constraint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6560" y="28432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3720" y="13921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33084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884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individual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1836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y 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8040" y="494028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PF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2145960" y="2178000"/>
            <a:ext cx="26200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4765320" y="2178000"/>
            <a:ext cx="2809080" cy="66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1" idx="0"/>
          </p:cNvCxnSpPr>
          <p:nvPr/>
        </p:nvCxnSpPr>
        <p:spPr>
          <a:xfrm>
            <a:off x="2145960" y="4021200"/>
            <a:ext cx="1080" cy="66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52" idx="0"/>
          </p:cNvCxnSpPr>
          <p:nvPr/>
        </p:nvCxnSpPr>
        <p:spPr>
          <a:xfrm>
            <a:off x="7574040" y="4019040"/>
            <a:ext cx="2160" cy="66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nciliation with Peloso Dra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4120" y="1569240"/>
            <a:ext cx="8130960" cy="3874320"/>
            <a:chOff x="384120" y="1569240"/>
            <a:chExt cx="8130960" cy="3874320"/>
          </a:xfrm>
        </p:grpSpPr>
        <p:sp>
          <p:nvSpPr>
            <p:cNvPr id="60" name=""/>
            <p:cNvSpPr/>
            <p:nvPr/>
          </p:nvSpPr>
          <p:spPr>
            <a:xfrm>
              <a:off x="38412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12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12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7004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04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7004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0" idx="3"/>
              <a:endCxn id="63" idx="1"/>
            </p:cNvCxnSpPr>
            <p:nvPr/>
          </p:nvCxnSpPr>
          <p:spPr>
            <a:xfrm>
              <a:off x="929160" y="18813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1" idx="3"/>
              <a:endCxn id="64" idx="1"/>
            </p:cNvCxnSpPr>
            <p:nvPr/>
          </p:nvCxnSpPr>
          <p:spPr>
            <a:xfrm>
              <a:off x="929160" y="247644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2" idx="3"/>
            </p:cNvCxnSpPr>
            <p:nvPr/>
          </p:nvCxnSpPr>
          <p:spPr>
            <a:xfrm>
              <a:off x="929160" y="30729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2792160" y="3980160"/>
              <a:ext cx="3593520" cy="7599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3493080"/>
              <a:ext cx="4709160" cy="17787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99160" y="4579200"/>
              <a:ext cx="1379520" cy="304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9160" y="5138640"/>
              <a:ext cx="1379520" cy="3049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3960" y="1617840"/>
              <a:ext cx="2689920" cy="263556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B No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L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onnectivity Matr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2890800" y="2516400"/>
              <a:ext cx="1415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142600" y="2608200"/>
              <a:ext cx="1414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E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830880" y="224496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6282720" y="224388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 flipV="1">
            <a:off x="3137040" y="5370120"/>
            <a:ext cx="3124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333600" y="4896000"/>
            <a:ext cx="20808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18000" y="550872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wavelengths on these internal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597720" y="5394240"/>
            <a:ext cx="17280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88080" y="4860720"/>
            <a:ext cx="3348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6000" y="10270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nnectivity matrix for both optical and OEO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6240" y="1378080"/>
            <a:ext cx="69840" cy="65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9520" y="547524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erre 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5680" y="533880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0640" y="474336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35320" y="533232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ciliation with Peloso Draft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412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7076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7076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7076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0" idx="3"/>
            <a:endCxn id="93" idx="1"/>
          </p:cNvCxnSpPr>
          <p:nvPr/>
        </p:nvCxnSpPr>
        <p:spPr>
          <a:xfrm>
            <a:off x="928440" y="168084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1" idx="3"/>
            <a:endCxn id="94" idx="1"/>
          </p:cNvCxnSpPr>
          <p:nvPr/>
        </p:nvCxnSpPr>
        <p:spPr>
          <a:xfrm>
            <a:off x="928440" y="227628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2" idx="3"/>
          </p:cNvCxnSpPr>
          <p:nvPr/>
        </p:nvCxnSpPr>
        <p:spPr>
          <a:xfrm>
            <a:off x="928440" y="287316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3898800" y="4633920"/>
            <a:ext cx="1379520" cy="306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98800" y="5194440"/>
            <a:ext cx="1379520" cy="30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4680" y="1417680"/>
            <a:ext cx="2689560" cy="263520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onne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2000" y="1031760"/>
            <a:ext cx="141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8360" y="1071720"/>
            <a:ext cx="141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0640" y="473724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43040" y="4329000"/>
            <a:ext cx="1936800" cy="134172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In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2240" y="4334040"/>
            <a:ext cx="1936800" cy="134136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E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8160" y="1652760"/>
            <a:ext cx="704880" cy="30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5560" y="2276640"/>
            <a:ext cx="717480" cy="27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855880"/>
            <a:ext cx="72864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441920" y="1674720"/>
            <a:ext cx="5094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441920" y="2276640"/>
            <a:ext cx="509400" cy="27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419960" y="2855880"/>
            <a:ext cx="54288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60" y="4221000"/>
            <a:ext cx="8923320" cy="0"/>
          </a:xfrm>
          <a:prstGeom prst="line">
            <a:avLst/>
          </a:prstGeom>
          <a:ln w="57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800680"/>
            <a:ext cx="146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SON signal compatibility OS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03320" y="5419440"/>
            <a:ext cx="69516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10240" y="5419440"/>
            <a:ext cx="684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04520" y="574848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 model &amp; encoding updated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avelength availability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68520" y="3110040"/>
            <a:ext cx="146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eneral Constraint OSPF 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8480" y="1068480"/>
            <a:ext cx="8039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ON Signal Compatibility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o reflect latest changes to RWA WSON encod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RWA WSON ro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name from: “OSPF Extensions in Support of RWA in WSONs” to: “OSPF Extensions for General Network Element Constrai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opt as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ean up text to describe “generality” and alignment with general constraints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reg M. Bernstein</cp:lastModifiedBy>
  <dcterms:modified xsi:type="dcterms:W3CDTF">2010-07-15T16:24:07Z</dcterms:modified>
  <cp:revision>8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sflag">
    <vt:lpwstr>1268664228</vt:lpwstr>
  </property>
</Properties>
</file>