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1DB-CFC4-4581-8B2E-B14AB063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195-5966-4566-9D2A-223B784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0EA-C2BA-4462-A985-19AD9EAB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FCA-8346-4DA3-89AD-76194CB7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515-79AD-4DF9-847B-CFAD72E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056-7796-4361-A3E6-9318C97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E39-F9B2-4C2D-BDA6-056E32A3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1B7-E4AD-49BE-8C83-EE41B06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69B-7173-44D2-BF97-E61CD75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7F0-BDED-4B2E-831F-FB0BADA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E78-135F-4DC6-A2D4-B929376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6A9-C68B-4BB0-B383-B218CF5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0640" y="6278040"/>
            <a:ext cx="40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th IETF – Maastricht Netherlands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EF5-2BE9-43A0-BBFB-6151EA83D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fatai@huawei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hyperlink" Target="mailto:hanjianrui@huawei.com" TargetMode="External"/><Relationship Id="rId4" Type="http://schemas.openxmlformats.org/officeDocument/2006/relationships/hyperlink" Target="mailto:gregb@grotto-networking.com" TargetMode="External"/><Relationship Id="rId5" Type="http://schemas.openxmlformats.org/officeDocument/2006/relationships/hyperlink" Target="mailto:xuyunbin@mail.ritt.com.cn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for WSON and Gener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080" y="2406600"/>
            <a:ext cx="83948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26240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tai Zhang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zhangfatai@huawei.com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oung Lee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lee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ianrui Han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anjianrui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reg Bernstein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regb@grotto-networking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xuyunbin@mail.ritt.com.c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ent Document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8200" y="10018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Inform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8840" y="284472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Constraint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6560" y="28432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3720" y="13921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3308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884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ndividual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1836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 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8040" y="494028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PF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2145960" y="2178000"/>
            <a:ext cx="26200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4765320" y="2178000"/>
            <a:ext cx="2809080" cy="66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1" idx="0"/>
          </p:cNvCxnSpPr>
          <p:nvPr/>
        </p:nvCxnSpPr>
        <p:spPr>
          <a:xfrm>
            <a:off x="2145960" y="4021200"/>
            <a:ext cx="1080" cy="66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52" idx="0"/>
          </p:cNvCxnSpPr>
          <p:nvPr/>
        </p:nvCxnSpPr>
        <p:spPr>
          <a:xfrm>
            <a:off x="7574040" y="4019040"/>
            <a:ext cx="2160" cy="6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nciliation with Peloso Dra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120" y="1569240"/>
            <a:ext cx="8130960" cy="3874320"/>
            <a:chOff x="384120" y="1569240"/>
            <a:chExt cx="8130960" cy="3874320"/>
          </a:xfrm>
        </p:grpSpPr>
        <p:sp>
          <p:nvSpPr>
            <p:cNvPr id="60" name=""/>
            <p:cNvSpPr/>
            <p:nvPr/>
          </p:nvSpPr>
          <p:spPr>
            <a:xfrm>
              <a:off x="38412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12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12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004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04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7004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0" idx="3"/>
              <a:endCxn id="63" idx="1"/>
            </p:cNvCxnSpPr>
            <p:nvPr/>
          </p:nvCxnSpPr>
          <p:spPr>
            <a:xfrm>
              <a:off x="929160" y="18813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1" idx="3"/>
              <a:endCxn id="64" idx="1"/>
            </p:cNvCxnSpPr>
            <p:nvPr/>
          </p:nvCxnSpPr>
          <p:spPr>
            <a:xfrm>
              <a:off x="929160" y="247644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2" idx="3"/>
            </p:cNvCxnSpPr>
            <p:nvPr/>
          </p:nvCxnSpPr>
          <p:spPr>
            <a:xfrm>
              <a:off x="929160" y="30729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2792160" y="3980160"/>
              <a:ext cx="3593520" cy="7599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3493080"/>
              <a:ext cx="4709160" cy="1778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99160" y="4579200"/>
              <a:ext cx="1379520" cy="304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9160" y="5138640"/>
              <a:ext cx="1379520" cy="3049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3960" y="1617840"/>
              <a:ext cx="2689920" cy="263556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B No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L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onnectivity Matr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890800" y="2516400"/>
              <a:ext cx="1415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142600" y="2608200"/>
              <a:ext cx="1414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E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830880" y="224496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282720" y="224388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3137040" y="5370120"/>
            <a:ext cx="3124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333600" y="4896000"/>
            <a:ext cx="20808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18000" y="550872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avelengths on these internal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597720" y="5394240"/>
            <a:ext cx="1728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88080" y="4860720"/>
            <a:ext cx="3348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6000" y="10270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nnectivity matrix for both optical and OEO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240" y="1378080"/>
            <a:ext cx="6984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9520" y="547524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erre 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5680" y="533880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0640" y="474336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533232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ciliation with Peloso Draf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412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7076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7076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76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3"/>
            <a:endCxn id="93" idx="1"/>
          </p:cNvCxnSpPr>
          <p:nvPr/>
        </p:nvCxnSpPr>
        <p:spPr>
          <a:xfrm>
            <a:off x="928440" y="168084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1" idx="3"/>
            <a:endCxn id="94" idx="1"/>
          </p:cNvCxnSpPr>
          <p:nvPr/>
        </p:nvCxnSpPr>
        <p:spPr>
          <a:xfrm>
            <a:off x="928440" y="227628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2" idx="3"/>
          </p:cNvCxnSpPr>
          <p:nvPr/>
        </p:nvCxnSpPr>
        <p:spPr>
          <a:xfrm>
            <a:off x="928440" y="287316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3898800" y="4633920"/>
            <a:ext cx="1379520" cy="306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8800" y="5194440"/>
            <a:ext cx="1379520" cy="30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4680" y="1417680"/>
            <a:ext cx="2689560" cy="263520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nne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2000" y="1031760"/>
            <a:ext cx="141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8360" y="1071720"/>
            <a:ext cx="141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0640" y="473724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4329000"/>
            <a:ext cx="1936800" cy="13417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In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2240" y="4334040"/>
            <a:ext cx="1936800" cy="134136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E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652760"/>
            <a:ext cx="704880" cy="30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2276640"/>
            <a:ext cx="717480" cy="27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855880"/>
            <a:ext cx="72864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41920" y="1674720"/>
            <a:ext cx="5094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441920" y="2276640"/>
            <a:ext cx="509400" cy="27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419960" y="2855880"/>
            <a:ext cx="54288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60" y="4221000"/>
            <a:ext cx="8923320" cy="0"/>
          </a:xfrm>
          <a:prstGeom prst="line">
            <a:avLst/>
          </a:prstGeom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800680"/>
            <a:ext cx="146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signal compatibility OS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03320" y="5419440"/>
            <a:ext cx="69516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10240" y="5419440"/>
            <a:ext cx="684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04520" y="574848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 model &amp; encoding updated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avelength availability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68520" y="3110040"/>
            <a:ext cx="146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eneral Constraint OSPF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ON Signal Compatibility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reflect latest changes to RWA WSON encod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WA WSON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name from: “OSPF Extensions in Support of RWA in WSONs” to: “OSPF Extensions for General Network Element Constra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ean up text to describe “generality” and alignment with general constraints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reg M. Bernstein</cp:lastModifiedBy>
  <dcterms:modified xsi:type="dcterms:W3CDTF">2010-07-15T16:24:07Z</dcterms:modified>
  <cp:revision>8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64228</vt:lpwstr>
  </property>
</Properties>
</file>