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5B1-72D8-4F5F-9D0F-432A03CF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A14-3B57-41FC-B154-53BC730A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13F-A870-46E5-8075-F2C5707E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C7B-1EC6-47F0-9579-F179DF48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BBBD-0874-4B47-99EC-01920BBA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C3CF-3149-4DBF-940D-BCA34D07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F73-6223-46E3-A546-6EED97E1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885-EAF7-4A9B-8522-6A34B506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D33-263D-40F5-BFBC-59D013F1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414-BA81-42DA-A9E3-9A5BD33E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320-9755-4FD4-B88A-A0C8C2BB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0BF-47CC-49A8-AA44-EA545E94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90640" y="6278040"/>
            <a:ext cx="40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8th IETF – Maastricht Netherlands,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2365-85F2-4D66-805F-FA7F8B6F28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zhangfatai@huawei.com" TargetMode="External"/><Relationship Id="rId2" Type="http://schemas.openxmlformats.org/officeDocument/2006/relationships/hyperlink" Target="mailto:ylee@huawei.com" TargetMode="External"/><Relationship Id="rId3" Type="http://schemas.openxmlformats.org/officeDocument/2006/relationships/hyperlink" Target="mailto:hanjianrui@huawei.com" TargetMode="External"/><Relationship Id="rId4" Type="http://schemas.openxmlformats.org/officeDocument/2006/relationships/hyperlink" Target="mailto:gregb@grotto-networking.com" TargetMode="External"/><Relationship Id="rId5" Type="http://schemas.openxmlformats.org/officeDocument/2006/relationships/hyperlink" Target="mailto:xuyunbin@mail.ritt.com.cn" TargetMode="External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SPF Extensions for WSON and General Constra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6080" y="2406600"/>
            <a:ext cx="8394840" cy="39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raft-zhang-ccamp-rwa-wson-routing-ospf-03.t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-ietf-ccamp-wson-signal-compatibility-ospf-01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4262400"/>
            <a:ext cx="55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atai Zhang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zhangfatai@huawei.com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Young Lee(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lee@huawei.com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Jianrui Han(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anjianrui@huawei.com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reg Bernstein (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gregb@grotto-networking.com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Yunbin Xu (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xuyunbin@mail.ritt.com.c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6776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rrent Document Fl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08200" y="1001880"/>
            <a:ext cx="2514600" cy="117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ON Inform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G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8840" y="2844720"/>
            <a:ext cx="2514600" cy="11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Constraint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G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16560" y="2843280"/>
            <a:ext cx="2514600" cy="117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WA WSON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G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63720" y="139212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43520" y="33084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88840" y="4681440"/>
            <a:ext cx="2514600" cy="11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WA WSON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individual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18360" y="4681440"/>
            <a:ext cx="2514600" cy="11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ON Sig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tibility OS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G 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18040" y="4940280"/>
            <a:ext cx="16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PF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6" idx="2"/>
            <a:endCxn id="47" idx="0"/>
          </p:cNvCxnSpPr>
          <p:nvPr/>
        </p:nvCxnSpPr>
        <p:spPr>
          <a:xfrm flipH="1">
            <a:off x="2145960" y="2178000"/>
            <a:ext cx="2620080" cy="667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6" idx="2"/>
            <a:endCxn id="48" idx="0"/>
          </p:cNvCxnSpPr>
          <p:nvPr/>
        </p:nvCxnSpPr>
        <p:spPr>
          <a:xfrm>
            <a:off x="4765320" y="2178000"/>
            <a:ext cx="2809080" cy="66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7" idx="2"/>
            <a:endCxn id="51" idx="0"/>
          </p:cNvCxnSpPr>
          <p:nvPr/>
        </p:nvCxnSpPr>
        <p:spPr>
          <a:xfrm>
            <a:off x="2145960" y="4021200"/>
            <a:ext cx="1080" cy="66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2"/>
            <a:endCxn id="52" idx="0"/>
          </p:cNvCxnSpPr>
          <p:nvPr/>
        </p:nvCxnSpPr>
        <p:spPr>
          <a:xfrm>
            <a:off x="7574040" y="4019040"/>
            <a:ext cx="2160" cy="662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nciliation with Peloso Draf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4120" y="1569240"/>
            <a:ext cx="8130960" cy="3874320"/>
            <a:chOff x="384120" y="1569240"/>
            <a:chExt cx="8130960" cy="3874320"/>
          </a:xfrm>
        </p:grpSpPr>
        <p:sp>
          <p:nvSpPr>
            <p:cNvPr id="60" name=""/>
            <p:cNvSpPr/>
            <p:nvPr/>
          </p:nvSpPr>
          <p:spPr>
            <a:xfrm>
              <a:off x="384120" y="1658520"/>
              <a:ext cx="545040" cy="44604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4120" y="2253960"/>
              <a:ext cx="545040" cy="44568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4120" y="2850480"/>
              <a:ext cx="545040" cy="44568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70040" y="1658520"/>
              <a:ext cx="545040" cy="44604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70040" y="2253960"/>
              <a:ext cx="545040" cy="44568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70040" y="2850480"/>
              <a:ext cx="545040" cy="445680"/>
            </a:xfrm>
            <a:prstGeom prst="octagon">
              <a:avLst>
                <a:gd name="adj" fmla="val 29287"/>
              </a:avLst>
            </a:prstGeom>
            <a:solidFill>
              <a:srgbClr val="7a5e9a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" name=""/>
            <p:cNvCxnSpPr>
              <a:stCxn id="60" idx="3"/>
              <a:endCxn id="63" idx="1"/>
            </p:cNvCxnSpPr>
            <p:nvPr/>
          </p:nvCxnSpPr>
          <p:spPr>
            <a:xfrm>
              <a:off x="929160" y="1881360"/>
              <a:ext cx="7041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"/>
            <p:cNvCxnSpPr>
              <a:stCxn id="61" idx="3"/>
              <a:endCxn id="64" idx="1"/>
            </p:cNvCxnSpPr>
            <p:nvPr/>
          </p:nvCxnSpPr>
          <p:spPr>
            <a:xfrm>
              <a:off x="929160" y="2476440"/>
              <a:ext cx="7041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"/>
            <p:cNvCxnSpPr>
              <a:stCxn id="62" idx="3"/>
            </p:cNvCxnSpPr>
            <p:nvPr/>
          </p:nvCxnSpPr>
          <p:spPr>
            <a:xfrm>
              <a:off x="929160" y="3072960"/>
              <a:ext cx="7041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"/>
            <p:cNvSpPr/>
            <p:nvPr/>
          </p:nvSpPr>
          <p:spPr>
            <a:xfrm>
              <a:off x="2792160" y="3980160"/>
              <a:ext cx="3593520" cy="7599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47120" y="3493080"/>
              <a:ext cx="4709160" cy="17787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99160" y="4579200"/>
              <a:ext cx="1379520" cy="3045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OEO pool L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99160" y="5138640"/>
              <a:ext cx="1379520" cy="30492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OEO pool L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3960" y="1617840"/>
              <a:ext cx="2689920" cy="2635560"/>
            </a:xfrm>
            <a:prstGeom prst="octagon">
              <a:avLst>
                <a:gd name="adj" fmla="val 10417"/>
              </a:avLst>
            </a:prstGeom>
            <a:solidFill>
              <a:srgbClr val="6d7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B No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L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Connectivity Matr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2890800" y="2516400"/>
              <a:ext cx="1415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Ingress por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5142600" y="2608200"/>
              <a:ext cx="1414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Egress por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6200000">
              <a:off x="830880" y="2244960"/>
              <a:ext cx="1809360" cy="459720"/>
            </a:xfrm>
            <a:prstGeom prst="rect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WDM links LS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6282720" y="2243880"/>
              <a:ext cx="1809360" cy="459720"/>
            </a:xfrm>
            <a:prstGeom prst="rect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WDM links LS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 flipH="1" flipV="1">
            <a:off x="3137040" y="5370120"/>
            <a:ext cx="3124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333600" y="4896000"/>
            <a:ext cx="208080" cy="82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18000" y="550872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track of wavelengths on these internal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597720" y="5394240"/>
            <a:ext cx="17280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788080" y="4860720"/>
            <a:ext cx="3348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66000" y="1027080"/>
            <a:ext cx="63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onnectivity matrix for both optical and OEO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86240" y="1378080"/>
            <a:ext cx="69840" cy="65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9520" y="547524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erre Pel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35680" y="5338800"/>
            <a:ext cx="693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30640" y="4743360"/>
            <a:ext cx="693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35320" y="5332320"/>
            <a:ext cx="693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nciliation with Peloso Draft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4120" y="145908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4120" y="205416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4120" y="264960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70760" y="145908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70760" y="205416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70760" y="2649600"/>
            <a:ext cx="544680" cy="446040"/>
          </a:xfrm>
          <a:prstGeom prst="octagon">
            <a:avLst>
              <a:gd name="adj" fmla="val 29287"/>
            </a:avLst>
          </a:prstGeom>
          <a:solidFill>
            <a:srgbClr val="7a5e9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0" idx="3"/>
            <a:endCxn id="93" idx="1"/>
          </p:cNvCxnSpPr>
          <p:nvPr/>
        </p:nvCxnSpPr>
        <p:spPr>
          <a:xfrm>
            <a:off x="928440" y="1680840"/>
            <a:ext cx="70426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1" idx="3"/>
            <a:endCxn id="94" idx="1"/>
          </p:cNvCxnSpPr>
          <p:nvPr/>
        </p:nvCxnSpPr>
        <p:spPr>
          <a:xfrm>
            <a:off x="928440" y="2276280"/>
            <a:ext cx="70426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92" idx="3"/>
          </p:cNvCxnSpPr>
          <p:nvPr/>
        </p:nvCxnSpPr>
        <p:spPr>
          <a:xfrm>
            <a:off x="928440" y="2873160"/>
            <a:ext cx="70426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3898800" y="4633920"/>
            <a:ext cx="1379520" cy="306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 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98800" y="5194440"/>
            <a:ext cx="1379520" cy="30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OEO pool 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4680" y="1417680"/>
            <a:ext cx="2689560" cy="2635200"/>
          </a:xfrm>
          <a:prstGeom prst="octagon">
            <a:avLst>
              <a:gd name="adj" fmla="val 1041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Conne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2000" y="1031760"/>
            <a:ext cx="1416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gress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18360" y="1071720"/>
            <a:ext cx="141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gress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30640" y="4737240"/>
            <a:ext cx="693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43040" y="4329000"/>
            <a:ext cx="1936800" cy="1341720"/>
          </a:xfrm>
          <a:prstGeom prst="octagon">
            <a:avLst>
              <a:gd name="adj" fmla="val 1041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OEO In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2240" y="4334040"/>
            <a:ext cx="1936800" cy="1341360"/>
          </a:xfrm>
          <a:prstGeom prst="octagon">
            <a:avLst>
              <a:gd name="adj" fmla="val 10417"/>
            </a:avLst>
          </a:prstGeom>
          <a:solidFill>
            <a:srgbClr val="6d7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OEO E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8160" y="1652760"/>
            <a:ext cx="704880" cy="30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25560" y="2276640"/>
            <a:ext cx="717480" cy="27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855880"/>
            <a:ext cx="728640" cy="256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441920" y="1674720"/>
            <a:ext cx="509400" cy="300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441920" y="2276640"/>
            <a:ext cx="509400" cy="27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419960" y="2855880"/>
            <a:ext cx="542880" cy="256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60" y="4221000"/>
            <a:ext cx="8923320" cy="0"/>
          </a:xfrm>
          <a:prstGeom prst="line">
            <a:avLst/>
          </a:prstGeom>
          <a:ln w="57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800680"/>
            <a:ext cx="146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SON signal compatibility OSP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703320" y="5419440"/>
            <a:ext cx="695160" cy="4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10240" y="5419440"/>
            <a:ext cx="68400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04520" y="5748480"/>
            <a:ext cx="40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fo model &amp; encoding updated to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avelength availability 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68520" y="3110040"/>
            <a:ext cx="1469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General Constraint OSPF exten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88480" y="1068480"/>
            <a:ext cx="8039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ON Signal Compatibility OS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to reflect latest changes to RWA WSON encoding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RWA WSON rou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name from: “OSPF Extensions in Support of RWA in WSONs” to: “OSPF Extensions for General Network Element Constrai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dopt as Working Group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lean up text to describe “generality” and alignment with general constraints en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Greg M. Bernstein</cp:lastModifiedBy>
  <dcterms:modified xsi:type="dcterms:W3CDTF">2010-07-15T16:24:07Z</dcterms:modified>
  <cp:revision>8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  <property fmtid="{D5CDD505-2E9C-101B-9397-08002B2CF9AE}" pid="3" name="sflag">
    <vt:lpwstr>1268664228</vt:lpwstr>
  </property>
</Properties>
</file>