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F69B-52AC-4079-BF02-E3EB529A9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C7F7-FB42-450A-B749-B37F98FBF427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3B3E-CE93-4D54-B188-EA57B6AA73F0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FCD-AA31-409F-9042-BB013757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2A0-40F7-4B30-95CD-7D58DC7C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7CF2-1AA8-40CC-8334-EC4251D9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27C-51F6-44B9-AE5C-B7DD25A8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4D3-6152-462D-8B99-AC5E7375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D0F-1958-407E-8195-00CBDFA7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6AA-96D8-464F-A550-49093B31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4F3-55A4-48F9-9EDF-299CF005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1469-C702-419F-A39D-5075CE5E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56C-6CE2-44CF-A751-52889767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D41-C417-4D6E-A8FD-23EA66DD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650-60AE-46DA-9BE5-93834D6A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8th IETF Maastricht Nether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1D62-3AC5-4328-A814-F763BA498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aling Extensions for Wavelength Switched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5560" y="28195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Arial"/>
                <a:ea typeface="Arial"/>
              </a:rPr>
              <a:t>draft-bernstein-ccamp-wson-signaling-07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905120" y="4038480"/>
            <a:ext cx="556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eg Bernste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otto Networ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oung L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uawe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Sugang Xu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N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Hiroaki Harai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N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Giovanni Martinell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Cis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8th IETF Maastricht Nether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9629-885A-4E87-8E61-115A62F40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WSON Signaling Exten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vide extensions to Generalized Multi-Protocol Label Switching  (GMPLS) signaling for control of Wavelength Switched Optical Networks (WSON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anges from 06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ut back “Wavelength set metric”. This allows for a bit more information to be carried in signaling to assist in the can where distributed wavelength assignment is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8th IETF Maastricht Nether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9AA0-330A-443E-A2BB-7905C10D3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n Requirements and Feat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bi-directional distributed wavelength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control of intermediate (per node) optical processing, e.g., regene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enhanced distributed wavelength assignment methods via wavelength set metr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8th IETF Maastricht Nether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DC5A-08F5-410B-8F74-395384A18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opt as a WG docum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eep aligned with WSON framework, info and encoding draf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lign with method for intermediate node configuration signaling as this progres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8th IETF Maastricht Nether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9178-7B51-43AD-B23F-7AEDA7D2C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18:52:11Z</dcterms:created>
  <dc:creator>Greg Bernstein</dc:creator>
  <dc:description/>
  <dc:language>en-US</dc:language>
  <cp:lastModifiedBy>Greg Bernstein</cp:lastModifiedBy>
  <dcterms:modified xsi:type="dcterms:W3CDTF">2010-07-21T23:08:03Z</dcterms:modified>
  <cp:revision>6</cp:revision>
  <dc:subject/>
  <dc:title>Signaling Extensions for Wavelength Switched Networks</dc:title>
</cp:coreProperties>
</file>