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F118-B45A-4B45-BF71-858F2DC51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70A7-5F0A-434F-A8F8-3F35E8E1592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87B-2405-459A-844A-13CEA45AFA7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F75-8062-40A7-83D5-49123696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84D-0961-4F3D-90B8-DBBD202B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10C-BF3B-4BBC-A9CE-AA4777C5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C11-414B-4D4F-899E-CDE1CD3F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2ED-3069-4DBC-99CC-C13D35F6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09E-CA16-4127-93A3-A7C993DC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CB2-F945-4DE8-8A52-B45725D1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207-D135-4D48-AA4E-42B64DBD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117-4789-4E30-8D3E-B16E5F0C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E4B-59CD-4400-81DF-DA2D874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287-06A5-4CDC-B843-5B5ED376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F72-35BD-4B5C-B58E-A0D0DC2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D69E-C6FE-4FB7-A36F-C44F95245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aling Extensions for Wavelength Switched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" y="2819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  <a:ea typeface="Arial"/>
              </a:rPr>
              <a:t>draft-bernstein-ccamp-wson-signaling-07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05120" y="4038480"/>
            <a:ext cx="556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eg Bernste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tto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ng 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ugang X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Hiroaki Hara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Giovanni Martinell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E87-655F-404D-B60A-E17081138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WSON Signaling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extensions to Generalized Multi-Protocol Label Switching  (GMPLS) signaling for control of Wavelength Switched Optical Networks (WSO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from 06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ut back “Wavelength set metric”. This allows for a bit more information to be carried in signaling to assist in the can where distributed wavelength assignment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F8DE-D517-4586-BE8A-885114A27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 Requirements and 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bi-directional distributed wavelength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control of intermediate (per node) optical processing, e.g., regen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enhanced distributed wavelength assignment methods via wavelength set met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095E-8F97-445C-87FF-88DCE1ED6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opt as a WG docu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ep aligned with WSON framework, info and encoding draf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ign with method for intermediate node configuration signaling as this progre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0CAA-1EA2-4F65-BDCD-04B703737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8:52:11Z</dcterms:created>
  <dc:creator>Greg Bernstein</dc:creator>
  <dc:description/>
  <dc:language>en-US</dc:language>
  <cp:lastModifiedBy>Greg Bernstein</cp:lastModifiedBy>
  <dcterms:modified xsi:type="dcterms:W3CDTF">2010-07-21T23:08:03Z</dcterms:modified>
  <cp:revision>6</cp:revision>
  <dc:subject/>
  <dc:title>Signaling Extensions for Wavelength Switched Networks</dc:title>
</cp:coreProperties>
</file>