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Page - </a:t>
            </a:r>
            <a:fld id="{E89D4E04-53D8-4483-BA33-BCA556FFE4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Footer Placeholder 3"/>
          <p:cNvSpPr/>
          <p:nvPr/>
        </p:nvSpPr>
        <p:spPr>
          <a:xfrm>
            <a:off x="2514600" y="63244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 Framework for the Control and Measurement of Wavelength Switched Optical Networks (WSON) with Impair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60400" y="2666880"/>
            <a:ext cx="708660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Young L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ylee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uaw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reg Bernst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regb@grotto-networking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rotto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an 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anli@huawe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uaw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ovanni Martinel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omarti@cisco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676520" y="1976400"/>
            <a:ext cx="60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raft-ietf-ccamp-wson-impairments-03.t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2514600" y="63244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Ming Chen (Huawe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Gabriele Galimberti (Cisco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Rebecca Han (Huawe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Alberto Tanzi (Cis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514600" y="63244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 Framework for WSONs with Impair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is document discusses how the definition and characterization of optical fiber, devices, subsystems, and network elements contained in various ITU-T recommendations can be combined with GMPLS control plane protocols and mechanisms to support Impairment Aware Routing and Wavelength Assignment (IA-RWA) in optical network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2514600" y="63244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from 01 to 02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 and refine use of "black link" concept based on liaison with ITU-T and WG feed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from 02 to 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dditional information on use and considerations for regenerators in section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Links” and the Control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28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MPLS, information used for path computation is standardized for distribution amongst the elements participating in the control plane. For optical systems this may not be possi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due to only portions of an optical system being subject to standardization. These DWDM links are referred to as "black links" since their details are not generally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control plane point of view this restricts information flow and computation architecture cho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2514600" y="63244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d “Black Link Op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hority in control of the "black link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urnish a list of all viable paths between all viable node pairs to a computational ent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provide a PCE like entity that would furnish a list of viable paths/wavelengths between two requested no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rovide a PCE that performs full IA-RWA serv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ooter Placeholder 3"/>
          <p:cNvSpPr/>
          <p:nvPr/>
        </p:nvSpPr>
        <p:spPr>
          <a:xfrm>
            <a:off x="2514600" y="63244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990720" y="5486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Arial"/>
              </a:rPr>
              <a:t>Thanks to Peter Anslow for suggesting revisions to our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nerator Enha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2514600" y="63244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838080" y="1469880"/>
            <a:ext cx="777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 the latter case a lightpath can be seen as a set of transparent segments. The optical impairments calculation needs to be reset at each regeneration point so each transparent segment will have its own impairment evalu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+    +----+   +----+     +---+     +----+    +---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I |----| N1 |---| N2 |-----| R |-----| N3 |----| E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-+     +----+   +----+     +---+     +----+    +---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gment 1                      Segm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ghtpath as a set of transparen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example, Figure 1 represents a lightpath from node I to node E with a regeneration point R in between. The lightpath is from an impairment validation perspective if each segment (I, N1, N2, R) and (R, N3, E) is fea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2514600" y="63244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/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ine alternatives based on refined black link conce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ine approximation mod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art work on follow on drafts (if sufficient interest 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odel and Encoding for impair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specific 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Y. Lee;Greg Bernstein</dc:creator>
  <dc:description/>
  <dc:language>en-US</dc:language>
  <cp:lastModifiedBy>Giovanni Martinelli</cp:lastModifiedBy>
  <dcterms:modified xsi:type="dcterms:W3CDTF">2010-07-20T08:22:33Z</dcterms:modified>
  <cp:revision>172</cp:revision>
  <dc:subject/>
  <dc:title>WSON Impair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47511391</vt:lpwstr>
  </property>
</Properties>
</file>