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59D840CE-782A-4E0F-BE1D-04C84CCC1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Framework for the Control and Measurement of Wavelength Switched Optical Networks (WSON) with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60400" y="2666880"/>
            <a:ext cx="70866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anli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ovanni Martine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omarti@cisc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676520" y="1976400"/>
            <a:ext cx="60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wson-impairments-03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ing Chen (Huaw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abriele Galimberti (Cisco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ebecca Han (Huaw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lberto Tanzi (Cis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Framework for WSONs with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discusses how the definition and characterization of optical fiber, devices, subsystems, and network elements contained in various ITU-T recommendations can be combined with GMPLS control plane protocols and mechanisms to support Impairment Aware Routing and Wavelength Assignment (IA-RWA) in optical networ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from 01 to 0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 and refine use of "black link" concept based on liaison with ITU-T and WG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from 02 to 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dditional information on use and considerations for regenerators in section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Links” and the Control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MPLS, information used for path computation is standardized for distribution amongst the elements participating in the control plane. For optical systems this may not be pos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due to only portions of an optical system being subject to standardization. These DWDM links are referred to as "black links" since their details are not generally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control plane point of view this restricts information flow and computation architecture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“Black Link Op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y in control of the "black link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urnish a list of all viable paths between all viable node pairs to a computational ent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provide a PCE like entity that would furnish a list of viable paths/wavelengths between two requested no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ide a PCE that performs full IA-RWA serv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90720" y="5486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Thanks to Peter Anslow for suggesting revisions to our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erator Enh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38080" y="146988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 the latter case a lightpath can be seen as a set of transparent segments. The optical impairments calculation needs to be reset at each regeneration point so each transparent segment will have its own impairment evalu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+    +----+   +----+     +---+     +----+    +---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I |----| N1 |---| N2 |-----| R |-----| N3 |----| 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-+     +----+   +----+     +---+     +----+    +---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gment 1                      Segm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ghtpath as a set of transparen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example, Figure 1 represents a lightpath from node I to node E with a regeneration point R in between. The lightpath is from an impairment validation perspective if each segment (I, N1, N2, R) and (R, N3, E) is fea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/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alternatives based on refined black link con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approximation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rt work on follow on drafts (if sufficient interest 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odel and Encoding for impair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pecific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. Lee;Greg Bernstein</dc:creator>
  <dc:description/>
  <dc:language>en-US</dc:language>
  <cp:lastModifiedBy>Giovanni Martinelli</cp:lastModifiedBy>
  <dcterms:modified xsi:type="dcterms:W3CDTF">2010-07-20T08:22:33Z</dcterms:modified>
  <cp:revision>172</cp:revision>
  <dc:subject/>
  <dc:title>WSON Impair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11391</vt:lpwstr>
  </property>
</Properties>
</file>