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1A60-90DA-43E5-A18E-89504A59BD0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E064-9032-4869-B470-68674760C78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E56B-4129-4E78-8627-D66FD85E6D1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7A9-E5B1-465A-AE92-426599FDC0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41A-AF2F-4F98-9731-2F7985B624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FA8-2F68-4486-A67A-734934CC4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A4C-A0BB-414F-BEF0-74748164B1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192-4791-4D1C-9C72-B150A474C8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C35-E10D-4D5E-A4D0-260BE43F35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6E2-04FC-4242-84C4-2815C94C38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F95-A772-4E71-8C76-5B3EDED1FE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281-39F8-4D96-97B4-AB09CC0A24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EB8-12EE-43A7-BCF8-2E7F48B088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730-9A55-4D95-B41F-9E293E35CD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A50-85DA-4505-91EC-6909D1AF5D1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642600" y="6438960"/>
            <a:ext cx="2639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260EFAA0-CABA-4CD0-8B6E-66DFB4ACA8B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3882240" y="6438960"/>
            <a:ext cx="16466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  <a:ea typeface="MS PGothic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  <a:ea typeface="MS PGothic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DCCF-1733-40F7-A694-CAB8B050DE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0"/>
          <p:cNvSpPr/>
          <p:nvPr/>
        </p:nvSpPr>
        <p:spPr>
          <a:xfrm>
            <a:off x="642600" y="6207120"/>
            <a:ext cx="2639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3974040" y="6207120"/>
            <a:ext cx="16466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4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03C1-77D5-455A-B508-A29610257615}" type="datetime">
              <a: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971280" y="2852280"/>
            <a:ext cx="72723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CAMP WG, IETF 78th, Maastricht, Nether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agraz-ccamp-wson-impairment-ospf-00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rnando Agraz (agraz@tsc.upc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Yabin Ye (yabin.ye@huawei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PF Extensions in Support of Impairment Aware Routing and Wavelength Assignment in Wavelength Switched Optical Networ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pPr algn="ctr">
              <a:spcBef>
                <a:spcPts val="12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meter Types for the Node PLI TL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1042920" y="4943160"/>
            <a:ext cx="7201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this table can be updated based on ITU-T definition related to physical impairments. The TLV form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changed when the physical impairments definition upd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-9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0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1"/>
          <p:cNvSpPr/>
          <p:nvPr/>
        </p:nvSpPr>
        <p:spPr>
          <a:xfrm>
            <a:off x="0" y="2333520"/>
            <a:ext cx="158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258920" y="1628640"/>
          <a:ext cx="6121440" cy="2592360"/>
        </p:xfrm>
        <a:graphic>
          <a:graphicData uri="http://schemas.openxmlformats.org/drawingml/2006/table">
            <a:tbl>
              <a:tblPr/>
              <a:tblGrid>
                <a:gridCol w="1590480"/>
                <a:gridCol w="3017880"/>
                <a:gridCol w="1513080"/>
              </a:tblGrid>
              <a:tr h="65880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elength relat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 rowSpan="5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= Physical n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 = inner filte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 = inner filter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= Noise equivalent bandwidth 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 = 3-dB 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 = center wavelength for each chan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Rectangle 187"/>
          <p:cNvSpPr/>
          <p:nvPr/>
        </p:nvSpPr>
        <p:spPr>
          <a:xfrm>
            <a:off x="0" y="4078440"/>
            <a:ext cx="158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xample of component TL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1042920" y="979560"/>
            <a:ext cx="6697800" cy="547380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Impairment sub-TLV (=1, fiber compon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392120" y="1197000"/>
            <a:ext cx="604044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ID sub-sub-TLV (ID = x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380960" y="1449360"/>
            <a:ext cx="6040440" cy="82728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ir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744560" y="1701720"/>
            <a:ext cx="5280120" cy="2145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[(Type=21(fiber type), velue=1(SSMF)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1731960" y="1962000"/>
            <a:ext cx="5289480" cy="2145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 Type=22(fiber length), velue=10KM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1392120" y="2347920"/>
            <a:ext cx="604044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1716120" y="2563920"/>
            <a:ext cx="5300640" cy="179280"/>
          </a:xfrm>
          <a:prstGeom prst="rect">
            <a:avLst/>
          </a:prstGeom>
          <a:solidFill>
            <a:srgbClr val="ffcc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 #1 (λ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1720800" y="2779560"/>
            <a:ext cx="5292720" cy="1875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 [Type=23(D), velue=1.7e-5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1719360" y="2997360"/>
            <a:ext cx="527976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 [Type=24(dD), velue=56.7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1407960" y="3355920"/>
            <a:ext cx="604836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1731960" y="3571920"/>
            <a:ext cx="5289480" cy="1569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 #2 (λ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1743120" y="3759120"/>
            <a:ext cx="528012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 [Type=23(D), velue=1.8e-5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1730520" y="4003560"/>
            <a:ext cx="5289480" cy="1875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 Type=24(dD), velue=57.7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1"/>
          <p:cNvSpPr/>
          <p:nvPr/>
        </p:nvSpPr>
        <p:spPr>
          <a:xfrm>
            <a:off x="1403280" y="4363920"/>
            <a:ext cx="6048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1720800" y="4579920"/>
            <a:ext cx="5322960" cy="144360"/>
          </a:xfrm>
          <a:prstGeom prst="rect">
            <a:avLst/>
          </a:prstGeom>
          <a:solidFill>
            <a:srgbClr val="ffcc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 #3 (λ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1743120" y="4795920"/>
            <a:ext cx="5280120" cy="18252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Type=23(D), velue=1.9e-5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1758960" y="5011560"/>
            <a:ext cx="5289480" cy="1857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 [Type=24(dD), velue=58.7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419120" y="5372280"/>
            <a:ext cx="604044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1743120" y="5443560"/>
            <a:ext cx="5319720" cy="157320"/>
          </a:xfrm>
          <a:prstGeom prst="rect">
            <a:avLst/>
          </a:prstGeom>
          <a:solidFill>
            <a:srgbClr val="ffcc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 #4 (λ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1752480" y="5645160"/>
            <a:ext cx="5280120" cy="18432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Type=23(D), velue=2.0e-5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8"/>
          <p:cNvSpPr/>
          <p:nvPr/>
        </p:nvSpPr>
        <p:spPr>
          <a:xfrm>
            <a:off x="1763640" y="5875200"/>
            <a:ext cx="528948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Type=24(dD), velue=59.7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88480" y="1557360"/>
            <a:ext cx="78598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fine it according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from the meeting or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upgrading when ITU-T defined the standard impairme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755640" y="98100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work is supported by DICONET (Dynamic Impairment Constraint Networking for Transparent Mesh Optical Networks) project under  FP7/2007-2013 - GA nr 21633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va Vijaya Saradhi    CREATE-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mail: saradhi.chava@create-ne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tonio Francescon   CREATE-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mail: antonio.francescon@create-ne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5219640" y="3645000"/>
            <a:ext cx="3673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06"/>
          <p:cNvSpPr/>
          <p:nvPr/>
        </p:nvSpPr>
        <p:spPr>
          <a:xfrm>
            <a:off x="826920" y="981000"/>
            <a:ext cx="7848720" cy="47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na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Impairment Constraint Network for Transparent Mesh Optical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(DE), Alcatel-Lucent (FR), ECI (IL), Huawei (DE), DTAG (DE), AIT (GR), Create-Net (IT), ENST (FR), IBBT (BE), RACTI (GR), UEssex (UK), UPC (ES) and JCP (F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velopment of a dynamic network planning tool residing in the core network nodes that incorporates real-time measurements of optical layer performance into IA-RWA algorithms and is integrated into a unified control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One of project objectives - Protocol extensions to enable an Impairment Aware-control plan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which is related to IETF CCAMP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971640" y="1197000"/>
            <a:ext cx="763272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result of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col extensions to enable an Impairment Aware-control plane” in DICONE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xtensions to the OSPF routing protocol in support of impairment aware RWA in W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SPF routing for IA-RW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New PLI TL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971640" y="1125360"/>
            <a:ext cx="7921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457200" indent="-4572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MPLS-based WSON networks, the following information need to be flooded through rou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 routing inf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escribed in [RFC 3630] and [RFC 4203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de ID, Link ID, Administrative Group, ISCD, Protection, TE metric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info: described in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wa-inf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, [rwa-encode] and [rwa-osp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witch Connectivity Matrix, Wavelength Converter Pool info, Wavelength Availability,  Port Wavelength Restriction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ff"/>
              </a:buClr>
              <a:buFont typeface="Arial"/>
              <a:buAutoNum type="arabicParenR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mpairment info: this draft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wo top-TLVs are defined to describe PLI (Physical Layer Impairments) inform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ink PLI TLV -Describes the physical layer impairments related to the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Node PLI TLV -Describes the physical layer impairments related to the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sition of Link PLI TL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1332000" y="1197000"/>
            <a:ext cx="410508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0" anchor="t">
            <a:noAutofit/>
          </a:bodyPr>
          <a:p>
            <a:pPr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LI  L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1562040" y="1623960"/>
            <a:ext cx="3643200" cy="3894120"/>
          </a:xfrm>
          <a:prstGeom prst="rect">
            <a:avLst/>
          </a:prstGeom>
          <a:solidFill>
            <a:srgbClr val="ccffff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TLV (Link PLI TLV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1569960" y="1365120"/>
            <a:ext cx="3627360" cy="187560"/>
          </a:xfrm>
          <a:prstGeom prst="rect">
            <a:avLst/>
          </a:prstGeom>
          <a:solidFill>
            <a:srgbClr val="cc99ff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LI LSA hea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1768320" y="1773360"/>
            <a:ext cx="3046680" cy="17460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ink ID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1768320" y="1989000"/>
            <a:ext cx="3046680" cy="1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cal interface IP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768320" y="2233440"/>
            <a:ext cx="3046680" cy="17172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mote interface IP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6"/>
          <p:cNvSpPr/>
          <p:nvPr/>
        </p:nvSpPr>
        <p:spPr>
          <a:xfrm>
            <a:off x="1758960" y="2449440"/>
            <a:ext cx="3048120" cy="270828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onent Impairment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2070000" y="2881440"/>
            <a:ext cx="2516400" cy="6919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 unrelated Impairment 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2062080" y="3660840"/>
            <a:ext cx="2516400" cy="9205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 related Impairment 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2330280" y="3857760"/>
            <a:ext cx="2014560" cy="177840"/>
          </a:xfrm>
          <a:prstGeom prst="rect">
            <a:avLst/>
          </a:prstGeom>
          <a:solidFill>
            <a:srgbClr val="ffcc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2330280" y="4081320"/>
            <a:ext cx="2014560" cy="17784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arameter sub-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4"/>
          <p:cNvSpPr/>
          <p:nvPr/>
        </p:nvSpPr>
        <p:spPr>
          <a:xfrm>
            <a:off x="1758960" y="5229360"/>
            <a:ext cx="3043080" cy="20160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component sub-TLV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6"/>
          <p:cNvSpPr/>
          <p:nvPr/>
        </p:nvSpPr>
        <p:spPr>
          <a:xfrm>
            <a:off x="2330280" y="4297320"/>
            <a:ext cx="2014560" cy="2001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Parameter sub-sub-sub-TLVs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3"/>
          <p:cNvSpPr/>
          <p:nvPr/>
        </p:nvSpPr>
        <p:spPr>
          <a:xfrm>
            <a:off x="2062080" y="4654440"/>
            <a:ext cx="2516400" cy="4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Wavelength related Impair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-sub-TLVs 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9"/>
          <p:cNvSpPr/>
          <p:nvPr/>
        </p:nvSpPr>
        <p:spPr>
          <a:xfrm>
            <a:off x="2327400" y="3065400"/>
            <a:ext cx="2012760" cy="17784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arameter sub-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0"/>
          <p:cNvSpPr/>
          <p:nvPr/>
        </p:nvSpPr>
        <p:spPr>
          <a:xfrm>
            <a:off x="2327400" y="3281400"/>
            <a:ext cx="2012760" cy="20160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Parameter sub-sub-sub-TLV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075040" y="2629080"/>
            <a:ext cx="2503440" cy="177480"/>
          </a:xfrm>
          <a:prstGeom prst="rect">
            <a:avLst/>
          </a:prstGeom>
          <a:solidFill>
            <a:srgbClr val="ffcc00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onent 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3"/>
          <p:cNvSpPr/>
          <p:nvPr/>
        </p:nvSpPr>
        <p:spPr>
          <a:xfrm>
            <a:off x="5508720" y="1773360"/>
            <a:ext cx="2952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onent: The elements that the link passes throug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0=Transmit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1= 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2= D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3=Atten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4=Rece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5=Amplif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sition of Node PLI TL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5651640" y="1916280"/>
            <a:ext cx="2952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176040" indent="-1760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onent 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8=Physical n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1403280" y="1197000"/>
            <a:ext cx="396072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just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LI L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1644480" y="1689120"/>
            <a:ext cx="3465720" cy="3827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TLV (Node PLI TLV, type=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1650960" y="1413000"/>
            <a:ext cx="3452760" cy="21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LI LSA hea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1882800" y="1844640"/>
            <a:ext cx="2897280" cy="18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 IP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1889280" y="2060640"/>
            <a:ext cx="289692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onent Impairment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0"/>
          <p:cNvSpPr/>
          <p:nvPr/>
        </p:nvSpPr>
        <p:spPr>
          <a:xfrm>
            <a:off x="1876320" y="5013360"/>
            <a:ext cx="2897280" cy="39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component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1"/>
          <p:cNvSpPr/>
          <p:nvPr/>
        </p:nvSpPr>
        <p:spPr>
          <a:xfrm>
            <a:off x="2141640" y="2489040"/>
            <a:ext cx="239400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unrelated Impairment 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2"/>
          <p:cNvSpPr/>
          <p:nvPr/>
        </p:nvSpPr>
        <p:spPr>
          <a:xfrm>
            <a:off x="2135160" y="3281400"/>
            <a:ext cx="2394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related Impairment 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3"/>
          <p:cNvSpPr/>
          <p:nvPr/>
        </p:nvSpPr>
        <p:spPr>
          <a:xfrm>
            <a:off x="2365200" y="3481560"/>
            <a:ext cx="1919520" cy="16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2365200" y="3695760"/>
            <a:ext cx="1919520" cy="189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arameter sub-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2365200" y="3940200"/>
            <a:ext cx="1919520" cy="220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Parameter sub-sub-sub-TLVs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0"/>
          <p:cNvSpPr/>
          <p:nvPr/>
        </p:nvSpPr>
        <p:spPr>
          <a:xfrm>
            <a:off x="2135160" y="4365720"/>
            <a:ext cx="2394000" cy="37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Wavelength_related Impair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-sub-TLVs 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1"/>
          <p:cNvSpPr/>
          <p:nvPr/>
        </p:nvSpPr>
        <p:spPr>
          <a:xfrm>
            <a:off x="2386080" y="2697120"/>
            <a:ext cx="1917720" cy="174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arameter sub-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3"/>
          <p:cNvSpPr/>
          <p:nvPr/>
        </p:nvSpPr>
        <p:spPr>
          <a:xfrm>
            <a:off x="2386080" y="2924280"/>
            <a:ext cx="1917720" cy="19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Parameter sub-sub-sub-TLVs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4"/>
          <p:cNvSpPr/>
          <p:nvPr/>
        </p:nvSpPr>
        <p:spPr>
          <a:xfrm>
            <a:off x="2117880" y="2244600"/>
            <a:ext cx="2381040" cy="14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onent 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sub-TLVs and sub-sub-TL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7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9302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902880" y="1125360"/>
            <a:ext cx="4116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impairments sub-TLV 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4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7201080" cy="715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45" descr=""/>
          <p:cNvPicPr/>
          <p:nvPr/>
        </p:nvPicPr>
        <p:blipFill>
          <a:blip r:embed="rId3"/>
          <a:stretch/>
        </p:blipFill>
        <p:spPr>
          <a:xfrm>
            <a:off x="1042920" y="4008600"/>
            <a:ext cx="7201080" cy="715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48"/>
          <p:cNvSpPr/>
          <p:nvPr/>
        </p:nvSpPr>
        <p:spPr>
          <a:xfrm>
            <a:off x="976680" y="4834080"/>
            <a:ext cx="46821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irment Parameter Sub-sub-sub-TL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49"/>
          <p:cNvSpPr/>
          <p:nvPr/>
        </p:nvSpPr>
        <p:spPr>
          <a:xfrm>
            <a:off x="904320" y="3716280"/>
            <a:ext cx="50904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length related Impairment Sub-sub-TL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50"/>
          <p:cNvSpPr/>
          <p:nvPr/>
        </p:nvSpPr>
        <p:spPr>
          <a:xfrm>
            <a:off x="975600" y="2565360"/>
            <a:ext cx="53161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length unrelated Impairment Sub-sub-TL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68" descr=""/>
          <p:cNvPicPr/>
          <p:nvPr/>
        </p:nvPicPr>
        <p:blipFill>
          <a:blip r:embed="rId4"/>
          <a:stretch/>
        </p:blipFill>
        <p:spPr>
          <a:xfrm>
            <a:off x="1042920" y="5205240"/>
            <a:ext cx="720108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meter Types for the Link PLI TL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042920" y="4943160"/>
            <a:ext cx="7201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this table can be updated based on ITU-T definition related to physical impairments. The TLV form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changed when the physical impairments definition upd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15"/>
          <p:cNvSpPr/>
          <p:nvPr/>
        </p:nvSpPr>
        <p:spPr>
          <a:xfrm>
            <a:off x="0" y="-9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619280" y="1052640"/>
          <a:ext cx="5759280" cy="3957480"/>
        </p:xfrm>
        <a:graphic>
          <a:graphicData uri="http://schemas.openxmlformats.org/drawingml/2006/table">
            <a:tbl>
              <a:tblPr/>
              <a:tblGrid>
                <a:gridCol w="1314360"/>
                <a:gridCol w="2933640"/>
                <a:gridCol w="1511280"/>
              </a:tblGrid>
              <a:tr h="23184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nen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length relate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rowSpan="4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= Transmit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= bit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=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= Center wavelength (for each chann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rowSpan="5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= Fibe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= DC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= fiber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= fiber 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= Dispersion parameter (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= Dispersion 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= Attenu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= Attenuation (Att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rowSpan="3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Recei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 = Respons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= Absolute threshold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rowSpan="3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Amplif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= Spontaneous emission factor (n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4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= Amplifier Gain (Gaind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1515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Dan</dc:creator>
  <dc:description/>
  <dc:language>en-US</dc:language>
  <cp:lastModifiedBy>Dan</cp:lastModifiedBy>
  <dcterms:modified xsi:type="dcterms:W3CDTF">2010-07-26T16:09:45Z</dcterms:modified>
  <cp:revision>4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8382442</vt:lpwstr>
  </property>
</Properties>
</file>