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FB340-C03C-4E14-9154-40F3B5697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26D7B-0B1C-413D-BEE1-01A5B9E5B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50E41-24EF-49C5-8CEF-0872ADBC2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F65A0-A5CF-4EE4-ACC8-0B4E52841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97765-D13C-4590-9E04-7BB4EA626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83E6-908F-4350-B8A8-26B7A9B4B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064EE-A5E9-4EB0-BE2D-7A2148D1F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31809-3B13-4617-BA5D-8B986F106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82CF9-43EA-4716-87B3-90BC4649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B4DE8-7C99-48A7-9CE4-EE2E06D08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5CA96-22DB-4B6B-B94A-9895BD6FE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D027-BEEA-4414-9BD9-8ABD110A5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79E4-E9E1-4D4A-8238-AB15F406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856B2-6EC2-455D-A4AA-A460EB252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14642-37EB-4B27-8166-9EF2028B5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5525A-A25B-46AC-B5E4-0819F4E3B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0A60D-2B53-49E6-A776-ECE4C2627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C7E7-A35F-422C-BA02-7FC5C0C7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FC53-25AA-465B-AA78-D4966B28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E6B3-AAB9-40CF-A829-D87776E4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C6F0-CB73-419B-9C89-A80AFCF7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C5AE-47AB-48E9-B3DB-AE1DCFD8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D46A-54DF-4491-9AE7-DA5A9AE3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6343-B749-48AE-9786-13C196EDD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5346-2A9C-40F2-B3E5-EF8A25C46157}"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62ED-0FDD-4354-88E7-D89DCDED56D9}"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1.ietf.org/mailman/listinfo/multimob"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7760"/>
            <a:ext cx="68421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 </a:t>
            </a:r>
            <a:br>
              <a:rPr sz="3900"/>
            </a:br>
            <a:br>
              <a:rPr sz="2000"/>
            </a:br>
            <a:r>
              <a:rPr b="1" lang="en-US" sz="2000" spc="-1" strike="noStrike">
                <a:solidFill>
                  <a:srgbClr val="330066"/>
                </a:solidFill>
                <a:latin typeface="Arial"/>
                <a:ea typeface="宋体"/>
              </a:rPr>
              <a:t> </a:t>
            </a:r>
            <a:r>
              <a:rPr b="1" lang="en-US" sz="2800" spc="-1" strike="noStrike">
                <a:solidFill>
                  <a:srgbClr val="330066"/>
                </a:solidFill>
                <a:latin typeface="Arial"/>
                <a:ea typeface="宋体"/>
              </a:rPr>
              <a:t>Stig Venaas</a:t>
            </a:r>
            <a:br>
              <a:rPr sz="2800"/>
            </a:br>
            <a:r>
              <a:rPr b="1" lang="en-US" sz="2800" spc="-1" strike="noStrike">
                <a:solidFill>
                  <a:srgbClr val="330066"/>
                </a:solidFill>
                <a:latin typeface="Arial"/>
                <a:ea typeface="宋体"/>
              </a:rPr>
              <a:t>Behcet Sarikaya</a:t>
            </a:r>
            <a:br>
              <a:rPr sz="2800"/>
            </a:br>
            <a:r>
              <a:rPr b="1" lang="en-CA" sz="2800" spc="-1" strike="noStrike">
                <a:solidFill>
                  <a:srgbClr val="330066"/>
                </a:solidFill>
                <a:latin typeface="Arial"/>
                <a:ea typeface="宋体"/>
              </a:rPr>
              <a:t>July  2010</a:t>
            </a:r>
            <a:endParaRPr b="1" lang="en-US" sz="2800" spc="-1" strike="noStrike">
              <a:solidFill>
                <a:srgbClr val="330066"/>
              </a:solidFill>
              <a:latin typeface="Arial"/>
            </a:endParaRPr>
          </a:p>
        </p:txBody>
      </p:sp>
      <p:sp>
        <p:nvSpPr>
          <p:cNvPr id="88" name="DtsShapeName" hidden="1"/>
          <p:cNvSpPr/>
          <p:nvPr/>
        </p:nvSpPr>
        <p:spPr>
          <a:xfrm>
            <a:off x="0" y="0"/>
            <a:ext cx="1440" cy="1440"/>
          </a:xfrm>
          <a:prstGeom prst="pie">
            <a:avLst/>
          </a:prstGeom>
          <a:solidFill>
            <a:srgbClr val="cccc00"/>
          </a:solidFill>
          <a:ln w="5724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16080" y="466560"/>
            <a:ext cx="6781680" cy="2133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宋体"/>
              </a:rPr>
              <a:t>Multimob WG</a:t>
            </a:r>
            <a:br>
              <a:rPr sz="4800"/>
            </a:br>
            <a:r>
              <a:rPr b="1" lang="en-US" sz="4800" spc="-1" strike="noStrike">
                <a:solidFill>
                  <a:srgbClr val="330066"/>
                </a:solidFill>
                <a:latin typeface="Arial"/>
                <a:ea typeface="宋体"/>
              </a:rPr>
              <a:t>IETF 78</a:t>
            </a:r>
            <a:endParaRPr b="0" lang="en-US" sz="4800" spc="-1" strike="noStrike">
              <a:solidFill>
                <a:srgbClr val="000000"/>
              </a:solidFill>
              <a:latin typeface="Arial"/>
            </a:endParaRPr>
          </a:p>
        </p:txBody>
      </p:sp>
      <p:sp>
        <p:nvSpPr>
          <p:cNvPr id="90" name="Rectangle 4"/>
          <p:cNvSpPr/>
          <p:nvPr/>
        </p:nvSpPr>
        <p:spPr>
          <a:xfrm>
            <a:off x="152280" y="6324480"/>
            <a:ext cx="647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ea typeface="宋体"/>
                <a:hlinkClick r:id="rId1"/>
              </a:rPr>
              <a:t>https://www1.ietf.org/mailman/listinfo/multimob</a:t>
            </a:r>
            <a:endParaRPr b="0" lang="en-US" sz="2000" spc="-1" strike="noStrike">
              <a:solidFill>
                <a:srgbClr val="000000"/>
              </a:solidFill>
              <a:latin typeface="Arial"/>
            </a:endParaRPr>
          </a:p>
        </p:txBody>
      </p:sp>
      <p:sp>
        <p:nvSpPr>
          <p:cNvPr id="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01D6-61F5-4831-8937-4C54B314556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Text Box 2"/>
          <p:cNvSpPr/>
          <p:nvPr/>
        </p:nvSpPr>
        <p:spPr>
          <a:xfrm>
            <a:off x="395280" y="257040"/>
            <a:ext cx="7130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ultimob WG</a:t>
            </a:r>
            <a:endParaRPr b="0" lang="en-US" sz="3200" spc="-1" strike="noStrike">
              <a:solidFill>
                <a:srgbClr val="000000"/>
              </a:solidFill>
              <a:latin typeface="Arial"/>
            </a:endParaRPr>
          </a:p>
        </p:txBody>
      </p:sp>
      <p:sp>
        <p:nvSpPr>
          <p:cNvPr id="93" name="Text Box 3"/>
          <p:cNvSpPr/>
          <p:nvPr/>
        </p:nvSpPr>
        <p:spPr>
          <a:xfrm>
            <a:off x="250920" y="1413000"/>
            <a:ext cx="856908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lcome to Multimob WG at IETF 78</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iling list subscribe at </a:t>
            </a:r>
            <a:r>
              <a:rPr b="0" lang="en-US" sz="2800" spc="-1" strike="noStrike" u="sng">
                <a:solidFill>
                  <a:srgbClr val="7e9ce8"/>
                </a:solidFill>
                <a:uFillTx/>
                <a:latin typeface="Arial"/>
                <a:ea typeface="宋体"/>
                <a:hlinkClick r:id="rId1"/>
              </a:rPr>
              <a:t>https://www1.ietf.org/mailman/listinfo/multimob</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tandardization of multicast support in Proxy Mobile IPv6</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nsions to group management protocols for mobilit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3428-8B36-4FF0-8B05-857FDD8AE69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AGENDA</a:t>
            </a:r>
            <a:endParaRPr b="1" lang="en-US" sz="3900" spc="-1" strike="noStrike">
              <a:solidFill>
                <a:srgbClr val="330066"/>
              </a:solidFill>
              <a:latin typeface="Arial"/>
            </a:endParaRPr>
          </a:p>
        </p:txBody>
      </p:sp>
      <p:sp>
        <p:nvSpPr>
          <p:cNvPr id="9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nistrativia – 1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e takers, Jabber Scrib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MLD/IGMP Tuning - 50 mins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in – 1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 15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on charter items – 20 min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cussion on Rechartering – 60 mi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rk on Future Work – 15 mi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blems for rechartering – 45 mins</a:t>
            </a:r>
            <a:endParaRPr b="0" lang="en-US" sz="2400" spc="-1" strike="noStrike">
              <a:solidFill>
                <a:srgbClr val="000000"/>
              </a:solidFill>
              <a:latin typeface="Arial"/>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78BB-3292-451C-B832-16347FE5784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685800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宋体"/>
              </a:rPr>
              <a:t>Note Well</a:t>
            </a:r>
            <a:endParaRPr b="1" lang="en-US" sz="3900" spc="-1" strike="noStrike">
              <a:solidFill>
                <a:srgbClr val="330066"/>
              </a:solidFill>
              <a:latin typeface="Arial"/>
            </a:endParaRPr>
          </a:p>
        </p:txBody>
      </p:sp>
      <p:sp>
        <p:nvSpPr>
          <p:cNvPr id="99"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1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2094-EA5E-4240-9191-7AB665A8D9B1}"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052080" y="2487600"/>
            <a:ext cx="3097440" cy="15238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FrutigerNext LT Medium"/>
              </a:rPr>
              <a:t>Thank you</a:t>
            </a:r>
            <a:endParaRPr b="0" lang="en-US" sz="4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10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8EDD-67B4-4827-8DA8-292CC972AEC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
  <dc:description/>
  <dc:language>en-US</dc:language>
  <cp:lastModifiedBy>SarikayaBehcet 73654</cp:lastModifiedBy>
  <dcterms:modified xsi:type="dcterms:W3CDTF">2010-07-27T09:01:38Z</dcterms:modified>
  <cp:revision>400</cp:revision>
  <dc:subject/>
  <dc:title>RADEXT WG IETF-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0221208</vt:lpwstr>
  </property>
</Properties>
</file>