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005-BB0F-4833-B3CE-5A2500D0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A0BF-C5BF-46DD-B037-82806DD9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E8ED-768B-4FDC-9665-4AC1FF3A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159A-7A2A-4017-9FCA-3FE60238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9CDD-261B-41D9-BDDC-67389BB2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22F2-8C15-4EAD-A08E-10EE4918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535D-0A8D-40CB-8F81-6E2DD2D1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73B-0DFE-47CC-BC1F-FA08D4B4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313-72D6-4204-A32E-136D0DB8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FCB-F17F-44B4-9D7B-92E2BE51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C1C4-5679-41D7-85A3-8986C44E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7652-9E27-4396-BC2B-E2972D65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7396-8914-448A-90C7-8F7F6A39C4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qinwu.weebly.com/uploads/3/9/9/4/3994264/proposal_for_tuning_igmpv3_mldv2_protocol_behavior_in_wireless_and_mobile_networks.txt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al for Tuning IGMPv3/MLDv2 Protocol Behavior in Wireless and Mobile network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3429000"/>
            <a:ext cx="77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raft-wu-multimob-igmp-mld-tuning-02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Qin W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ui L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392-1E08-4FD9-800D-E0B87E8CED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 Type Consid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ing unwanted multicast packets based on link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ulticast capability within a link may cause for a receiver to wake up for unwanted multicast pack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ing the multicast packets and delivering the packets to only for receivers that are listening for particular multicast pack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 link model and point to multipoint link model require filtering at the access node to support the dormant mode for the receiv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ing Response Delay according to link type and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link type is PTP which means the resource is dedicated for one receiver on each link, then the Maximum Response Delay can be chosen smal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expected number of Reporters is small and the link condition is good, the administrator may choose the smaller Maximum response De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F4B-ECF2-4A60-96F4-D67EA75699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Using Unicast Qu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llecting membership by Using General Query with Unicast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Using General Query to collect most of the membership repor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Using Unicast Query to collect the membership report again from each non respondent recei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witching Between Unicast Query and Multicast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witch between unicast and multicast Query based on the receiver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E336-DFC0-401C-8927-E56869A68E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ling List Discussion Summar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GMP/MLD proxy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ased on the aggregate state it sends messages upstre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end general queries downstream, independently of when the upstream sends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s Wireless link asymmetrical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ireless link for multicast is possible to be asymmetrical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ossible for hosts to send multicast data on a wireless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ossible to have one asymmetric link for wired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ost reduce Power consumption by removing host sup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the host does not need to spend any processing power to listen and determine whether there are duplicated report mess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sing specific queries instead of general qu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miss lots of solicited report which is early used to do membership state update and new group collection on the 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the router never received an unsolicited report from the host, then the router can only learn about that group if it sends a general qu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Remove this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xplicit tracking is mandatory to IGMPv3/MLDv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xplicit tracking is allowed, but not mand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8F7E-BDFF-493D-BD42-6B536CD4C0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 it as WG ite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more review and quick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DE12-DA52-41DE-919B-D11DF3D5EF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econd Presentation in the Multim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hanges since -01 (Presented in Anahei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emove Optimization Consideration for Report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emove the optimization method for Limiting the scope of periodical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ighlight the explicit tracking 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dd Link model analysis for wireless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mparison between wired multicast and wireless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dd Report Suppression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dd Query Suppress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5AF-FE13-47A8-915E-6250495D9C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between IGMPv2/MLDv1 and IGMPv3/MLDv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056360" cy="442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AE39-4626-40AC-B17A-686040BE2B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son between wired multicast and wireless multicas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689440" cy="48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4A5-BF0C-49A3-BAD9-6220FC3B83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eless Link Models Analy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5133960" cy="561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4D6E-2B1A-4DA0-B653-D012B8BA28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uter behavior for tuning optimiz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xplicit Tracking of 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uppression Consi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port Suppression for the ho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Query Suppression for the rout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Using Unicast Qu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llecting membership by Using General Query with Unicast 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witching Between Unicast Query and Multicast 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nk Type Consi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iltering unwanted multicast packets based on link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uning Response Delay according to link type and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inimizing General Periodical Query Frequency by increasing interval ea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ultiple Retransmission of Queries on packet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B62B-47EB-412A-B727-93B138C2CE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Tracking of h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o explicit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uter may use local replication to inspect incoming join and  leave reques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uter records or refreshes the membership state for each host on the interfa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router take appropriate action to each received repo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uter builds a table to track which channel being forwarded to each 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optimize explicit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Group specific Query or Source-and-Group Specific Queries when explicit tracking is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membership state periodically by using periodical IGMP/MLD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on of processing state changing report and current state re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E26C-166E-41FC-8B82-B082EDE294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ression Consideration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eport Suppression for the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he router can terminate IGMP/MLD reports coming from hosts, and forwards a summarized version to the router/Queri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nsolicited membership reports (channel change requests) are forwarded only the first subscriber joins a multicast group, or the last subscriber leaves a multicast group. This tells the upstream router to begin or stop sending this channel to this rou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olicited membership reports (sent in response to an query) are forwarded once per multicast group. The router may also aggregate multiple responses together into a single membership r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24000" y="4005360"/>
            <a:ext cx="4392720" cy="28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D6B2-6D4A-4E6B-96E0-2300755933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ression Consideration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 Suppression for the ro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ownstream router stop forwarding IGMP/MLD Queries packets sent to the hosts and respond with report as proxy to the upstream rou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ver send a specific query to any cl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general queries only to those clients receiving at least one multicast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79640" y="3500280"/>
            <a:ext cx="4897440" cy="26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C76-A22E-46C1-94A2-89D8E91E9D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2:50:21Z</dcterms:created>
  <dc:creator/>
  <dc:description/>
  <dc:language>en-US</dc:language>
  <cp:lastModifiedBy>Lenovo User</cp:lastModifiedBy>
  <dcterms:modified xsi:type="dcterms:W3CDTF">2010-07-22T02:00:36Z</dcterms:modified>
  <cp:revision>16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79761480</vt:lpwstr>
  </property>
</Properties>
</file>