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382C-FE79-4874-B1BA-236659037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0C30-6FAD-4B95-8F26-0E10CDDC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8009-E93E-4D0E-B3BC-6E48F28B8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F238-D93C-40A3-B234-3729F5A44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146C-1D34-446A-BE1A-AA0077E4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B151-0B05-4CF3-9968-7098E892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BFEA-AFB8-46D7-AA08-6AD2973C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A2C8-037E-4A86-803D-50D7AFB3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3B07-1A86-451E-BEA5-ABB69068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5045-67C9-4BBF-B960-443F28F1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C438-666B-477C-94F9-05216DBE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F24A-301A-4D1B-95F9-699F858A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D1CE-158A-4A75-ADBE-032B4340A7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qinwu.weebly.com/uploads/3/9/9/4/3994264/proposal_for_tuning_igmpv3_mldv2_protocol_behavior_in_wireless_and_mobile_networks.txt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sal for Tuning IGMPv3/MLDv2 Protocol Behavior in Wireless and Mobile network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9640" y="3429000"/>
            <a:ext cx="7704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raft-wu-multimob-igmp-mld-tuning-02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Qin W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ui L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78 Multimob Masstri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852E-0B97-4FBB-A101-80B3F81DE87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k Type Consid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tering unwanted multicast packets based on link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ulticast capability within a link may cause for a receiver to wake up for unwanted multicast pack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ing the multicast packets and delivering the packets to only for receivers that are listening for particular multicast pack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cast link model and point to multipoint link model require filtering at the access node to support the dormant mode for the receiv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ning Response Delay according to link type and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link type is PTP which means the resource is dedicated for one receiver on each link, then the Maximum Response Delay can be chosen smal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expected number of Reporters is small and the link condition is good, the administrator may choose the smaller Maximum response Del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78 Multimob Masstri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F5D1-6B51-45C0-B950-2EC997B7D3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Using Unicast Qu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ollecting membership by Using General Query with Unicast 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Using General Query to collect most of the membership report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Using Unicast Query to collect the membership report again from each non respondent recei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witching Between Unicast Query and Multicast 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witch between unicast and multicast Query based on the receiver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78 Multimob Masstri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D3BF-23F3-4411-A0D7-E4F024D164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ling List Discussion Summar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GMP/MLD proxy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based on the aggregate state it sends messages upstre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send general queries downstream, independently of when the upstream sends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s Wireless link asymmetrical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ireless link for multicast is possible to be asymmetrical 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ossible for hosts to send multicast data on a wireless 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ossible to have one asymmetric link for wired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ost reduce Power consumption by removing host sup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the host does not need to spend any processing power to listen and determine whether there are duplicated report mess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Using specific queries instead of general qu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miss lots of solicited report which is early used to do membership state update and new group collection on the ro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the router never received an unsolicited report from the host, then the router can only learn about that group if it sends a general qu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Remove this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xplicit tracking is mandatory to IGMPv3/MLDv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Explicit tracking is allowed, but not mand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78 Multimob Masstri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2767-157E-4F8C-92A7-0B6DD0E548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ing For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 it as WG ite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cit more review and quick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78 Multimob Masstri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DA09-3C7A-4800-96DF-DD859616D3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econd Presentation in the Multim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hanges since -01 (Presented in Anahei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Remove Optimization Consideration for Report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Remove the optimization method for Limiting the scope of periodical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ighlight the explicit tracking fe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dd Link model analysis for wireless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omparison between wired multicast and wireless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dd Report Suppression Su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dd Query Suppression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78 Multimob Masstri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7804-9C59-4423-8A86-F1655AF94D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between IGMPv2/MLDv1 and IGMPv3/MLDv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056360" cy="442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78 Multimob Masstri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FE7D-1CE0-4F8D-A64B-C002DE2013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ison between wired multicast and wireless multicas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5689440" cy="484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78 Multimob Masstri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EB03-9A80-4911-9B7B-BDA9453A7C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reless Link Models Analys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050920" y="1125360"/>
            <a:ext cx="5133960" cy="561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78 Multimob Masstrich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070B-328F-41A0-886E-1C8EEFFC3B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uter behavior for tuning optimiz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xplicit Tracking of h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uppression Consi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port Suppression for the hos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Query Suppression for the rout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Using Unicast Que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ollecting membership by Using General Query with Unicast Qu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witching Between Unicast Query and Multicast Qu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ink Type Consi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iltering unwanted multicast packets based on link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uning Response Delay according to link type and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inimizing General Periodical Query Frequency by increasing interval each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ultiple Retransmission of Queries on packet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78 Multimob Masstri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4546-49C6-4580-9A2D-D3BD075004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icit Tracking of ho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do explicit tr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outer may use local replication to inspect incoming join and  leave reques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outer records or refreshes the membership state for each host on the interfac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 router take appropriate action to each received repor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outer builds a table to track which channel being forwarded to each 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optimize explicit tr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ble Group specific Query or Source-and-Group Specific Queries when explicit tracking is 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membership state periodically by using periodical IGMP/MLD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ion of processing state changing report and current state re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78 Multimob Masstri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C6A6-4EC4-46C2-A3B9-29D73947FC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ression Consideration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Report Suppression for the h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he router can terminate IGMP/MLD reports coming from hosts, and forwards a summarized version to the router/Queri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Unsolicited membership reports (channel change requests) are forwarded only the first subscriber joins a multicast group, or the last subscriber leaves a multicast group. This tells the upstream router to begin or stop sending this channel to this rou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olicited membership reports (sent in response to an query) are forwarded once per multicast group. The router may also aggregate multiple responses together into a single membership re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124000" y="4005360"/>
            <a:ext cx="4392720" cy="285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78 Multimob Masstri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502D-5659-4DD8-88D2-C811AB8B28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ression Consideration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y Suppression for the ro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ownstream router stop forwarding IGMP/MLD Queries packets sent to the hosts and respond with report as proxy to the upstream rou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ver send a specific query to any cli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 general queries only to those clients receiving at least one multicast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79640" y="3500280"/>
            <a:ext cx="4897440" cy="266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78 Multimob Masstri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24BE-3EB2-4B00-8E53-8F55CEC1DE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3T02:50:21Z</dcterms:created>
  <dc:creator/>
  <dc:description/>
  <dc:language>en-US</dc:language>
  <cp:lastModifiedBy>Lenovo User</cp:lastModifiedBy>
  <dcterms:modified xsi:type="dcterms:W3CDTF">2010-07-22T02:00:36Z</dcterms:modified>
  <cp:revision>16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79761480</vt:lpwstr>
  </property>
</Properties>
</file>