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541080" y="936720"/>
            <a:ext cx="5841720" cy="40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move the slide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4355640" y="595440"/>
            <a:ext cx="2025720" cy="1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435564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356000" y="682560"/>
            <a:ext cx="20257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5FBC17-42A2-4A5C-A2A5-6A7AD67BBD9E}" type="slidenum"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pic>
        <p:nvPicPr>
          <p:cNvPr id="87" name="Picture 17" descr="T_Kurzform_1K"/>
          <p:cNvPicPr/>
          <p:nvPr/>
        </p:nvPicPr>
        <p:blipFill>
          <a:blip r:embed="rId2"/>
          <a:srcRect l="2555" t="23422" r="2729" b="23422"/>
          <a:stretch/>
        </p:blipFill>
        <p:spPr>
          <a:xfrm>
            <a:off x="590400" y="498600"/>
            <a:ext cx="16448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5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781200" y="1011240"/>
            <a:ext cx="5256000" cy="3943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44320" y="5133600"/>
            <a:ext cx="5717880" cy="4024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[HA] Dirk is the first author. I changed the order.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[HA] I changed.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42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5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9080" y="77616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07920" y="4740120"/>
            <a:ext cx="4996080" cy="44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[HA] I changed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18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[HA] I changed.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21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24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27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30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33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36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39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AE2-C6FF-4EAF-8198-08DEB446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636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D16-89C6-4558-961A-CFED023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5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7B6-42FB-4E9C-AC9E-1E39649C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636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2F2-DFA9-4CE8-87DD-B95BAFEB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5360"/>
            <a:ext cx="853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2C4-CB38-4925-A6FF-BD13EE21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636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140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636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140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8CD-3292-4AED-BA61-EC60D46C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714-E2F0-4C99-892B-26F760ED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F61-5CD8-4F52-AE82-9B066455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5360"/>
            <a:ext cx="853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4E0-AE82-4855-BEA2-CDBC0966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498-09C3-45BB-84D2-32A5811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5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8A2-BD07-45AB-A971-533E05F6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368-E57D-4191-BDEB-76CA11C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268760" y="6602040"/>
            <a:ext cx="80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938-F8CB-4A4F-979D-329BECF8A035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03720" y="6602040"/>
            <a:ext cx="359856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MOB-future work-78-final.pptMULTIMOB-future work-78.p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300880" y="6602040"/>
            <a:ext cx="5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914-34F3-4F21-B262-EAB267D15F4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52560" indent="-24300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3" marL="1316160" indent="-2224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4" marL="1670040" indent="-2332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5" marL="1670040" indent="-233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6" marL="1670040" indent="-233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edit the title text format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pic>
        <p:nvPicPr>
          <p:cNvPr id="5" name="Picture 7" descr="T_Label_4C_PPT"/>
          <p:cNvPicPr/>
          <p:nvPr/>
        </p:nvPicPr>
        <p:blipFill>
          <a:blip r:embed="rId2"/>
          <a:srcRect l="0" t="76462" r="0" b="0"/>
          <a:stretch/>
        </p:blipFill>
        <p:spPr>
          <a:xfrm>
            <a:off x="297000" y="5951520"/>
            <a:ext cx="85327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T_Label_4C_l_L_Slogan_e_big"/>
          <p:cNvPicPr/>
          <p:nvPr/>
        </p:nvPicPr>
        <p:blipFill>
          <a:blip r:embed="rId2"/>
          <a:stretch/>
        </p:blipFill>
        <p:spPr>
          <a:xfrm>
            <a:off x="304920" y="3960720"/>
            <a:ext cx="8535960" cy="2587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52560" indent="-24300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3" marL="1316160" indent="-2224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4" marL="1670040" indent="-2332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5" marL="1670040" indent="-233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6" marL="1670040" indent="-233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edit the title text format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960360"/>
            <a:ext cx="8532720" cy="1343160"/>
          </a:xfrm>
          <a:prstGeom prst="rect">
            <a:avLst/>
          </a:prstGeom>
          <a:noFill/>
          <a:ln w="0">
            <a:noFill/>
          </a:ln>
        </p:spPr>
        <p:txBody>
          <a:bodyPr lIns="216000" rIns="0" tIns="12600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MultiMob WG. </a:t>
            </a:r>
            <a:br>
              <a:rPr sz="2800"/>
            </a:b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Potential future work </a:t>
            </a:r>
            <a:br>
              <a:rPr sz="2800"/>
            </a:b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(draft-von-hugo-multimob-future-work-02)</a:t>
            </a:r>
            <a:br>
              <a:rPr sz="2800"/>
            </a:b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320" y="5303520"/>
            <a:ext cx="8272440" cy="1158840"/>
          </a:xfrm>
          <a:prstGeom prst="rect">
            <a:avLst/>
          </a:prstGeom>
          <a:noFill/>
          <a:ln w="0">
            <a:noFill/>
          </a:ln>
        </p:spPr>
        <p:txBody>
          <a:bodyPr lIns="234000" rIns="0" tIns="0" bIns="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ele-GroteskNor"/>
              </a:rPr>
              <a:t>IETF 78, Maastricht / 2010-07-27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ele-GroteskNor"/>
              </a:rPr>
              <a:t>Dirk von Hugo (Deutsche Telekom), Hitoshi Asaeda (Keio University), Hui Deng (China Mobile), Pierrick Seïté (France Telecom – Orange),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8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9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E77-1A24-4DAC-A3E5-147BF77EF7A3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Possible future work in MultiMob WG</a:t>
            </a:r>
            <a:br>
              <a:rPr sz="2800"/>
            </a:br>
            <a:r>
              <a:rPr b="0" lang="fr-FR" sz="2800" spc="-1" strike="noStrike">
                <a:solidFill>
                  <a:srgbClr val="666666"/>
                </a:solidFill>
                <a:latin typeface="Tele-GroteskNor"/>
              </a:rPr>
              <a:t>Available drafts (AFAWK)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116000"/>
            <a:ext cx="853272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12400" indent="-21240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Enhancement of multimob base solution in terms of: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PMIPv6 base solution modification (draft-zuniga-multimob-smspmip</a:t>
            </a: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PMIPv6 protocol modification (draft-asaeda-multimob-pmip6-extension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IGMP/MLD protocol modification (draft-asaeda-multimob-igmp-mld-mobility-extensions, draft-liu-multimob-reliable-igmp-mld 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marL="212400" indent="-21240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Application of (existing) advanced protocol features (e.g. from MEXT, MIPSHOP, ...):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Impact of mobility related connectivity changes (draft-schmidt-multimob-fmipv6-pfmipv6-multicast, draft-contreras-multimob-rams, draft-hui-multimob-fast-handover-02) 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marL="212400" indent="-21240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Further deployment specific issues: 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dynamic and/or automatic tunnel configuration (draft-ietf-mboned-auto-multicast-10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direct or local routing approach (AKA local break-out) (draft-sijeon-multimob-mms-pmip6, draft-asaeda-multimob-pmip6-extension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marL="212400" indent="-21240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Long-term future extensions (?): 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source mobility (draft-zhang-multimob-msm</a:t>
            </a: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support of multiple flows on multi-homed mobile nodes (no drafts yet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mobile multicast for multi-hop transmission (no drafts yet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960720"/>
            <a:ext cx="8532720" cy="1828800"/>
          </a:xfrm>
          <a:prstGeom prst="rect">
            <a:avLst/>
          </a:prstGeom>
          <a:noFill/>
          <a:ln w="0">
            <a:noFill/>
          </a:ln>
        </p:spPr>
        <p:txBody>
          <a:bodyPr lIns="216000" rIns="0" tIns="12600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0074"/>
                </a:solidFill>
                <a:latin typeface="Tele-GroteskNor"/>
              </a:rPr>
              <a:t>Thank you!</a:t>
            </a:r>
            <a:br>
              <a:rPr sz="3200"/>
            </a:br>
            <a:r>
              <a:rPr b="0" lang="en-US" sz="3200" spc="-1" strike="noStrike">
                <a:solidFill>
                  <a:srgbClr val="e20074"/>
                </a:solidFill>
                <a:latin typeface="Tele-GroteskNor"/>
              </a:rPr>
              <a:t>Questions please …</a:t>
            </a:r>
            <a:endParaRPr b="0" lang="en-US" sz="3200" spc="-1" strike="noStrike">
              <a:solidFill>
                <a:srgbClr val="e20074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1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2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A672-16FB-47B0-8304-46CBB3515467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Overview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012680"/>
            <a:ext cx="709776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ultiMob base solution proposal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obile multicast for PMIPv6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5256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draft-ietf-multimob-pmipv6-base-solu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GMP/MLD tuning for mobility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5256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WG draft will be decided so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Without modification of both standard protocol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No specific mobility actions nor implementations are required at mobile nodes and router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No consideration of additional extensions to enhance performance such a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mooth (or fast) handover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onservation of network resources and routing/tunnel convergen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Performance optimiz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Local routin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ource mobility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6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7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6199-60A1-4D57-BE6A-191D58BCA1C2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Possible future work in MultiMob WG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16000"/>
            <a:ext cx="853272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1400" indent="-2214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nhancement of multimob base solution in terms of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PMIPv6 base solution modific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PMIPv6 protocol modific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GMP/MLD protocol modific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1400" indent="-2214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pplication of (existing) advanced protocol features (e.g. from MEXT, MIPSHOP, ...)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mpact of mobility related connectivity changes (handover) to be minimized by adaptation of unicast traffic handling for multicast group management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1400" indent="-2214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urther deployment specific issues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dynamic and/or automatic tunnel configur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direct or local routing approach (AKA local break-out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1400" indent="-2214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Long-term future extensions (?)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ource mobility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upport of multiple flows on multi-homed mobile node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obile multicast for multi-hop transmiss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1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2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0F9C-96A9-4ACE-9E53-F375700D2EDA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Enhancement of base multimob solution</a:t>
            </a: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882680" y="513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108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109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23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125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126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7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9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0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1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2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3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4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5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6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7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8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9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40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7400880" y="3349800"/>
            <a:ext cx="1060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4" name="Text Box 55"/>
          <p:cNvSpPr/>
          <p:nvPr/>
        </p:nvSpPr>
        <p:spPr>
          <a:xfrm>
            <a:off x="3738600" y="33955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27bab"/>
                </a:solidFill>
                <a:latin typeface="Tele-GroteskFet"/>
              </a:rPr>
              <a:t>M-Tunn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4327560" y="573408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6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7" name="Line 59"/>
          <p:cNvSpPr/>
          <p:nvPr/>
        </p:nvSpPr>
        <p:spPr>
          <a:xfrm flipH="1">
            <a:off x="5137200" y="4597560"/>
            <a:ext cx="127152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8" name="Freeform 65"/>
          <p:cNvSpPr/>
          <p:nvPr/>
        </p:nvSpPr>
        <p:spPr>
          <a:xfrm>
            <a:off x="5197320" y="3625920"/>
            <a:ext cx="2249640" cy="1550880"/>
          </a:xfrm>
          <a:prstGeom prst="pie">
            <a:avLst/>
          </a:prstGeom>
          <a:noFill/>
          <a:ln w="12600">
            <a:solidFill>
              <a:srgbClr val="e200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9" name="Freeform 59"/>
          <p:cNvSpPr/>
          <p:nvPr/>
        </p:nvSpPr>
        <p:spPr>
          <a:xfrm>
            <a:off x="4694400" y="2009880"/>
            <a:ext cx="3886200" cy="3105000"/>
          </a:xfrm>
          <a:prstGeom prst="pie">
            <a:avLst/>
          </a:prstGeom>
          <a:noFill/>
          <a:ln w="12600">
            <a:solidFill>
              <a:srgbClr val="7f7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0" name="Line 54"/>
          <p:cNvSpPr/>
          <p:nvPr/>
        </p:nvSpPr>
        <p:spPr>
          <a:xfrm flipH="1">
            <a:off x="6540120" y="3206880"/>
            <a:ext cx="343080" cy="907920"/>
          </a:xfrm>
          <a:prstGeom prst="line">
            <a:avLst/>
          </a:prstGeom>
          <a:ln w="28440">
            <a:solidFill>
              <a:srgbClr val="a01437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5335560" y="3379680"/>
            <a:ext cx="161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01437"/>
                </a:solidFill>
                <a:latin typeface="Tele-GroteskFet"/>
              </a:rPr>
              <a:t>Hold/release or ack ms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04920" y="1116000"/>
            <a:ext cx="36478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odification of PMIP6 operation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choose e.g. LMA1 to care especially for MultiCast only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xtension of PMIPv6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Introduce specific MC tunnel (LMA-MAG or MR-MAG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Smooth handover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xtension of IGMP/MLD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Add router control or acknowledgement message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3723840" y="2543040"/>
            <a:ext cx="14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a6"/>
                </a:solidFill>
                <a:latin typeface="Tele-GroteskFet"/>
              </a:rPr>
              <a:t>DM-LMA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5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6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357A-B371-4BE1-AD3D-875F4C9F4F72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7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Adopt advance mobility features</a:t>
            </a: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ast Handover for multicast traffic management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ulticast Context Transfer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new messages to trigger transfer of new multicast information option.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new mobility messages and options for extended HI and HAck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-MA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882680" y="513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N-MA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164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3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4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78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79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180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181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2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4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5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6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7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8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9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0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1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2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3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4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7400880" y="3349800"/>
            <a:ext cx="1060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8" name="Line 54"/>
          <p:cNvSpPr/>
          <p:nvPr/>
        </p:nvSpPr>
        <p:spPr>
          <a:xfrm flipH="1">
            <a:off x="5500440" y="4349880"/>
            <a:ext cx="795240" cy="2196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5074200" y="4389480"/>
            <a:ext cx="16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27bab"/>
                </a:solidFill>
                <a:latin typeface="Tele-GroteskFet"/>
              </a:rPr>
              <a:t>Fwd Tunnel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0" name="Line 56"/>
          <p:cNvSpPr/>
          <p:nvPr/>
        </p:nvSpPr>
        <p:spPr>
          <a:xfrm>
            <a:off x="4327560" y="573408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1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2" name="Line 59"/>
          <p:cNvSpPr/>
          <p:nvPr/>
        </p:nvSpPr>
        <p:spPr>
          <a:xfrm flipH="1">
            <a:off x="5137200" y="4597560"/>
            <a:ext cx="127152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3" name="Line 54"/>
          <p:cNvSpPr/>
          <p:nvPr/>
        </p:nvSpPr>
        <p:spPr>
          <a:xfrm flipV="1">
            <a:off x="6504120" y="3173400"/>
            <a:ext cx="431640" cy="960480"/>
          </a:xfrm>
          <a:prstGeom prst="line">
            <a:avLst/>
          </a:prstGeom>
          <a:ln w="28440">
            <a:solidFill>
              <a:srgbClr val="a01437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5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6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A5F-140A-49CC-AA67-F00D592E4732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7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Further deployment-specific issues: Direct or local routing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utomatic dynamic tunnel set up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onnection of singular MC enabled routers (MBONED proposal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paration of mobility entity LMA and Multicast Router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882680" y="513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213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214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228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231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9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0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1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2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3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4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245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6" name="Rectangle 52"/>
          <p:cNvSpPr/>
          <p:nvPr/>
        </p:nvSpPr>
        <p:spPr>
          <a:xfrm>
            <a:off x="4882680" y="341460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7" name="Text Box 53"/>
          <p:cNvSpPr/>
          <p:nvPr/>
        </p:nvSpPr>
        <p:spPr>
          <a:xfrm>
            <a:off x="7400880" y="3349800"/>
            <a:ext cx="1060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8" name="Line 56"/>
          <p:cNvSpPr/>
          <p:nvPr/>
        </p:nvSpPr>
        <p:spPr>
          <a:xfrm>
            <a:off x="4327560" y="573408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9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0" name="Line 59"/>
          <p:cNvSpPr/>
          <p:nvPr/>
        </p:nvSpPr>
        <p:spPr>
          <a:xfrm flipH="1">
            <a:off x="5137200" y="4597560"/>
            <a:ext cx="127152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1" name="Freeform 65"/>
          <p:cNvSpPr/>
          <p:nvPr/>
        </p:nvSpPr>
        <p:spPr>
          <a:xfrm>
            <a:off x="5197320" y="3625920"/>
            <a:ext cx="2249640" cy="1550880"/>
          </a:xfrm>
          <a:prstGeom prst="pie">
            <a:avLst/>
          </a:prstGeom>
          <a:noFill/>
          <a:ln w="12600">
            <a:solidFill>
              <a:srgbClr val="e200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2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3" name="Line 54"/>
          <p:cNvSpPr/>
          <p:nvPr/>
        </p:nvSpPr>
        <p:spPr>
          <a:xfrm>
            <a:off x="5224320" y="3116160"/>
            <a:ext cx="2148120" cy="42552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5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6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4F32-DA8B-4934-9511-A6CB77C6B2C6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7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(Long-term) future extension: source mobility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ource mobility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ddress transparency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packet loss and multicast scopin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decoupling between sender and receiver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LMA as Rendezvous Point (RP) for multicast jo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882680" y="513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264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6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7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278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79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280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281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2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3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7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8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2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3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295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6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7" name="Text Box 53"/>
          <p:cNvSpPr/>
          <p:nvPr/>
        </p:nvSpPr>
        <p:spPr>
          <a:xfrm>
            <a:off x="3622680" y="4906800"/>
            <a:ext cx="1060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8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9" name="Line 56"/>
          <p:cNvSpPr/>
          <p:nvPr/>
        </p:nvSpPr>
        <p:spPr>
          <a:xfrm>
            <a:off x="4327560" y="573408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0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1" name="Line 59"/>
          <p:cNvSpPr/>
          <p:nvPr/>
        </p:nvSpPr>
        <p:spPr>
          <a:xfrm flipH="1">
            <a:off x="5137200" y="4597560"/>
            <a:ext cx="127152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2" name="Line 54"/>
          <p:cNvSpPr/>
          <p:nvPr/>
        </p:nvSpPr>
        <p:spPr>
          <a:xfrm>
            <a:off x="5033880" y="3287880"/>
            <a:ext cx="1506600" cy="826920"/>
          </a:xfrm>
          <a:prstGeom prst="line">
            <a:avLst/>
          </a:prstGeom>
          <a:ln w="28440">
            <a:solidFill>
              <a:srgbClr val="427bab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3" name="Line 54"/>
          <p:cNvSpPr/>
          <p:nvPr/>
        </p:nvSpPr>
        <p:spPr>
          <a:xfrm>
            <a:off x="4686480" y="529596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4" name="Rectangle 55"/>
          <p:cNvSpPr/>
          <p:nvPr/>
        </p:nvSpPr>
        <p:spPr>
          <a:xfrm>
            <a:off x="3904920" y="2841480"/>
            <a:ext cx="7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27bab"/>
                </a:solidFill>
                <a:latin typeface="Tele-GroteskFet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6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7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2010-4334-4ED5-991C-FFE7B72E2B66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8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(Long-term) future extension: support of multiple flows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upport of multiple flows on multi-homed mobile node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daptation of flow mobility support within WGs MEXT or NETEXT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314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6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7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8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9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0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1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2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3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4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5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6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7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328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330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331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2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3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4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5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6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7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8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9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1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2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3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4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345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7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8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9" name="Line 59"/>
          <p:cNvSpPr/>
          <p:nvPr/>
        </p:nvSpPr>
        <p:spPr>
          <a:xfrm flipH="1">
            <a:off x="5487840" y="4597560"/>
            <a:ext cx="92088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0" name="Line 54"/>
          <p:cNvSpPr/>
          <p:nvPr/>
        </p:nvSpPr>
        <p:spPr>
          <a:xfrm flipH="1">
            <a:off x="6540120" y="3198960"/>
            <a:ext cx="614520" cy="915840"/>
          </a:xfrm>
          <a:prstGeom prst="line">
            <a:avLst/>
          </a:prstGeom>
          <a:ln w="28440">
            <a:solidFill>
              <a:srgbClr val="427bab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1" name="Text Box 57"/>
          <p:cNvSpPr/>
          <p:nvPr/>
        </p:nvSpPr>
        <p:spPr>
          <a:xfrm>
            <a:off x="4885920" y="540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2" name="Rectangle 60"/>
          <p:cNvSpPr/>
          <p:nvPr/>
        </p:nvSpPr>
        <p:spPr>
          <a:xfrm>
            <a:off x="4896000" y="5138640"/>
            <a:ext cx="3474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3" name="Rectangle 61"/>
          <p:cNvSpPr/>
          <p:nvPr/>
        </p:nvSpPr>
        <p:spPr>
          <a:xfrm>
            <a:off x="5276880" y="5138640"/>
            <a:ext cx="34776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f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7400880" y="3346560"/>
            <a:ext cx="1181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5" name="Text Box 53"/>
          <p:cNvSpPr/>
          <p:nvPr/>
        </p:nvSpPr>
        <p:spPr>
          <a:xfrm>
            <a:off x="4832280" y="1155600"/>
            <a:ext cx="115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6716880" y="3602160"/>
            <a:ext cx="684000" cy="538200"/>
          </a:xfrm>
          <a:prstGeom prst="line">
            <a:avLst/>
          </a:prstGeom>
          <a:ln w="28440">
            <a:solidFill>
              <a:srgbClr val="427bab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8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9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0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ABC2-B7D7-4952-B1EC-C5EE39ABDF91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(Long-term) future extension: multi-hop scenario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obile multicast for multi-hop transmission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.g. wireless mesh and multiple NEMO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nalogue to Simplified Multicast Forwarding for MANET?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365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366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0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1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380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81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382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383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4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5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6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7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8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9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0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1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2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3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4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5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6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397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98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99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0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1" name="Line 59"/>
          <p:cNvSpPr/>
          <p:nvPr/>
        </p:nvSpPr>
        <p:spPr>
          <a:xfrm flipH="1">
            <a:off x="5487840" y="4597560"/>
            <a:ext cx="92088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2" name="Text Box 57"/>
          <p:cNvSpPr/>
          <p:nvPr/>
        </p:nvSpPr>
        <p:spPr>
          <a:xfrm>
            <a:off x="5792760" y="5796000"/>
            <a:ext cx="730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3" name="Text Box 53"/>
          <p:cNvSpPr/>
          <p:nvPr/>
        </p:nvSpPr>
        <p:spPr>
          <a:xfrm>
            <a:off x="4832280" y="1155600"/>
            <a:ext cx="115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043600" y="5138640"/>
            <a:ext cx="56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R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5" name="Rectangle 70"/>
          <p:cNvSpPr/>
          <p:nvPr/>
        </p:nvSpPr>
        <p:spPr>
          <a:xfrm>
            <a:off x="5351040" y="5027760"/>
            <a:ext cx="11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27bab"/>
                </a:solidFill>
                <a:latin typeface="Tele-GroteskFet"/>
              </a:rPr>
              <a:t>MAG3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6" name="Line 71"/>
          <p:cNvSpPr/>
          <p:nvPr/>
        </p:nvSpPr>
        <p:spPr>
          <a:xfrm>
            <a:off x="5487840" y="5545080"/>
            <a:ext cx="4953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16:00:33Z</dcterms:created>
  <dc:creator/>
  <dc:description/>
  <dc:language>en-US</dc:language>
  <cp:lastModifiedBy>SarikayaBehcet 73654</cp:lastModifiedBy>
  <cp:lastPrinted>2007-10-23T10:13:23Z</cp:lastPrinted>
  <dcterms:modified xsi:type="dcterms:W3CDTF">2010-07-26T14:25:54Z</dcterms:modified>
  <cp:revision>172</cp:revision>
  <dc:subject/>
  <dc:title>PowerPoint template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0151737</vt:lpwstr>
  </property>
</Properties>
</file>