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F7E7-1BA3-41AB-98CF-7A04CF74BD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B3DF-B942-457D-B311-739D994F8D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1E2D-1866-4266-AFAD-ACF76480A0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6CF3-BDBD-4250-B74E-580201D03DD4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Footer Placeholder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uthor: G. Arheilger, Juniper Networks, EMEA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pyright © 2001 Juniper Network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1613-1B61-4577-B841-6C06A6E74260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AE49-83BC-466F-ABE3-829E4AFC71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E94A-C0EE-4D76-B39A-3D2EFDF776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37D7-6500-4EE0-A0B8-042D45BE14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3727-BE1D-4AB5-BDF9-40FB8AE0907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F7E8-D1A4-4995-A8C9-16E9DE968C43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93B5-D19E-4049-9D90-397C5C93B92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C7E6-D6B6-4100-A7A7-2D8E2E66F1B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3103-FA9F-4D31-ADC9-02AD7EED95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6440-F73F-4F99-BF25-95E10123D21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6B87-F6FE-4736-B485-7EAA3FCBB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2A55-F72D-46F1-A279-9F134A07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AC8C-B5B7-4872-A1C6-D78E8642E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716E-FCBD-4DE6-AA67-9B8F76DEB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724B-C74F-472D-BEFE-0482D4B4A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3B29-1E71-44E8-AD32-D73B1736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3C6B-E59A-40BE-889D-88548EA9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5643-4C33-4C6A-AACB-C6B936E1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BFA0-01F5-4BBA-AC5C-B80E4CDB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BD8F-F087-4EA4-B0EB-0B15CAD4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8E1C-5CC8-411E-AD87-92D4D9C6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2438-01C7-41C6-964E-DEB431A7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D757-CC32-423A-BCF5-36D22331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BFAC-0183-4541-9E5A-73F46CF6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514F-CE74-4471-AB26-3ACDAD4A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E422-DF10-4280-8C53-C5A26BB8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CAEB-A1CD-4CEB-A5ED-EC0392EAF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90E1-9DB8-4A29-BC18-86B653F0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72BD-1B9B-4E38-BA30-865C4DCF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BC91-C336-413D-84B3-C2AFDCCF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7D08-57E3-4F51-9059-B57B904B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BA65-7DDD-467D-AB05-DF192576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9620-8E21-4D20-B890-E320B7AB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984E-BD94-4527-8B33-FD816085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D7DF-667F-40C6-B11A-5AF915B80D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29A9-5352-4391-94C7-4D9936500D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5261-E676-42D6-9B05-88AD205EFB81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217E-9E55-46CB-80C7-4340600A12E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 Descri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ai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6463-E9CD-4E9E-B383-BC6C8AD8E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tocol extension to accelerate the MAG’s knowledge of the MN’s multicast subscription after H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G entity in base solution relays on standard MLD procedures to get knowledge of MN multicast subscription after handov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ral delay sources contribute to increase the timing for multicast delivery at the new point of attachmen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lay due to the access to radio resources among competing M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lay due to radio frame structur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lay due to retransmissions caused by radio channel unreliability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lay due to MLD message processing at M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 proposal: to accelerate the MAG’s knowledge acquisition of the MN’s multicast subscription by means of new signaling messages internal to the network, decoupling subscription acquisition fro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nderlaying radio technology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GMP/MLD parametrisation tu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MIPv6 multicast architecture (current or evolve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ntended draft: draft-contreras-multimob-rams-0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51CF-8B78-4083-9786-7B92B9D9CD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6920" y="2599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2. PMIP Multicast Source Sup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 a solution that smoothly extends sender support from the base-solution to optimized direct rou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72DB-24AC-4AFD-B5B0-25B63B48ED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6080" y="306360"/>
            <a:ext cx="726912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华文新魏"/>
                <a:ea typeface="华文新魏"/>
              </a:rPr>
              <a:t>draft-zhang-multimob-msm-00.tx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397400" y="1238400"/>
            <a:ext cx="405144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Scenar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198360" y="4791240"/>
            <a:ext cx="886932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c479d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华文新魏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华文新魏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flag denotes that MN is a multicast sou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华文新魏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华文新魏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flag denotes which scheme is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J=1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SPT-based scheme;    J=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RPT-based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217440" y="1360440"/>
            <a:ext cx="413712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c479d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The PMIPv6 MN may be a multicast sou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LMA which is a fixed node for MN can act as 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SPT can also be refreshed in a network- based ma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128520" y="1219320"/>
            <a:ext cx="4179960" cy="355572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7"/>
          <p:cNvGraphicFramePr/>
          <p:nvPr/>
        </p:nvGraphicFramePr>
        <p:xfrm>
          <a:off x="4405320" y="1936800"/>
          <a:ext cx="4421160" cy="28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05320" y="1936800"/>
                    <a:ext cx="4421160" cy="28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Rectangle 11"/>
          <p:cNvSpPr/>
          <p:nvPr/>
        </p:nvSpPr>
        <p:spPr>
          <a:xfrm>
            <a:off x="4403880" y="1227240"/>
            <a:ext cx="4398840" cy="3555720"/>
          </a:xfrm>
          <a:prstGeom prst="rect">
            <a:avLst/>
          </a:prstGeom>
          <a:noFill/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122400" y="4856040"/>
            <a:ext cx="8678880" cy="16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e to discuss on the 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ility of having an online questionn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FC 2418 describes revising milestones and rechartering proced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F891-8498-487E-8DAD-54EA671650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slide per problem propo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the proposer talks about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xt WG comments are solici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irs only to judge the consen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91A1-0789-4855-AC93-4B6806BA75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tocol Exten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raft-asaeda-multimob-igmp-mld-mobility-extensions-04.tx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pproach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r smooth handover: Host-side protocol extens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GMP/MLD Notification ope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N explicitly notifies current-state report without solicitation (i.e. without waiting general query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GMP/MLD Hold and Release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N asks to keep MN’s membership state to its upstream router during its handover, and release after its handov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 interoperability problem exis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3AD7-270E-4A7A-BF80-7CD6CE767D9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09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宋体"/>
              </a:rPr>
              <a:t>How to Gain Reliability for IGMPv3/MLDv2 in Wireless and Mobile network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4360" y="1197000"/>
            <a:ext cx="7991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  <a:ea typeface="宋体"/>
              </a:rPr>
              <a:t>Problem in Wireless and Mobile Networ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74680">
              <a:lnSpc>
                <a:spcPct val="80000"/>
              </a:lnSpc>
              <a:spcBef>
                <a:spcPts val="349"/>
              </a:spcBef>
              <a:buClr>
                <a:srgbClr val="898989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宋体"/>
              </a:rPr>
              <a:t>IGMP/MLD is not a reliable protoco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74680">
              <a:lnSpc>
                <a:spcPct val="80000"/>
              </a:lnSpc>
              <a:spcBef>
                <a:spcPts val="349"/>
              </a:spcBef>
              <a:buClr>
                <a:srgbClr val="898989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宋体"/>
              </a:rPr>
              <a:t>IGMP/MLD can not gain reliability by sending several copies of IGMP messag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990720" indent="-88920">
              <a:lnSpc>
                <a:spcPct val="80000"/>
              </a:lnSpc>
              <a:spcBef>
                <a:spcPts val="300"/>
              </a:spcBef>
              <a:buClr>
                <a:srgbClr val="89898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Packet loss is very high when IP multicast works in a radio enviro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90720" indent="-88920">
              <a:lnSpc>
                <a:spcPct val="80000"/>
              </a:lnSpc>
              <a:spcBef>
                <a:spcPts val="300"/>
              </a:spcBef>
              <a:buClr>
                <a:srgbClr val="89898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Unsolicited Report is prone to loss due to network conditions degradation or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9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  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distance travel, which will have bad effects on user’s experi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90720" indent="-88920">
              <a:lnSpc>
                <a:spcPct val="80000"/>
              </a:lnSpc>
              <a:spcBef>
                <a:spcPts val="300"/>
              </a:spcBef>
              <a:buClr>
                <a:srgbClr val="89898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Even the report can be retransmitted for several times, the report reception by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9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  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router can not be guarante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90720" indent="-88920">
              <a:lnSpc>
                <a:spcPct val="80000"/>
              </a:lnSpc>
              <a:spcBef>
                <a:spcPts val="300"/>
              </a:spcBef>
              <a:buClr>
                <a:srgbClr val="89898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And excessive packet retransmission is a waste of resou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74680">
              <a:lnSpc>
                <a:spcPct val="80000"/>
              </a:lnSpc>
              <a:spcBef>
                <a:spcPts val="349"/>
              </a:spcBef>
              <a:buClr>
                <a:srgbClr val="898989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宋体"/>
              </a:rPr>
              <a:t>INTEL Wimax lab observes this issue as well in the lab tes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74680">
              <a:lnSpc>
                <a:spcPct val="80000"/>
              </a:lnSpc>
              <a:spcBef>
                <a:spcPts val="349"/>
              </a:spcBef>
              <a:buClr>
                <a:srgbClr val="898989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宋体"/>
              </a:rPr>
              <a:t>This problem is discussed by IPMSI at the following URL link: http://www.ipmulticast.com/content/view/20/2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  <a:ea typeface="宋体"/>
              </a:rPr>
              <a:t>Proposal in 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  <a:ea typeface="宋体"/>
              </a:rPr>
              <a:t>draft-liu-multimob-reliable-igmp-mld-00.txt</a:t>
            </a:r>
            <a:r>
              <a:rPr b="0" lang="en-US" sz="1600" spc="-1" strike="noStrike">
                <a:solidFill>
                  <a:srgbClr val="898989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74680">
              <a:lnSpc>
                <a:spcPct val="80000"/>
              </a:lnSpc>
              <a:spcBef>
                <a:spcPts val="349"/>
              </a:spcBef>
              <a:buClr>
                <a:srgbClr val="898989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宋体"/>
              </a:rPr>
              <a:t>Adopting acknowledgement-retransmission to improve the reliability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990720" indent="-88920">
              <a:lnSpc>
                <a:spcPct val="80000"/>
              </a:lnSpc>
              <a:spcBef>
                <a:spcPts val="300"/>
              </a:spcBef>
              <a:buClr>
                <a:srgbClr val="89898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A host after sending an unsolicited report starts a retransmission timer and waits for the acknowledgement (ACK) from the rou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90720" indent="-88920">
              <a:lnSpc>
                <a:spcPct val="80000"/>
              </a:lnSpc>
              <a:spcBef>
                <a:spcPts val="300"/>
              </a:spcBef>
              <a:buClr>
                <a:srgbClr val="89898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Upon receiving ACK or multicast data, the host stops the timer and retransmi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90720" indent="-88920">
              <a:lnSpc>
                <a:spcPct val="80000"/>
              </a:lnSpc>
              <a:spcBef>
                <a:spcPts val="300"/>
              </a:spcBef>
              <a:buClr>
                <a:srgbClr val="89898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If the ACK not received when the timer expires, another report is retransmit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74680">
              <a:lnSpc>
                <a:spcPct val="80000"/>
              </a:lnSpc>
              <a:spcBef>
                <a:spcPts val="349"/>
              </a:spcBef>
              <a:buClr>
                <a:srgbClr val="898989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宋体"/>
              </a:rPr>
              <a:t>Using new message and paramet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990720" indent="-88920">
              <a:lnSpc>
                <a:spcPct val="80000"/>
              </a:lnSpc>
              <a:spcBef>
                <a:spcPts val="300"/>
              </a:spcBef>
              <a:buClr>
                <a:srgbClr val="89898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ACK message is introduced,  either using new message type or reusing report type message with flag s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90720" indent="-88920">
              <a:lnSpc>
                <a:spcPct val="80000"/>
              </a:lnSpc>
              <a:spcBef>
                <a:spcPts val="300"/>
              </a:spcBef>
              <a:buClr>
                <a:srgbClr val="89898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A retransmission timer and a retransmission counter are maintained by the host to control the process of retransmiss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1. PMIP Direct Routing O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 optimized solution for the scenario of multicast services available throughout the access network independent of the PMIPv6 infrastruc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intly account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at access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nnel- or VPN-based multicast f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T-type scena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B861-2205-4444-9900-B78D73C275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Re-chartering proposal: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Dedicated Multicast LMA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asic concept being discussed in the group since last year (IETF7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dvanta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Not all LMAs need to support multicast capability and connectivity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006920" indent="-277200">
              <a:lnSpc>
                <a:spcPct val="90000"/>
              </a:lnSpc>
              <a:spcBef>
                <a:spcPts val="374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duces total resources and states at LMA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006920" indent="-2772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duces tunnel convergence issue at the MA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006920" indent="-277200">
              <a:lnSpc>
                <a:spcPct val="90000"/>
              </a:lnSpc>
              <a:spcBef>
                <a:spcPts val="374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inimizes the replication of multicast traffic when MNs with different LMAs join the same multicast group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implifies the multicast tree topolog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006920" indent="-277200">
              <a:lnSpc>
                <a:spcPct val="90000"/>
              </a:lnSpc>
              <a:spcBef>
                <a:spcPts val="374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lows a PMIPv6 domain to closely follow a simple multicast tree topology for Proxy MLD forwarding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lated draf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70c0"/>
                </a:solidFill>
                <a:uFillTx/>
                <a:latin typeface="Tahoma"/>
                <a:ea typeface="ＭＳ Ｐゴシック"/>
              </a:rPr>
              <a:t>https://datatracker.ietf.org/doc/draft-zuniga-multimob-smspmip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70c0"/>
                </a:solidFill>
                <a:uFillTx/>
                <a:latin typeface="Tahoma"/>
                <a:ea typeface="ＭＳ Ｐゴシック"/>
              </a:rPr>
              <a:t>http://tools.ietf.org/html/draft-contreras-multimob-msd-0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70c0"/>
                </a:solidFill>
                <a:uFillTx/>
                <a:latin typeface="Tahoma"/>
                <a:ea typeface="ＭＳ Ｐゴシック"/>
              </a:rPr>
              <a:t>https://datatracker.ietf.org/doc/draft-sijeon-multimob-mms-pmip6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BA38-429E-48A7-A93E-834B267387B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3. Multicast Context Transfer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 Extensions of FMIPv6/PFMIPv6/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e a generic context transfer scheme for multicast state records that works for FMIPv6, PFMIPv6 and comparable protoc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itial propos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 Unicode MS"/>
              </a:rPr>
              <a:t>draft-schmidt-multimob-fmipv6-pfmipv6-multic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0EB1-7295-4725-ABA1-A389C1B1EC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tocol Exten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ed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 up a bi-directional tunnel link (M-Tunnel) between LMA and MAG for traffic aggreg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-tunnel is dedicated to multicast data and message transmission between LMA and MA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 smooth handover by PBU with multicast extension (PBU-M) mess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liant with M-CTD with CXTP or Policy Profi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flexibility for various use cases (scenarios) and combinations of fu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ither “Routing function (PIM-SM)” or “Proxy function (MLD proxy)”, or dual-mode (i.e. support both funct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 local routing (when MAG acts as a PIM rou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Fast Hando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宋体"/>
              </a:rPr>
              <a:t>It is proposed to add fast handover issue into Multimob chart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Without supporting fast handover, it will cause packet lo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宋体"/>
              </a:rPr>
              <a:t>In multimob, only after the bi-directional tunnel is built between n-MAG and, the multicast packet can be continuously delivered to MN. It inevitably causes the latency and loss of packet during handover proces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Fast handover has been considered in other mobility iss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宋体"/>
              </a:rPr>
              <a:t>Fast handover is an important item in Mobile IPv6 specified RFC5268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宋体"/>
              </a:rPr>
              <a:t>draft-irtf-mipshop-pfmipv6 extends the FMIPv6 and applies it to the PMIPv6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宋体"/>
              </a:rPr>
              <a:t>Fast handover has been talked a lot in Multimob mail list, and there are two related draft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draft-hui-multimob-fast-hand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draft-schmidt-multimob-fmipv6-pfmipv6-multica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9FDE-488B-4223-B653-1C38F923A4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07:29:52Z</dcterms:created>
  <dc:creator>SarikayaBehcet 73654</dc:creator>
  <dc:description/>
  <dc:language>en-US</dc:language>
  <cp:lastModifiedBy>SarikayaBehcet 73654</cp:lastModifiedBy>
  <dcterms:modified xsi:type="dcterms:W3CDTF">2010-08-16T20:27:26Z</dcterms:modified>
  <cp:revision>6</cp:revision>
  <dc:subject/>
  <dc:title>Problem Descrip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81973230</vt:lpwstr>
  </property>
</Properties>
</file>