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723D-ADDE-4767-BF54-973DA1629E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EECC-5950-4668-8AF6-A8AF86A57E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C6EC-3F86-4F98-B2D4-57AE9BEA5C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F551-6365-443A-BC3D-DA1DDAA44E6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Footer Placeholder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uthor: G. Arheilger, Juniper Networks, EMEA 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pyright © 2001 Juniper Network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888C-A3B8-4D66-A170-F0EFCC3A86D4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4977-3593-4DC8-9FFE-17A8DF39B5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EC2A-9100-443E-908C-65EEC7344F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83E9-99B0-4D8B-866C-3E72BCBC7A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46A7-17CF-4CC0-BFD6-33F548F48DE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1BB8-E7A1-488D-9499-71109BEDD998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3387-C3D9-4B0A-99E2-FE84AF1EDE4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2450-D651-4992-81A7-92020257FDB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1059-7C64-4233-BEEB-DBD49025F2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0CC2-3CB0-497E-BAE3-96D55C43D5B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6545-6401-4301-8745-D082DAC5C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855D-A4DB-4AE5-B12E-4560B217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6131-9B92-48A9-806C-85B20B957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5171-6301-45A5-A080-80724B0CA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F25A-85EF-454C-8AD7-0238AA8B5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DA83-E1EE-470B-8AB2-C8C8F16D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756A-B262-481E-9CC2-E801C870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BD28-7627-488D-931E-43ED6DBA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F0C8-D5AC-40C8-9CF1-237E9AB0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EFBE-E590-4BCB-8448-526F4F28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577C-997E-4838-9422-FF89945C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BB5D-67ED-404C-861E-F2ACC32C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8DBF-33CC-4FFE-BA10-0B38CE55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C569-4F81-4FF0-A813-B56C0021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97D1-C8E7-4062-814D-73BCE8A9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CDF2-2746-462A-A574-5C3E8B543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6985E-A020-417A-BCBB-FFFBF1A93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F08E-EBE2-4D44-8CDB-67FC22BA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FB39-7E0C-4BE1-8399-2BBDA8B2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BF5A-D49E-4DA0-BB02-32308E00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328A-5F5D-42D7-A0D7-AB85DC56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23A7-6DBC-4A83-B007-FADC9181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B010-442F-4039-95F1-D0C1C853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C969-428D-4B3E-A81F-21AA96CC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89CF-05B1-46F4-B3FA-BBB4431D73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3ED7-8AF0-45F3-9AFE-FE815B1416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BDD0-13D1-431C-95AC-44A3A176D09C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0F84-0234-4E1E-BA23-B3D103B2AA3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 Descrip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ai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430C-271D-47D0-B520-8E355F7EA8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tocol extension to accelerate the MAG’s knowledge of the MN’s multicast subscription after H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G entity in base solution relays on standard MLD procedures to get knowledge of MN multicast subscription after handov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ral delay sources contribute to increase the timing for multicast delivery at the new point of attachmen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lay due to the access to radio resources among competing M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lay due to radio frame structur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lay due to retransmissions caused by radio channel unreliability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lay due to MLD message processing at M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 proposal: to accelerate the MAG’s knowledge acquisition of the MN’s multicast subscription by means of new signaling messages internal to the network, decoupling subscription acquisition fro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nderlaying radio technology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GMP/MLD parametrisation tu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MIPv6 multicast architecture (current or evolve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ntended draft: draft-contreras-multimob-rams-0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EBDE-9D87-498F-858B-4BAA254388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6920" y="2599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2. PMIP Multicast Source Sup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 a solution that smoothly extends sender support from the base-solution to optimized direct rou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B54F-7052-4D51-B411-2AC276C012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6080" y="306360"/>
            <a:ext cx="726912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华文新魏"/>
                <a:ea typeface="华文新魏"/>
              </a:rPr>
              <a:t>draft-zhang-multimob-msm-00.tx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397400" y="1238400"/>
            <a:ext cx="405144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Scenar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198360" y="4791240"/>
            <a:ext cx="886932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c479d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华文新魏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华文新魏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flag denotes that MN is a multicast sour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华文新魏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华文新魏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flag denotes which scheme is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J=1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SPT-based scheme;    J=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RPT-based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217440" y="1360440"/>
            <a:ext cx="413712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c479d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The PMIPv6 MN may be a multicast sour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LMA which is a fixed node for MN can act as 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SPT can also be refreshed in a network- based ma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128520" y="1219320"/>
            <a:ext cx="4179960" cy="355572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7"/>
          <p:cNvGraphicFramePr/>
          <p:nvPr/>
        </p:nvGraphicFramePr>
        <p:xfrm>
          <a:off x="4405320" y="1936800"/>
          <a:ext cx="4421160" cy="28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05320" y="1936800"/>
                    <a:ext cx="4421160" cy="28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Rectangle 11"/>
          <p:cNvSpPr/>
          <p:nvPr/>
        </p:nvSpPr>
        <p:spPr>
          <a:xfrm>
            <a:off x="4403880" y="1227240"/>
            <a:ext cx="4398840" cy="3555720"/>
          </a:xfrm>
          <a:prstGeom prst="rect">
            <a:avLst/>
          </a:prstGeom>
          <a:noFill/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122400" y="4856040"/>
            <a:ext cx="8678880" cy="16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ue to discuss on the 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ility of having an online questionn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FC 2418 describes revising milestones and rechartering proced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175A-11DC-4F8B-8556-7E63181A59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slide per problem propo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 the proposer talks about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xt WG comments are solici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irs only to judge the consen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934A-CA7E-47D0-81B7-E06077FEC4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tocol Exten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raft-asaeda-multimob-igmp-mld-mobility-extensions-04.tx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pproach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r smooth handover: Host-side protocol extens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GMP/MLD Notification ope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N explicitly notifies current-state report without solicitation (i.e. without waiting general query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GMP/MLD Hold and Release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N asks to keep MN’s membership state to its upstream router during its handover, and release after its handove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 interoperability problem exis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06DB-D80A-47D8-AF21-09BE8450AA5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09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宋体"/>
              </a:rPr>
              <a:t>How to Gain Reliability for IGMPv3/MLDv2 in Wireless and Mobile network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4360" y="1197000"/>
            <a:ext cx="7991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  <a:ea typeface="宋体"/>
              </a:rPr>
              <a:t>Problem in Wireless and Mobile Networ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274680">
              <a:lnSpc>
                <a:spcPct val="80000"/>
              </a:lnSpc>
              <a:spcBef>
                <a:spcPts val="349"/>
              </a:spcBef>
              <a:buClr>
                <a:srgbClr val="898989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宋体"/>
              </a:rPr>
              <a:t>IGMP/MLD is not a reliable protoco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274680">
              <a:lnSpc>
                <a:spcPct val="80000"/>
              </a:lnSpc>
              <a:spcBef>
                <a:spcPts val="349"/>
              </a:spcBef>
              <a:buClr>
                <a:srgbClr val="898989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宋体"/>
              </a:rPr>
              <a:t>IGMP/MLD can not gain reliability by sending several copies of IGMP messag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990720" indent="-88920">
              <a:lnSpc>
                <a:spcPct val="80000"/>
              </a:lnSpc>
              <a:spcBef>
                <a:spcPts val="300"/>
              </a:spcBef>
              <a:buClr>
                <a:srgbClr val="89898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Packet loss is very high when IP multicast works in a radio enviro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90720" indent="-88920">
              <a:lnSpc>
                <a:spcPct val="80000"/>
              </a:lnSpc>
              <a:spcBef>
                <a:spcPts val="300"/>
              </a:spcBef>
              <a:buClr>
                <a:srgbClr val="89898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Unsolicited Report is prone to loss due to network conditions degradation or l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9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  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distance travel, which will have bad effects on user’s experi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90720" indent="-88920">
              <a:lnSpc>
                <a:spcPct val="80000"/>
              </a:lnSpc>
              <a:spcBef>
                <a:spcPts val="300"/>
              </a:spcBef>
              <a:buClr>
                <a:srgbClr val="89898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Even the report can be retransmitted for several times, the report reception by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9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  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router can not be guarante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90720" indent="-88920">
              <a:lnSpc>
                <a:spcPct val="80000"/>
              </a:lnSpc>
              <a:spcBef>
                <a:spcPts val="300"/>
              </a:spcBef>
              <a:buClr>
                <a:srgbClr val="89898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And excessive packet retransmission is a waste of resou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274680">
              <a:lnSpc>
                <a:spcPct val="80000"/>
              </a:lnSpc>
              <a:spcBef>
                <a:spcPts val="349"/>
              </a:spcBef>
              <a:buClr>
                <a:srgbClr val="898989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宋体"/>
              </a:rPr>
              <a:t>INTEL Wimax lab observes this issue as well in the lab tes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274680">
              <a:lnSpc>
                <a:spcPct val="80000"/>
              </a:lnSpc>
              <a:spcBef>
                <a:spcPts val="349"/>
              </a:spcBef>
              <a:buClr>
                <a:srgbClr val="898989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宋体"/>
              </a:rPr>
              <a:t>This problem is discussed by IPMSI at the following URL link: http://www.ipmulticast.com/content/view/20/2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  <a:ea typeface="宋体"/>
              </a:rPr>
              <a:t>Proposal in 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  <a:ea typeface="宋体"/>
              </a:rPr>
              <a:t>draft-liu-multimob-reliable-igmp-mld-00.txt</a:t>
            </a:r>
            <a:r>
              <a:rPr b="0" lang="en-US" sz="1600" spc="-1" strike="noStrike">
                <a:solidFill>
                  <a:srgbClr val="898989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274680">
              <a:lnSpc>
                <a:spcPct val="80000"/>
              </a:lnSpc>
              <a:spcBef>
                <a:spcPts val="349"/>
              </a:spcBef>
              <a:buClr>
                <a:srgbClr val="898989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宋体"/>
              </a:rPr>
              <a:t>Adopting acknowledgement-retransmission to improve the reliability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990720" indent="-88920">
              <a:lnSpc>
                <a:spcPct val="80000"/>
              </a:lnSpc>
              <a:spcBef>
                <a:spcPts val="300"/>
              </a:spcBef>
              <a:buClr>
                <a:srgbClr val="89898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A host after sending an unsolicited report starts a retransmission timer and waits for the acknowledgement (ACK) from the rou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90720" indent="-88920">
              <a:lnSpc>
                <a:spcPct val="80000"/>
              </a:lnSpc>
              <a:spcBef>
                <a:spcPts val="300"/>
              </a:spcBef>
              <a:buClr>
                <a:srgbClr val="89898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Upon receiving ACK or multicast data, the host stops the timer and retransmi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90720" indent="-88920">
              <a:lnSpc>
                <a:spcPct val="80000"/>
              </a:lnSpc>
              <a:spcBef>
                <a:spcPts val="300"/>
              </a:spcBef>
              <a:buClr>
                <a:srgbClr val="89898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If the ACK not received when the timer expires, another report is retransmitt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274680">
              <a:lnSpc>
                <a:spcPct val="80000"/>
              </a:lnSpc>
              <a:spcBef>
                <a:spcPts val="349"/>
              </a:spcBef>
              <a:buClr>
                <a:srgbClr val="898989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宋体"/>
              </a:rPr>
              <a:t>Using new message and paramet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990720" indent="-88920">
              <a:lnSpc>
                <a:spcPct val="80000"/>
              </a:lnSpc>
              <a:spcBef>
                <a:spcPts val="300"/>
              </a:spcBef>
              <a:buClr>
                <a:srgbClr val="89898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ACK message is introduced,  either using new message type or reusing report type message with flag s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90720" indent="-88920">
              <a:lnSpc>
                <a:spcPct val="80000"/>
              </a:lnSpc>
              <a:spcBef>
                <a:spcPts val="300"/>
              </a:spcBef>
              <a:buClr>
                <a:srgbClr val="89898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A retransmission timer and a retransmission counter are maintained by the host to control the process of retransmiss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1. PMIP Direct Routing O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 optimized solution for the scenario of multicast services available throughout the access network independent of the PMIPv6 infrastruct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intly account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at access net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unnel- or VPN-based multicast f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MT-type scena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E42D-DEC5-4D4C-B5E8-8FEFBC47D0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Re-chartering proposal: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Dedicated Multicast LMA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asic concept being discussed in the group since last year (IETF7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dvanta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Not all LMAs need to support multicast capability and connectivity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006920" indent="-277200">
              <a:lnSpc>
                <a:spcPct val="90000"/>
              </a:lnSpc>
              <a:spcBef>
                <a:spcPts val="374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educes total resources and states at LMA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006920" indent="-2772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educes tunnel convergence issue at the MA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006920" indent="-277200">
              <a:lnSpc>
                <a:spcPct val="90000"/>
              </a:lnSpc>
              <a:spcBef>
                <a:spcPts val="374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inimizes the replication of multicast traffic when MNs with different LMAs join the same multicast group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implifies the multicast tree topolog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006920" indent="-277200">
              <a:lnSpc>
                <a:spcPct val="90000"/>
              </a:lnSpc>
              <a:spcBef>
                <a:spcPts val="374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llows a PMIPv6 domain to closely follow a simple multicast tree topology for Proxy MLD forwarding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elated draf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70c0"/>
                </a:solidFill>
                <a:uFillTx/>
                <a:latin typeface="Tahoma"/>
                <a:ea typeface="ＭＳ Ｐゴシック"/>
              </a:rPr>
              <a:t>https://datatracker.ietf.org/doc/draft-zuniga-multimob-smspmip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70c0"/>
                </a:solidFill>
                <a:uFillTx/>
                <a:latin typeface="Tahoma"/>
                <a:ea typeface="ＭＳ Ｐゴシック"/>
              </a:rPr>
              <a:t>http://tools.ietf.org/html/draft-contreras-multimob-msd-0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70c0"/>
                </a:solidFill>
                <a:uFillTx/>
                <a:latin typeface="Tahoma"/>
                <a:ea typeface="ＭＳ Ｐゴシック"/>
              </a:rPr>
              <a:t>https://datatracker.ietf.org/doc/draft-sijeon-multimob-mms-pmip6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F277-2E92-4CB9-A48C-6809D6440AC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3. Multicast Context Transfer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 Extensions of FMIPv6/PFMIPv6/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e a generic context transfer scheme for multicast state records that works for FMIPv6, PFMIPv6 and comparable protoc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itial propos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 Unicode MS"/>
              </a:rPr>
              <a:t>draft-schmidt-multimob-fmipv6-pfmipv6-multic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9E64-57D6-470A-BDB9-5709C78214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tocol Exten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orted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 up a bi-directional tunnel link (M-Tunnel) between LMA and MAG for traffic aggreg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-tunnel is dedicated to multicast data and message transmission between LMA and MA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ort smooth handover by PBU with multicast extension (PBU-M) mess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liant with M-CTD with CXTP or Policy Profi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flexibility for various use cases (scenarios) and combinations of fun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ither “Routing function (PIM-SM)” or “Proxy function (MLD proxy)”, or dual-mode (i.e. support both funct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ort local routing (when MAG acts as a PIM rou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Fast Hando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宋体"/>
              </a:rPr>
              <a:t>It is proposed to add fast handover issue into Multimob chart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Without supporting fast handover, it will cause packet lo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宋体"/>
              </a:rPr>
              <a:t>In multimob, only after the bi-directional tunnel is built between n-MAG and, the multicast packet can be continuously delivered to MN. It inevitably causes the latency and loss of packet during handover proces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Fast handover has been considered in other mobility iss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宋体"/>
              </a:rPr>
              <a:t>Fast handover is an important item in Mobile IPv6 specified RFC5268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宋体"/>
              </a:rPr>
              <a:t>draft-irtf-mipshop-pfmipv6 extends the FMIPv6 and applies it to the PMIPv6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宋体"/>
              </a:rPr>
              <a:t>Fast handover has been talked a lot in Multimob mail list, and there are two related draft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draft-hui-multimob-fast-hand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draft-schmidt-multimob-fmipv6-pfmipv6-multica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573F-648A-4938-8B4C-B89D75C58E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07:29:52Z</dcterms:created>
  <dc:creator>SarikayaBehcet 73654</dc:creator>
  <dc:description/>
  <dc:language>en-US</dc:language>
  <cp:lastModifiedBy>SarikayaBehcet 73654</cp:lastModifiedBy>
  <dcterms:modified xsi:type="dcterms:W3CDTF">2010-08-16T20:27:26Z</dcterms:modified>
  <cp:revision>6</cp:revision>
  <dc:subject/>
  <dc:title>Problem Descrip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81973230</vt:lpwstr>
  </property>
</Properties>
</file>