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E8320-4C66-4EB5-BDBD-406F13635471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C75F7-EB95-4802-9C7D-347442FEE1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9F135-39A5-4E62-B8CD-F5EA8F79DF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2D5C5-C428-44A5-9DE3-8B065429EE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7A61C-9890-4D96-A378-F9BD06C28F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08C6D-B2FE-4C1F-9D30-0B944E8C11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81584-793D-4853-940C-ACA08A43B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90B95-C6AC-4C61-81B0-AC4CF3126B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3D1-3A92-4244-BD4F-A8F970F1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64E-856B-4381-A347-8285036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C75-FED7-4B33-B2DB-C55EA02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A6B-DB3A-4007-8076-30B60ED8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ADD-8C4F-4738-8611-8A8181A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286-DE40-4604-A9AE-498881AE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0C7-609F-48C9-844A-565A5C0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A89-DCC9-4208-A3DA-F92C0CE5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F56-AD4A-464D-B736-0583E40C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520-3664-405E-A0C4-39BB98BB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411-C9B1-44FD-B2D0-75AD4A8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8E1-3A85-406D-AEC5-F1766F6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5392C-DA53-4D1D-B4DE-4175C5F77BC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, 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5DC49-9C83-43A9-AB3A-8D3C4440B2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, Yogo Uch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io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460960" y="99360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July 2010, Maastricht,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288E4-07F2-4F67-8DCE-91A7226C75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specification description of the explicit membership tracking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asaeda-mboned-explicit-tracking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potential tuning values thanks to our simulatio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79480-CF88-4EF6-91B8-192BC4042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xplicit tracking function on routers (described in a separate draft) works fo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ing the number of transmitted Query and Report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tuning IGMP/MLD timers/values for mobile multicast, this draft assumes routers enable the explicit tracking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xplicit tracking function is M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0D264-387B-444A-B0C3-0EA53512F1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0844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EE802.11b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only (MLDv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 MNs individually join/leave the same channel (as seen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Ns moves with random waypoint algorithm (the above white solid lines show trajectories for MN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cast stream bandwidth is 120kb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27520" y="1362240"/>
            <a:ext cx="5690880" cy="3906720"/>
          </a:xfrm>
          <a:prstGeom prst="rect">
            <a:avLst/>
          </a:prstGeom>
          <a:ln w="0">
            <a:noFill/>
          </a:ln>
        </p:spPr>
      </p:pic>
      <p:sp>
        <p:nvSpPr>
          <p:cNvPr id="6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FF157-CE07-42BE-A7BB-67602BE4FD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 Processing – 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cast or multicast General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ry can be transmitted to any address (RFC3376, 381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hosts addresses (224.0.0.1 and ff02::1) are used as the destination of general query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casting General Query would be advantageous when the small number of MNs join a same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ry Interval timer can be adjusted according to the number of M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ry Response Interval timer would be shortened from its default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casting General Query would be advantageous when a large number of MNs join a same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0ED5B-77F6-45C8-AA1B-2126F8B999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033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25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cause IGMP Queries to be sent less of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5 sec. for unicast General Query with the small number of MNs (e.g. le 100 M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50 sec. for unicast General Query with the large number of MNs (e.g. gt 100 M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80 sec. for mult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ful with a large number of MNs such as more than 500 M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Query Response Interval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: 10 se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values make the traffic less burs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 sec. for un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0 sec. for multicast General Qu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154C8-D8CF-4387-80B1-20787E87DD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rs, Counters, Default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Startup Query Interval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ault: 1/4 of [Query Interval] (= 25 se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r value such as 1 sec. contributes to slightly smooth handover (e.g. for PMIPv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seco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Robustness Variable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ault: 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not be bigger than 2, especially when [Query Response Interval] is set smaller than its default val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(and SHOULD NOT be bigger than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3A35B-55E9-4FD9-9F4A-35613724EE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udy of tuning values and considerations based on simulation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893C2-A956-4648-8E4F-2677491EC6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06:15Z</dcterms:created>
  <dc:creator>朝枝 仁</dc:creator>
  <dc:description/>
  <dc:language>en-US</dc:language>
  <cp:lastModifiedBy>SarikayaBehcet 73654</cp:lastModifiedBy>
  <dcterms:modified xsi:type="dcterms:W3CDTF">2010-07-27T09:22:29Z</dcterms:modified>
  <cp:revision>23</cp:revision>
  <dc:subject/>
  <dc:title>Tuning the Behavior of IGMP and MLD for Mobile Hosts and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0222514</vt:lpwstr>
  </property>
</Properties>
</file>