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66B07-5DE9-4205-A52A-1DECB394CB53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FF389-2133-476B-950A-C4215A321D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1D646-94CE-49ED-A6FE-B01F961F81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459DA-21E0-410D-BFB6-B08F8C0097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95AAE-E416-4EFC-A35A-0F467657A3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D1139-863D-4A7E-8E18-BDCB014621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F16F5-AB14-437F-B368-39B5D2549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23912-4906-4FEC-BA78-47E11D2ECB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06B-AAA4-4B1B-AA30-6B4F14F9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FFB-FF02-46D3-9CBA-2DB8736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837-B386-4CB9-9F34-2B42ACE6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61F-3436-4186-97E5-43109B93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20E-AE17-469C-9ADB-25991FF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DA8-91C5-47B3-BAFA-F94D813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BB0-C577-447B-8C1D-3128FB95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D77-6555-4866-9C44-E066689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A47-EE82-4FC8-B439-B8B618E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1C2-E900-47B3-81F9-BB85730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E87-1B0C-4B11-A373-6951398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344-9DED-40C8-95D1-503CBFB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04ABA-644A-46E7-AB2B-191327466BEF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, 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9E4A6-E0F5-488D-8082-FED8C2DE71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, Yogo Uch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io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460960" y="99360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July 2010, Maastricht,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5F955-2A03-490F-ADE6-30A14CC43F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specification description of the explicit membership tracking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asaeda-mboned-explicit-tracking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potential tuning values thanks to our simulatio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D6589-6669-4747-83B3-5DF53B9B5C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xplicit tracking function on routers (described in a separate draft) works fo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ing the number of transmitted Query and Report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tuning IGMP/MLD timers/values for mobile multicast, this draft assumes routers enable the explicit tracking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xplicit tracking function is M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95988-E1F5-4D7A-A5D2-BC0DA5F0E4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0844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EE802.11b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only (MLDv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 MNs individually join/leave the same channel (as seen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Ns moves with random waypoint algorithm (the above white solid lines show trajectories for MN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cast stream bandwidth is 120k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27520" y="1362240"/>
            <a:ext cx="5690880" cy="3906720"/>
          </a:xfrm>
          <a:prstGeom prst="rect">
            <a:avLst/>
          </a:prstGeom>
          <a:ln w="0">
            <a:noFill/>
          </a:ln>
        </p:spPr>
      </p:pic>
      <p:sp>
        <p:nvSpPr>
          <p:cNvPr id="6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1914B-B0DA-4019-8947-85B8FED541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 Processing – 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cast or multicast General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can be transmitted to any address (RFC3376, 381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hosts addresses (224.0.0.1 and ff02::1) are used as the destination of general query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casting General Query would be advantageous when the small number of MNs join a same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ry Interval timer can be adjusted according to the number of M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ry Response Interval timer would be shortened from its default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casting General Query would be advantageous when a large number of MNs join a same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4CB89-4EAF-4290-BCB6-ACCA9C1903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033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25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cause IGMP Queries to be sent less of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5 sec. for unicast General Query with the small number of MNs (e.g. le 100 M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50 sec. for unicast General Query with the large number of MNs (e.g. gt 100 M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80 sec. for mult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ful with a large number of MNs such as more than 500 M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Response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0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make the traffic less burs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 sec. for un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0 sec. for mult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4D186-26BD-4E49-9503-3550654A0D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Startup Query Interval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ault: 1/4 of [Query Interval] (= 25 se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r value such as 1 sec. contributes to slightly smooth handover (e.g. for PMIPv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seco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Robustness Variable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ault: 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not be bigger than 2, especially when [Query Response Interval] is set smaller than its default val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(and SHOULD NOT be bigger than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AD82D-7F39-42A5-B6FA-CFB726743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udy of tuning values and considerations based on simulation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88805-CD38-48B3-A69A-140405AB4D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06:15Z</dcterms:created>
  <dc:creator>朝枝 仁</dc:creator>
  <dc:description/>
  <dc:language>en-US</dc:language>
  <cp:lastModifiedBy>SarikayaBehcet 73654</cp:lastModifiedBy>
  <dcterms:modified xsi:type="dcterms:W3CDTF">2010-07-27T09:22:29Z</dcterms:modified>
  <cp:revision>23</cp:revision>
  <dc:subject/>
  <dc:title>Tuning the Behavior of IGMP and MLD for Mobile Hosts and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222514</vt:lpwstr>
  </property>
</Properties>
</file>