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395B-5537-49A7-AAFA-3D88F1743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57C3-4C1C-4C60-A807-E6AD38E9B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4289-3205-4567-8E05-4768BB32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8D8C-675B-4231-84DE-904F89EF1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E0E2-4217-4C32-8011-2193DB9B6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D02-15E1-4907-AC38-BCF1593F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87D-C276-4DD4-B776-8B32A6C0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CFE-0254-46CA-AD52-5A4E030D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F44-103F-4C75-87A4-43D9AE05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271-2354-4AA8-89E9-17A3AF37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88D-2F08-49E7-9E25-70B3D00B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819-3C0D-4B6F-91EC-2318912D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C91-97C5-43CC-BC56-6417CF39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58F-C993-4F24-ACAE-2B1A77D9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71F-FE36-4C1D-B201-22159B3B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6F8-2CFD-44D6-968E-C84AB38E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5A9-A62F-4025-81CC-A01B9F84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BAC5-1879-47F1-816D-F1F79C2C1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internet-drafts/draft-asaeda-multimob-igmp-mld-optimization-02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ing Drafts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2617-2ECF-40B4-ABEE-082214F14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MP/MLD tuning mile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we ready to adopt one of these draf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asaeda-multimob-igmp-mld-optimization-02.t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wu-multimob-igmp-mld-tuning-00.t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, how to proc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D9E8-AAB1-42DE-9493-53C7063F8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-asaeda-multimob-igmp-mld-optimization-02.t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ea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of you supports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again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A643-7B49-443F-9409-C8597E8FF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-wu-multimob-igmp-mld-tuning-00.t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ea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of you supports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again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0D36-32B2-4C84-9983-1BED3C970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9:58:20Z</dcterms:created>
  <dc:creator>Cisco Systems, Inc.</dc:creator>
  <dc:description/>
  <dc:language>en-US</dc:language>
  <cp:lastModifiedBy>SarikayaBehcet 73654</cp:lastModifiedBy>
  <dcterms:modified xsi:type="dcterms:W3CDTF">2010-07-27T09:30:09Z</dcterms:modified>
  <cp:revision>43</cp:revision>
  <dc:subject/>
  <dc:title>Thoughts on PIM over Reliable Trans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0222572</vt:lpwstr>
  </property>
</Properties>
</file>