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CBA0-281E-4179-AC23-C772A446A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CE8A-D86A-464B-B10D-24B8D2448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5BCA-8C39-4463-944A-425DD6FFB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11E5-ADD5-4563-8FF6-D21B32BF4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2066-EEE4-4C07-941F-5DFFC53B8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64A-E54E-4B11-AA2C-5D37A787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F83A-CBC2-4BDC-991E-931487C1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6EBD-FC3F-41D1-A066-6527F7FB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9D15-E816-459C-B296-9E51EF75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9EB-8F63-49EE-8239-03C4E97E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F650-C9F1-44DE-9BD8-749A3899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7AA7-75A4-4281-B9D4-AA7EE680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5A5-6008-4B37-A346-B10425BD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7FB-7631-490B-ABBB-FA620647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BF8-1462-4EAF-9E5B-F678D563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A68A-2926-4DF6-B019-A0A7F9D9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51C5-200A-43F5-8688-87831152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B1CB-E0DC-4026-BE2D-E8F511F90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etf.org/internet-drafts/draft-asaeda-multimob-igmp-mld-optimization-02.tx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ning Drafts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B772-4EA5-4B00-AFB3-190DD9B27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GMP/MLD tuning miles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we ready to adopt one of these draf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raft-asaeda-multimob-igmp-mld-optimization-02.t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wu-multimob-igmp-mld-tuning-00.t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t, how to proc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EEA5-ECEF-4C82-9651-6576D3F91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ft-asaeda-multimob-igmp-mld-optimization-02.tx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read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of you supports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are again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FCD1-2E11-4485-8660-C4E1EDB51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ft-wu-multimob-igmp-mld-tuning-00.tx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read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of you supports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are again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1338-EB4F-4F41-B485-9A1DF709D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9:58:20Z</dcterms:created>
  <dc:creator>Cisco Systems, Inc.</dc:creator>
  <dc:description/>
  <dc:language>en-US</dc:language>
  <cp:lastModifiedBy>SarikayaBehcet 73654</cp:lastModifiedBy>
  <dcterms:modified xsi:type="dcterms:W3CDTF">2010-07-27T09:30:09Z</dcterms:modified>
  <cp:revision>43</cp:revision>
  <dc:subject/>
  <dc:title>Thoughts on PIM over Reliable Trans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80222572</vt:lpwstr>
  </property>
</Properties>
</file>