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hdr"/>
          </p:nvPr>
        </p:nvSpPr>
        <p:spPr>
          <a:xfrm>
            <a:off x="7560" y="-1800"/>
            <a:ext cx="3043080" cy="453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dt" idx="145"/>
          </p:nvPr>
        </p:nvSpPr>
        <p:spPr>
          <a:xfrm>
            <a:off x="4046400" y="-1800"/>
            <a:ext cx="3043440" cy="453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 type="ftr" idx="146"/>
          </p:nvPr>
        </p:nvSpPr>
        <p:spPr>
          <a:xfrm>
            <a:off x="7560" y="9664560"/>
            <a:ext cx="3043080" cy="5716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 type="sldNum" idx="147"/>
          </p:nvPr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B4DEA9C4-06F3-4D65-AF19-874DD98B8D1E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9C2DC0B3-9A45-4E23-A050-46F92D8505AC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BC332B83-8908-4C3A-9111-0C0D16B2DBDD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081A1B7B-A58B-46FC-A766-80531A815D4A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4063AFFF-7D64-45AE-A043-0E6C91B5A527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45720" y="4866840"/>
            <a:ext cx="52038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슬라이드 번호 개체 틀 3"/>
          <p:cNvSpPr/>
          <p:nvPr/>
        </p:nvSpPr>
        <p:spPr>
          <a:xfrm>
            <a:off x="4046400" y="9664560"/>
            <a:ext cx="304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E9B31335-B4BE-48DD-BCB6-BC733A96156B}" type="slidenum">
              <a:rPr b="0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AED-D40D-4D9A-B48A-CD96EED8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C7F-936D-4847-8C40-CF14DC8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D030B-46B5-4FF1-9C6C-7A173F2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CFDF7-364F-4D5A-A92E-A5ED677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81B2-740B-4C2F-A79C-57A5D8B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FAC9-C46D-45B8-9C09-542FEA9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010F8-4119-45E2-AD0C-5D72FD0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F595-A98C-4B70-9A21-BBB5C6B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0DB81-BD21-45D4-B0AD-A08B9DA2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1C0C8-C2C4-41BF-ADC1-B4CA89F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4DC70-41CF-4522-BEA4-B424FB40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F4DA0-3929-4FB9-B328-97CE5E79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E1A-CBFB-4ACF-97DE-20454E62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6052-AC43-490E-81A2-BEAFDFF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9F57-C841-40A6-B02A-22D0EF0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63960-6769-4E82-8A64-B92038B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89C60-720B-4330-97AF-1A58EB6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C95F6-6354-4897-BCC8-61D8FC5A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E41E-0611-4CC8-916A-56520D1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51D32-F1CB-485B-999A-2818F4C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E03FF-ABC3-47A2-B7BB-2930EB6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9A403-3688-4967-948A-BFCD9E96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D2F19-5753-4AB3-BAFD-96BDC12E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AAD-AB1F-46E3-909F-AE0CC51C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86BB-D714-4A17-9837-E91D5235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D13F-8640-4B7F-A839-37544588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CBEE-8B9D-463A-A925-7870788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9C84-ADD2-4128-AD32-BE9F69D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FF20-C5A1-4FFE-A909-3D9F888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F84AF-ACB3-4FDF-80F5-3E1D823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376CE-321F-4AF4-8455-C62BD5A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66969-2959-402F-9FC5-E64918A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46BD6-3524-49B0-96AC-F43476F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F1965-BB12-436F-B375-3AB17C0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699F-D48E-478D-BF55-BDFCCD0C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7AEA-148F-4CC4-B038-2B15B02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2134-F9E4-4084-8927-EF8430CE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A305-337C-4443-9FA6-630D9F07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04504-A7B1-46CF-90F9-E22CCB02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FD46-69B4-45DD-8AEA-E7FDFD8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2B720-A4CC-40B8-88B4-F3A6589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8CA29-BC6C-43E7-AA98-AB7E8C0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0C7D7-608F-4CF1-967D-26D6870E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EB071-B38F-45C8-93BD-AE83A1C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CF91A-D2FC-4555-B984-9F13692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97CD-E977-4D64-9E6F-969C98B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49541-D287-4475-93DC-9CF37E6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EEEDD-34D0-4412-A31E-0A6C9AB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549A4-20D0-4F9B-A4DF-82C52A7E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CBB5C-A9C5-4BA5-BCDB-45F06CA0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0316A-E734-4449-90CD-15D64583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2FDE3-CD1B-4163-976C-970A369C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E73D4-B735-4EC1-8E95-4CB09324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1B999-30BF-4848-8680-4A139BF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F2A98-43BC-4027-BC41-FC2252F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405F3-ECB3-450B-99AC-0EF64CB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3CF6-52E6-43F3-B5FF-AFA5C70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346E6-6707-4840-A3BD-EB5FED5B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AAD51-4909-4645-B7D7-741D3A3F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A050-64BF-4F3D-A0B2-4502732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196A0-AC1D-4590-8468-DA2ACD68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91D7A-967C-4840-BAA4-C4E3911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1B192-C467-41E1-8A78-C3B20C05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AE48B-D8BF-48DB-885C-58A08854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A0E53-D874-4FD1-8F41-019EDE20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849AA-3FB9-4B82-A04C-D3A90F2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8F8E7-B610-4E02-B392-D166F4F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4E6-ED89-4828-8B07-0906E9B1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0EFBD-A35B-4050-827B-4787197A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8FCCC-96E8-4A50-A6FE-E6B68AF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94D9E-258B-4CA6-9E08-3B135D44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1564F-8BC5-4D8F-BA49-FBF3980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772DF-6A3B-49E4-98FE-54F25CE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7E2B6-BBB8-46DE-AFD4-36E8940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494C0-9E57-4D2A-BE1F-B2723C58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99015-52CA-4CF4-AEA6-467AA91B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61C7B-DA6D-4696-A397-2B4ADC82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5F5EB-C256-4266-BAA5-68B7416A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3D6-ECD3-46DF-8250-3346D0E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DB76E-48A5-494E-876C-E8B6F042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C1BE1-1256-4530-AF8C-6A32485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A0747-A713-4365-81F2-7758ABD1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7407B-EC20-4118-B3AB-32F6FF4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C79F6-6E0E-4F89-98DF-4519048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D065B-349F-4720-83DC-86B58DF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CCDCF-3D5F-43E8-A91A-F87835B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94E9B-DA95-4D4C-A8C6-CFD7918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E8CCB-9598-4C3D-878D-F678489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0CD56-70E2-4BE1-9481-7C7DE636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D79B-AC9E-4067-8D94-D890091A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5AB52-0AB6-4DA4-A48D-3572D86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DE90A-7551-41F0-93DC-16B01457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7C769-B34B-4169-ABB8-AB68D274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78349-99E1-43A4-881D-EF47EDA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E1082-ECD0-4E24-95FB-FC72313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4CEF2-8A53-4E89-A999-9F26C2D7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D8614-AD89-4D01-80FB-5D6A66B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0C2D4-2FE8-4AEB-8FF4-32B7D85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E8BCB-6265-411A-8D96-CEE6F7DB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FCB42-0F9E-418F-BBD6-5E9A6AA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AA3-2D9D-4FAF-9714-DE5420D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022F9-A805-4053-855A-8BC6683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2FFC7-FFA6-4297-90EF-66E2AF5E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580E1-1E7D-49B6-8681-B4720449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5627F-232D-4BDF-A289-A1E2C713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184F3-FA16-4150-882C-9F681F4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8F2E2-6675-461E-93C0-C56A9FC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1E1B9-2E3A-473B-8C1C-455EF322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81DCA-1A9D-44C3-A262-EBE36A0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F3092-2A80-4F25-99B6-BD3A2FB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1E552-19B9-4E9C-AD48-007DB373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BA7-24C9-4A73-A21B-95A2F83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FA6B-3AF5-4015-AF28-6E42A0F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C3889-3A84-4DFD-83AB-1363EFB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FA8D2-4E6C-42EE-BD36-7D021F0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AF1A0-650F-4A4A-A236-D99BF1E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9D43A-9CFB-4A50-90A1-963D5732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B6FD2-032F-436F-91AD-A780DBEC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10C48-A0F0-4AA8-AEF8-C7D35876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FF50E-D5C3-444E-8CA2-EB377EFC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EB5AD-B29E-4B4F-AC78-F004B68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39BEA-EEBB-4CB3-8F2D-81BE385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B794C-CFB0-4EF3-9B8E-9B2E672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7090-B971-4B65-9BBC-C2F3DC8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FB9B7-2C6B-4C01-8539-341055D7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D1959-44BE-48FD-93A7-4BBBAD6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ABA23-3E9D-49A8-B58C-C3E6D37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23E97-0814-4014-AEB2-4DAE36F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F7F74-75BB-4C0D-950B-CC84330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45E83-E3AD-407D-A81B-EF9C8185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549BA-B5FC-477F-9922-9A58E104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1E32D-94BE-4159-9FC8-C43E6F6E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1618C-032E-49B5-863C-DDC5389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B6142-6F47-403D-966F-236AB1D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4120-04E5-4514-8D74-8E32A1A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6C24F-450D-4A88-8B4F-1E317BF3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08F77-5B26-4A94-A375-343F7B79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9F0EA-0CAF-4FB7-ABCD-43F2113F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2707F-7BF5-4F91-A74C-E06A068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C793D-1BCA-495B-AE4D-78CDA3A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6A237-3A1C-45D7-9EB6-AFC0565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24038-918C-4C10-A412-224E1FD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126F5-ABAB-4B2C-B768-7129382A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91047-0910-46FC-8409-61BBBB39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82ED8C-7251-4573-883B-F63192DB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F51D-ED6F-4986-AEDA-1C04DEAC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62750-6C73-4211-94ED-930E440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524DB-ABFD-466D-B1AA-DE61110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B6FB5-B7C5-4EF8-AE7A-65F96C8B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9AAFC-2AE2-46F6-B1B7-8817C5BC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A6452-E34E-47B5-B4F0-AFB90E8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36D0A-95E6-48B5-B69A-E44F09D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C28FE-AADC-4D98-B0C3-2A5B734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32658-C6F4-4888-9855-32525A7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FF963-3A40-4289-8D24-17EAD0A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BB5E7-E2E2-410B-9A39-14DE1841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A433-8A37-43CC-9D02-DF2A9CF7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55231-B136-4BF9-AAAD-5A04AA70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4FF84-297F-4DCE-B175-B29BEACB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3C42F-DE9C-4670-B500-9DB6AA4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C1216-F08C-4B32-8881-4670BB56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95173-F46B-4B45-B6BA-A340DB65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6E5ACB-99F9-40B1-A39A-285F27B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20134-E6D6-4C9A-AE6D-C6E78E1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8F362-5A8D-49D6-A57F-5ABFB84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A1A26-30AC-4485-9863-75B3B1A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8E116-FF45-43C6-9856-72F1C2A3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508E-4737-4570-BE79-D69E771B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8D4B3-607C-440F-8AB2-545AE5E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1715E-EAB8-4595-860D-B44474D2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E1E97-3F7D-416C-A11B-280259A4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99965-B4FA-418C-B47C-8F81859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57BE1F-7FA3-45B6-8E60-AABFE76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42273-684A-4EDA-BCF7-AE332AE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41F26A-2A7F-4AFF-89F7-D77A762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5E520-C836-4EC3-B67E-2E15EE1F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2C7498-C66D-4914-868D-0B21334A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714D3-E22C-412F-961C-A89E40D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79D3-242C-43C5-8473-AA3C7BD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9F4D98-A0D7-4AAD-8BEE-C270245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0A5B8A-14E7-40FB-A1FB-678D4DA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53FCA-AA5C-477C-BE32-66AFA86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1F89A-8681-4239-BEB8-72AE80F4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3DA62-BA0E-44E5-BBBF-40758249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370FD-599A-417F-A0F5-2A91783C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3D771-46A8-481B-92E7-40CDBECC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4EE96-9C36-4AE5-96C7-BF49C163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EC9312-80B8-45C6-A808-652E4EE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7AE40-AB05-4092-8EB9-9AE14D1B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1C22-912F-49A6-9759-95A7F2F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FDAB0-E79B-44B9-B119-0E2F2EA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D188B-45BB-4A03-8F46-A04D330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C70E44-BDED-45E3-A94E-E7C4FF0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82FF38-BF06-42E0-8B82-2FCACBF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AC670C-F933-47AE-998C-798FB44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0CD0B-202A-43FC-9B1C-1EA8A25D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F08C8-BB6D-4107-A7B6-4E8CDD21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69594-8308-4113-BEE1-A5C4DF4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43C975-7EEC-47E9-A3F6-50673378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0147B-FD6F-4045-AB5F-D54DBEC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C196-555C-4D13-9EF1-2D743C8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162F8-5BB7-480D-9304-E9431A3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D4BA9F-AF2D-4D78-8380-1249398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D32868-D74D-43BA-A62D-6A6AA11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7731A4-DB39-4D1D-BA68-BFAC36E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5CD47-27CC-4DD8-9D26-E4ED3E9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25525E-CED0-419F-B789-DCB79A3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163449-DFC6-4A36-B699-20FE553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790F55-93E1-4972-8797-9D1C0E72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927649-8183-48FA-9BCB-468D8DE3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E02C6B-5B59-4531-B521-98F35410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51EF-F3F7-4222-9277-A7FC2F5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EEC457-F6B7-4ACE-A061-41DA03B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E523B1-8FE9-4AFF-96A7-D9E761C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2417B-E240-494C-A72F-1994DD8E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042F16-B36A-4E61-BC44-09C64EB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D668B5-E77D-4E7B-BD42-15CCE36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7747D8-BBC3-41F4-8D32-B39FD3C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22498A-83E0-458E-B540-08E1DA3B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B8BBE8-E65C-4920-9851-F1917BC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B159A8-821F-4FC1-8B4C-83695268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35E3A-BF1E-4F56-9E18-6CCC259E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9B3-DC00-4883-A994-E9D41C7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F78A-DEE4-428E-A00B-63F90B03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EACAFA-F0D8-4AC2-9727-6939825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2583D2-0C10-42DE-AC2D-48A3799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E4965-CAD3-42D2-9973-0CBAE16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60DA3F-F07E-41F7-876B-C037261E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1F5B1B-1EFA-4694-B872-EE1F314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147E99-388D-4B8E-92D4-A3AF2F72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05A27E-91C0-453C-83FE-ED6E964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784438-A13E-42A1-876C-EFB4BFE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854F2-01C1-433F-B3C7-3F90F06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57B1E1-9105-4839-B916-018BB91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EAA2-0EF0-4675-9AFC-3E5B65F6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1CD653-29A3-4DAA-97A0-EA7282E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C12C67-5F92-42E2-96CE-2F88A114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4BDECF-2AAB-48E4-B82C-4CEA5149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0D5EB0-B757-410A-B497-D803DD63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9C7463-36B8-4C5A-989E-FDE6377E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A5D613-C03F-4DFC-9888-44ED434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7C1ECD-3511-438C-9159-FEE5C31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4FB02D-C789-44B6-9631-1E04BE2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9B51D4-2C28-4371-954A-6A75D93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834FB7-96AB-41F8-86C7-43C2358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A4BB-B75D-4946-86D5-10BB1A9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86F3EA-3F57-4FF7-86CE-3B9C4DE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59E6BD-81E2-493E-8D27-4DE4E1E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F1050-E3C2-4455-881E-62941BB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B2EA95-118D-43BB-AB0A-BC98FCFE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AB2FB4-2C91-4536-876F-4E9BB272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96EA42-2CF2-4907-B12E-9B41327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651762-C3E4-43AC-9DDD-CAC6EC0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62992C-215C-4CFE-BB62-692BDA30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CB6C42-8AE2-408E-A1F0-3AB91253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200A39-3047-40FD-9E2C-F93E9F8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31B5-A862-4082-B24D-3A073B3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02DE28-6EB1-4DD6-A3B0-0ABC560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CA8E17-BC20-4888-A307-0D49464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DB8F31-AD02-4134-ABE3-47346A5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5DE8EA-64F9-4D30-8681-DD2001F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3F7409-04C2-4A86-B81A-0C353E7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DEA96D-2B2B-4744-A752-2069DD86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50CF11-B038-42EA-B829-7C859228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6EC7E5-D868-4AEE-A127-11FD7F98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F6011A-8419-4ACC-A62B-30D0CC2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ED1B7-A67E-4823-8192-C13B78D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5376-E6C2-4291-9979-3CC7713C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E8B384-553C-4AC3-8218-B87928D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2F8C1-ED0B-41C6-8817-DB15BC8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140232-71F4-4348-9098-5B171738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EA4232-C6AE-42AE-9387-603771C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D94385-1E1E-44AC-8EA7-28C7675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6C738E-B323-490A-A5C0-174B1E2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D1FC6A-2764-47F1-9398-4980321F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AFC89E-C451-481E-828A-03AB83FA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7A8195-DB5F-4FBA-B6CE-68C05C8D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FD446A-D586-46F0-AE75-403327E2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905A-7EA1-49C9-8E75-09D9023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BE68C1-54E5-4733-A1FA-4BABEADD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06050A-2015-4539-8974-F32E621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2A1634-1EE4-4CFF-B57D-0AA8307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C57BB6-ADB6-470C-9040-7650658F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FB44EC-69A5-4F1D-A9B2-2F307CB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55783A-8C2C-4535-B0CD-67E2AE1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4B039E-8369-4DCD-BF2E-67E8D2C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927D1F-30C0-4DDD-AB9A-2A75FB2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336F8A-2BC4-442E-A22A-434A7FA4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DF32A0-9F77-4B77-BBD4-FDECA4B0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9606-7E30-47D6-821C-9BD45C19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455A18-7D3B-4291-A836-D40052CD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3C96E1-3B61-4896-9282-BC95A959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6C0772-295C-4935-9827-2D898BA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3A7CBA-410D-4923-9D6D-46C82A0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CE5B5B-36DE-4BC7-9DEC-D460EEA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041BE4-5136-4FF0-8F56-A65375A9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F8EF4-F7DE-4E77-A886-912183E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68DFF5-F03D-46FC-A356-7EDEAB2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8BA814-452A-4990-8644-A6AFC7CF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17249F-5D03-4083-B5DF-448AB5E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B645-0D0B-43DA-8FB8-65620E92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DADB5-6160-439F-B822-C42D295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2756A9-4F41-4FD4-8C85-F842DCE2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F178BF-1D78-46AA-9457-B690E0D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4BF4FB-3802-4FF2-9907-BB4A19C7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30DD3B-ED63-44A5-B77A-5B239A3A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22767E-4A36-4DB5-90DA-0B3D4D1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5EF2EB-8F44-48A1-9B36-1322A04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F43D38-47DB-4615-ACCF-BD4368C1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D09D12-F0E6-4696-AAAD-2A35AFA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6A6704-B8FD-4B05-B5DC-CCDF8A3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04B1-4F38-493F-A9F9-8C4845E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3345C2-00EB-46B8-87AA-C835771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0F1140-364E-4B4E-9FC3-507817A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4F5DEB-4C9E-40E5-A626-0FE27A2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AF5C0F-7854-4EA6-96D7-2827D227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83E25E-2A35-44A3-AE0D-55FF960C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928D4C-3803-4EAB-B2E4-6B52A6D2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9689A3-3336-4489-8A09-88F1AFE4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1B34C4-2883-450E-B752-FD8891E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863D25-08C3-4507-B1CC-8F81E7C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6E02BD-FFB6-48FA-90C3-C12C00F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781C-C16E-48E3-ADC1-0E39931B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FC6F01-D436-4688-94F4-0A08BEFD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82B39E-B3D7-4EFF-BA8A-D7F4C9C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13E3D7-F845-4754-90E6-34D6103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99AB9B-51FE-46E4-AE8B-45ACB67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149E51-2922-44A4-8C73-EE77F019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514EC-3946-41C7-9510-D7360BAA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2260BB-522D-4682-AD37-CB80E88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3C8ADA-8C2F-44FC-8AD4-295D14CA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E793BE-2F67-4B94-A659-A115D19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F39AA6-4230-4318-9FA4-12D40CDE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958-6DE8-4B1B-A6D1-F506C181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A76E-2B3B-4B8B-AE97-ED717AB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C320D3-D7E9-454E-8A54-EF2A8836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F86F87-5A04-4EBE-BA05-61B3F0EC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C4AF2F-A5C2-4600-B769-22BC9408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67BDD0-BC5E-40A2-9C73-89752A8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C41BF1-56E0-4EB8-880D-566A62D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2AE06F-D0CE-4036-850E-FAB4CF5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DDA5ED-DAD7-478A-B1C6-F0932B6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6BC851-84C5-4B81-9B86-DB509432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B753AB-8BDF-49AA-8B3E-4BEA5A3C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369E30-6AC0-4FBB-8F2E-353BCFED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E63C-BE1D-4B60-8DCE-856C6E0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3A1195-3EBC-4038-ABEE-3FB55C9E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AAE09F-5B81-41C6-8548-DD1BB2F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072C25-497F-42B3-9661-3B5AAEF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DCD15C-5F9F-486E-8CD9-9BF3CB7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EAC441-1CB7-4FCB-99BC-3546AD4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C78982-A965-4246-81AB-2EF9E45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81BA6E-9907-417C-8D80-21C47BB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9F1C39-0EA0-45BB-8B5A-8E14C9A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5BA8AC-6769-4BFD-B26A-E03612D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B615D7-DEA3-4911-B8D9-8C839193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7427-1ED4-42F8-B371-DFF1F9B3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03A752-0F1A-402E-B68F-22405906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66CD82-2693-4843-9504-611DF167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F621BA-C42F-472A-BBAD-F07DC197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1BD26E-12EF-4355-9A5B-C4BE91FF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26041C-7F53-457C-9E2D-2A1353D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A406E1-4BED-4919-AAE8-139A288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D14451-E6A9-4034-B01C-DCD3B68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862A19-7958-4480-978D-E099C02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F354CB-82D6-4719-986F-1F325F9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CDB229-BDC4-420C-BCFF-B8771528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C538-7FA4-4050-9BD1-1EF8E52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F47B7C-ED0E-4E01-AAEA-682942F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8A52F7-EAAB-44B5-BF22-6AA485B9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02F48A-80FD-464A-8A4D-1662504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2ADFB8-AC86-4715-BE6D-12150E23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AB8350-F3C7-447A-A29B-ECBBB9B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29C810-256F-4A6D-A10E-4FD12D0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088D0A-FC38-4194-965C-92A099B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3744F0-E5B6-4084-B232-D27BAB2A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24B339-72DF-49FA-81EC-14A426FF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648E4C-55A8-40A2-ADAC-EFBA5D7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B9D1-F88D-4DFB-B4D3-4825A18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BC1DB0-EAA6-4F47-93B7-F67EFBC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AA4501-F7C3-4320-AEB4-BB1BF9A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ED9A04-97AB-4BCD-8D46-D807353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59BAB3-3D2D-4BCA-B3B4-E892F647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0F6B2B-5E8D-4B7C-AEED-C87DB8BA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0264C1-4BD2-4324-994D-9AB87D5A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0499E8-945B-4D5E-A120-CB010BF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FA8442-61DA-4B04-9153-53373B80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7A4469-8D39-4B8F-AA8D-207E5DF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2A6645-B301-4079-AE44-2E44E4C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4A9B-6EF4-47F9-AD77-33A96E5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131478-4ED0-49DC-BF07-07D27C1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244FCD-50AF-46CC-A4DB-87881E9F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36AD93-7517-486F-A8C0-B6E42A8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895771-F2F2-424D-AE63-FA66D76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43BACD-E606-4B67-B1A7-7BE68B9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3035AC-4CA1-4664-9B19-19F02143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5AAD5E-C805-43D6-86A0-BFE84B3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2EA1A1-C705-4636-9F38-E211B560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AFB340-67F7-4527-A887-913D7E70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340F29-632F-4A68-848C-AE6C08F1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5082-63D8-4D6D-93DB-850905C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634BA9-820D-4837-9640-59D38F1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577544-8EBC-4912-9AFE-42AFC79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8CE5F1-19BB-466B-B7CD-80B3F0D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79EF4C-E69C-4A23-8303-6C4F4DC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009AE9-3A1A-4766-A349-4681A386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C2BD3A-DFBE-4BB9-8E52-A7CDB86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33E37E-38DF-46E6-AC4D-5E87ED8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2186F4-8E0F-43D8-887D-E7D9DC4F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778743-B935-4C56-BB6F-088C2EC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80B283-0FC6-4738-A16B-9D199ACD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B204-BC02-4837-BEB2-4A759857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B8D486-6B8A-4675-B793-3497ED5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62861F-1610-4940-B83E-8FCDEC0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0DB25B-131F-4AD8-A5F6-BF64051B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AED972-7E89-4BBB-9ABA-DE17DDA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F4E9F6-1E45-4704-8900-4FE23D04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30E547-BA73-4F9A-8C9C-9A131C8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FA367E-3F99-426F-9571-3F7157C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DB7B8D-BDA9-4E79-923E-DAF7672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372DDF-D0CF-436C-B44E-63562086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6CCE47-1461-4526-80B0-8F769C64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03BA-391E-4D1D-B7AE-E57E0DE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678388-F312-4292-80B2-FA0A6AD4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D43766-7F9F-4FBA-9648-D1C041CD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688310-D0ED-4ACF-9C97-56F2797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1046CC-97CA-48E3-A452-E5E160E8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F52A0F-C145-45B8-836D-2CE0E48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3242DF-E798-41A7-9860-AF38F36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5881F0-4FEE-4B75-84E9-066AE28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EF22E2-EE41-47FF-A9FA-F493216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1DCE71-FFD8-4675-90AB-2FE58C9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36F272-D7BD-49F6-9E2A-B1AB707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FE10-3731-48F3-9930-BBA52E8B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7D82A8-50A3-4828-8A97-064ED75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57CCA4-1CDB-44DE-B414-CD33127D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89570B-7A5F-4982-AF32-85881AE2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F36709-E748-4DC0-A575-257A2EB4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4F050A-9F8B-4BE2-A009-82A2F53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2CC9D1-238D-4985-B254-28184768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B1DC65-03AC-48A9-8C0D-E19E1A19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05AA86-5951-41F0-A2B5-3BEAF6F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15D71A-95E3-4DCD-808D-6B3CD12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0AEDD2-139F-4F44-B602-B392F9A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373-3DC6-4261-9F12-683E39A3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61ED-13DF-4731-9C5F-2C3DC0E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B28D6D-60CD-41EC-91F1-432D3C4B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1B386F-7209-432D-8894-5736DF6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1B936B-62C9-4DE8-9694-346E7B6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6C69A5-2DBE-454E-8867-509FAB01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0ED9A6-B124-4A62-B82E-96CD08E3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0D9AD8-BB3D-4873-90D1-1ADD604F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C273F0-C599-4EFB-B01E-22539BF6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615FB3-6CBA-449D-B29B-49A2839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F806A7C-DD44-421B-AF5B-F6BC8C1F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4505F5-6E42-439B-BD49-332148D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7007C-E135-456D-B799-BC7507E5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93226D-6F8C-4C2B-BCB8-29A87ACA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5FEE40-886A-4E6A-B55F-7149909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CC5B83-66FF-46A1-9633-D33AB10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0CAB81-7429-424C-A2B2-E86A2F6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AE984C-3455-4579-9BF9-8449208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43A7C6-7EC6-49EE-A947-F1735386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9980DB-3B83-4D29-8F47-43EFFA3D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BE757F-CC55-4D53-B6D9-340DAEC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6FB392-BBEA-4218-855D-6244824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4C6731-F3E3-44E5-B92C-DF8B3F1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B38B-3E89-4B4C-A5E9-5E812E75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0FA147-6FDF-44F7-A4BC-75F1B31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9F7131-859E-4BF9-8333-567B8E8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4F5841-D4DD-4FCB-AB4D-455D5DA9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08D007-A3D9-4E0A-9115-7929E95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117E92-ED58-4F04-8620-55AD344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677FA3-F992-4E45-B44C-33C9BB1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DCC9A8-7B26-4C91-A32C-E5C81FE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CA3595-5933-4FB8-9A07-8108A7C5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4F8AC0F-8157-41F7-8C8D-490D43E5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305B00-2655-4C54-8771-23939636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EB459-E1FD-4AB5-86AA-F913453D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D593CB-0AA7-4C8A-B3A1-BBE1F62E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14BFFC-5D39-40CC-9800-CE94645B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89034F-451B-4060-9C07-B3175DE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0E35C8-CE5E-4266-98AA-ED991C3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2546E2-AD18-441C-BF32-69645B3E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87DAD7-0957-4170-8903-52DF0A9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671C10-84B9-4A40-9E2E-0788739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3DD7B3-47D5-4FC5-B2E8-673E0AB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1CDFEA-43E8-4ECA-B303-9C02D93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4BF015-A5D4-4C2E-86BC-1E4A945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EEA8-BE0B-4FED-96D2-EF63A16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DAD357-1384-479F-BD10-8D87B814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060518-F037-44AF-B5D1-4FD41712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BC0EF6-A890-4D57-820C-B91A228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068F61-C52C-45AD-964E-AC61F23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40F550-7731-41A3-BBCC-51C6C7D8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606CC5-7A86-41E2-9A64-C9065E74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A0E18A-ADA1-42FF-9DC0-ED6E564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53EC10-BBCA-448F-B6C4-7D6DED0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C90D5D-9B22-4B8D-BDDD-C1D6CC7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E5EAEB-AF4C-4A2A-9586-1FC1637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7D5E-4402-42C1-8DB3-4ACB11E1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56C91D-7289-45D7-AC07-7A9FB36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74F017-316A-42BB-B418-755431F9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4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5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D3D76C-0436-4B1D-8181-AE570D2C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F5C4BB-1D90-4E2F-AABE-AC21CAD0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B0F8E9D-642C-415B-9B12-2517851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AF6B69-AA0C-4A28-9FFC-BBDB1459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8A642B-DE93-48BB-8B2D-4E07FA0F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37EF5B-EACE-4A4C-957B-9A7A300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C6F241-B7E6-4FB5-B128-FB80834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7E7756-20DB-4A0C-ADA3-47C04593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E3580-79CC-4BB6-A5F8-5C4436F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6C0429-74D2-41CA-9085-82E9458A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1D18E5-515D-43A6-89FD-42E9ADC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945D54-9208-4425-9F99-A47672B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0AB79B-0964-493C-82CC-357DDBED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A525EE-DDBD-4A04-8130-F9EAC075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7629A4-965C-4BE3-B57B-E1CDB66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2ACAE7-420C-4961-B364-F9211DB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A9F3CB-486B-438C-939F-D049828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09310B-9EBD-433F-87AB-68292B0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915401-6EAD-45E8-8E3D-8C94E783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1545-0D8E-4437-9154-2E35258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24EFE8-EBFE-492F-AB3E-24CEC02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ABA91D-981C-4F4B-A534-AEF2AAB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42D21B-DA6B-4355-BFF2-A785F42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FA9756-771B-43F2-93F1-773AD75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79FB93-3931-4381-B75F-59D44754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E8F7E0-2021-4BEA-A95B-CBE1A4D5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F91E20-2825-4C20-B77D-678409CD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55BB-5547-40AC-B341-3E6B5D6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7C79-55AC-40EF-BD3C-C46BFFC6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993-E395-4EEE-841E-2D1531FA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6E92-DC01-437C-82AB-32A61DE4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3612-E5A6-4F39-BAB2-101C1B0A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3BC2-1F46-4F1F-BEB7-224175CA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E23F1-A69F-4889-98F9-8DFBEAE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747D-51A2-459B-8C5C-1AFF97B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1068-3F01-4FA8-9358-0C36AD4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7243-4629-42CC-8FD0-B8BD42F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EC02-AD31-4DF2-93C3-EA961A3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77F1-0239-49E6-A21E-3DA4BD4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F3A8D-5AF3-48CA-89FA-2588197D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F11-C2B6-451E-8438-A048D6D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C11C-7347-4143-81F8-1D07D0E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3309-0B62-4D63-B901-E162AB7E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97E4-3939-46E2-B83F-021A7C07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D69B-4AA9-43C2-92B2-A4390A07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B03F-2E07-4314-9796-1848541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B144-2EC0-406D-8A4F-7264780C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45FD-929F-4FBB-AB27-A60EBC23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A396-FED5-4D59-9F8B-E1E61A2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561D-9938-47AD-8753-B94CC5C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2FD0-2943-494F-AEE2-F5476A2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653-ABB1-44E0-936A-25D5927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5A33-8512-4B08-BB4E-71D64D5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51BD-64FC-406C-8104-F080252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36C0-2798-49B8-8F47-5C68A9E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387F-110D-413F-BDA7-F699E784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D481-38DC-4A8C-AECC-FBE2E0E1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CB6B-C2FF-4242-8082-FDC8BE27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AC15-4C20-456F-BE3E-3C81C1F2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A1F3C-F7AE-42B8-ABB2-0420DEB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E4F8-4409-463F-A460-D03E4548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23CC-1230-4598-A718-77C4ADE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4C8-32C4-4BE8-9E92-7815024F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55640" y="21276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E8562-0B1A-48B2-BE14-1117E250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AA55-C2D6-4CB7-AB26-F08420A3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7FBE-40EF-4F43-9CE6-078D27BF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D64C-FB64-4F02-B3FD-305A7C8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80920-637C-49F9-8FDA-E8554B94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36D8C-FCDB-4391-9AE0-221749E5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0DCF-431B-4208-8879-672B1379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A336-33D0-481B-8C1B-A76BF32A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507DA-7A0C-4B17-BA47-7B72209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BD40B-9DDE-40E8-98AB-41C4F48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F2F-B86D-429A-A74E-01FF8004F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754200" y="126540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DC0-BA91-402B-BCF5-77655E5DF5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473-E4F9-49AF-89A9-42FAC650F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28B-74B0-4518-BAE4-B02F10D12E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C60-1D52-4BFD-96A0-C64F1C9ECE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0F1-2A30-4D7B-BA02-101AFD97F3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1DD-259E-45F9-8A51-AE383CCF14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4BE8-C3C8-4D1A-A2CC-A8628059AED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EDF0-9625-4875-B885-9070154D189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5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5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D32-D813-478D-9C4C-6E3407E8900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BC7-2D32-463A-880B-411917169B2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4226-7FBC-4196-A6D2-296D4414469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6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1E4B-5682-4572-872F-8EA1B71E63C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40D-AA40-4A83-8722-33191F9B66F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17A-5F54-4228-9F43-EC3C8A40902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EF8-0E50-45FB-9B2A-843E6D424BE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7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7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E63-7A35-41CB-99D1-9D7270ED6A6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187-696F-4340-97AA-D7F8BD659CF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225-0993-49DA-B9D4-59A494637F2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8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8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CAC-55A6-4611-85A8-D7CAB02EE62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735-BD14-4EB7-A671-1E36C2EBC96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324-2CC5-482F-8A26-8B920503406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1C86-663D-4185-BEED-6A080BE126A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9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C80B-8BEF-4FC5-9E75-AB72EAB0A7D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9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9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C3D0-2993-4CED-871F-60709040F58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9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9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9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677-F019-4EAA-8DA2-3900A550AA5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9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9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9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A5F3-D37D-4CBF-968B-C0C6625DA93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dt" idx="10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ftr" idx="10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0DF-08B6-45AE-AAF7-DC49097C394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 type="dt" idx="10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 type="ftr" idx="10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020-5CEB-4C55-B8C7-A1DFDB5A5CE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3B32-CB63-4F4D-89D8-3099FE8F4B2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 type="dt" idx="10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 type="ftr" idx="1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395A-F37F-4629-9813-88043620DFF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Line 7"/>
          <p:cNvSpPr/>
          <p:nvPr/>
        </p:nvSpPr>
        <p:spPr>
          <a:xfrm>
            <a:off x="657360" y="629604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8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11"/>
          <p:cNvSpPr/>
          <p:nvPr/>
        </p:nvSpPr>
        <p:spPr>
          <a:xfrm>
            <a:off x="727200" y="29782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11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11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114"/>
          </p:nvPr>
        </p:nvSpPr>
        <p:spPr>
          <a:xfrm>
            <a:off x="846720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38CA-2CA8-4C99-951B-FB8F509F5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115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11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117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B17-8928-4902-B3D1-9F0299EBA4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7962-20A8-4E47-8D3D-9F51E33555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754200" y="126540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18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1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20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AB2-7B99-4F5B-B3F6-D0F9D26904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dt" idx="12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ftr" idx="12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 type="sldNum" idx="12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4E3-F6B6-4FA8-ABCA-64A22B3F95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dt" idx="124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ftr" idx="12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 type="sldNum" idx="126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B7E-1409-4AEB-857D-69F6C1DE38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27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2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29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3E9-294C-4F5A-B957-189A891AE4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30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3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32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337-64EB-4E80-A613-0FBDB38B86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33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3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135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3A73-AEF6-4E9D-8B1D-6F9F3BB754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 type="dt" idx="136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 type="ftr" idx="13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 type="sldNum" idx="138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85F-876C-4EB4-AEC8-E153EE1982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 type="dt" idx="139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 type="ftr" idx="14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 type="sldNum" idx="141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8633-B0F5-4B05-B23C-EB670299C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142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14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144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D68-C5A9-4CD4-A931-E9D28A63B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7"/>
          <p:cNvSpPr/>
          <p:nvPr/>
        </p:nvSpPr>
        <p:spPr>
          <a:xfrm>
            <a:off x="657360" y="629604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727200" y="29782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46720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09C3-ACF9-4968-B7B4-906A823071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9EE-4627-49D3-AD17-7A537E778F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BE7-BE00-4F7E-9BE5-C4ED9DB79F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639B-A21E-45BA-AB75-3B3677E37A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CB33-CDE3-44AB-BB72-F3589D343E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8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45920" y="164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ity in Content Delive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subTitle"/>
          </p:nvPr>
        </p:nvSpPr>
        <p:spPr>
          <a:xfrm>
            <a:off x="1523880" y="411588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9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IETF Beijing, November 2010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yu Myoung Le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gm.lee@it-sudparis.eu)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7" name="슬라이드 번호 개체 틀 3"/>
          <p:cNvSpPr/>
          <p:nvPr/>
        </p:nvSpPr>
        <p:spPr>
          <a:xfrm>
            <a:off x="8467560" y="6240600"/>
            <a:ext cx="100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860-2E69-4D27-AA25-8CEFF8756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til n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731520" y="1468080"/>
            <a:ext cx="8420040" cy="25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vice mobility, user mobility, session mobilit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ulticast source mobility for future work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MIP MN may be a multicast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A which is a fixed node for MN can act as 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T can also refreshed in a network-based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슬라이드 번호 개체 틀 3"/>
          <p:cNvSpPr/>
          <p:nvPr/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224-E7EF-4A0B-B6A1-BC6E584CA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제목 1"/>
          <p:cNvSpPr/>
          <p:nvPr/>
        </p:nvSpPr>
        <p:spPr>
          <a:xfrm>
            <a:off x="755640" y="3971880"/>
            <a:ext cx="84456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굴림체"/>
              </a:rPr>
              <a:t>New item propos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내용 개체 틀 2"/>
          <p:cNvSpPr/>
          <p:nvPr/>
        </p:nvSpPr>
        <p:spPr>
          <a:xfrm>
            <a:off x="731880" y="4707000"/>
            <a:ext cx="8420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굴림체"/>
              </a:rPr>
              <a:t>Content mo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Multicast server hand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Content mov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Cloud 3"/>
          <p:cNvSpPr/>
          <p:nvPr/>
        </p:nvSpPr>
        <p:spPr>
          <a:xfrm>
            <a:off x="1733400" y="4081320"/>
            <a:ext cx="6108840" cy="1752840"/>
          </a:xfrm>
          <a:custGeom>
            <a:avLst/>
            <a:gdLst>
              <a:gd name="textAreaLeft" fmla="*/ 841680 w 6108840"/>
              <a:gd name="textAreaRight" fmla="*/ 4832640 w 6108840"/>
              <a:gd name="textAreaTop" fmla="*/ 264600 h 1752840"/>
              <a:gd name="textAreaBottom" fmla="*/ 1406880 h 1752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4" name="Straight Arrow Connector 5"/>
          <p:cNvCxnSpPr>
            <a:stCxn id="1995" idx="0"/>
            <a:endCxn id="1996" idx="2"/>
          </p:cNvCxnSpPr>
          <p:nvPr/>
        </p:nvCxnSpPr>
        <p:spPr>
          <a:xfrm flipV="1">
            <a:off x="3381840" y="5341680"/>
            <a:ext cx="3960" cy="102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7" name="Can 6"/>
          <p:cNvSpPr/>
          <p:nvPr/>
        </p:nvSpPr>
        <p:spPr>
          <a:xfrm>
            <a:off x="3054240" y="476712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9"/>
          <p:cNvSpPr/>
          <p:nvPr/>
        </p:nvSpPr>
        <p:spPr>
          <a:xfrm>
            <a:off x="3054240" y="636732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8" name="Rectangle 10" descr=""/>
          <p:cNvPicPr/>
          <p:nvPr/>
        </p:nvPicPr>
        <p:blipFill>
          <a:blip r:embed="rId1"/>
          <a:stretch/>
        </p:blipFill>
        <p:spPr>
          <a:xfrm>
            <a:off x="2919240" y="5078520"/>
            <a:ext cx="933480" cy="334800"/>
          </a:xfrm>
          <a:prstGeom prst="rect">
            <a:avLst/>
          </a:prstGeom>
          <a:ln w="0">
            <a:noFill/>
          </a:ln>
        </p:spPr>
      </p:pic>
      <p:sp>
        <p:nvSpPr>
          <p:cNvPr id="1999" name="Can 11"/>
          <p:cNvSpPr/>
          <p:nvPr/>
        </p:nvSpPr>
        <p:spPr>
          <a:xfrm>
            <a:off x="4952880" y="499572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Can 12"/>
          <p:cNvSpPr/>
          <p:nvPr/>
        </p:nvSpPr>
        <p:spPr>
          <a:xfrm>
            <a:off x="3467160" y="476712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0"/>
          <p:cNvSpPr/>
          <p:nvPr/>
        </p:nvSpPr>
        <p:spPr>
          <a:xfrm>
            <a:off x="6191280" y="6367320"/>
            <a:ext cx="66024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2" name="Straight Arrow Connector 21"/>
          <p:cNvCxnSpPr>
            <a:stCxn id="2003" idx="0"/>
          </p:cNvCxnSpPr>
          <p:nvPr/>
        </p:nvCxnSpPr>
        <p:spPr>
          <a:xfrm flipV="1">
            <a:off x="4950360" y="5528880"/>
            <a:ext cx="396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4" name="Straight Arrow Connector 23"/>
          <p:cNvCxnSpPr>
            <a:endCxn id="2005" idx="2"/>
          </p:cNvCxnSpPr>
          <p:nvPr/>
        </p:nvCxnSpPr>
        <p:spPr>
          <a:xfrm flipV="1">
            <a:off x="6353640" y="537624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3" name="Rectangle 24"/>
          <p:cNvSpPr/>
          <p:nvPr/>
        </p:nvSpPr>
        <p:spPr>
          <a:xfrm>
            <a:off x="4622760" y="636732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6" name="Straight Arrow Connector 32"/>
          <p:cNvCxnSpPr>
            <a:endCxn id="2007" idx="1"/>
          </p:cNvCxnSpPr>
          <p:nvPr/>
        </p:nvCxnSpPr>
        <p:spPr>
          <a:xfrm>
            <a:off x="3797280" y="5183280"/>
            <a:ext cx="743760" cy="2325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08" name="Straight Arrow Connector 36"/>
          <p:cNvCxnSpPr>
            <a:stCxn id="2007" idx="3"/>
          </p:cNvCxnSpPr>
          <p:nvPr/>
        </p:nvCxnSpPr>
        <p:spPr>
          <a:xfrm flipV="1">
            <a:off x="5365440" y="5262120"/>
            <a:ext cx="578520" cy="1533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09" name="Can 47"/>
          <p:cNvSpPr/>
          <p:nvPr/>
        </p:nvSpPr>
        <p:spPr>
          <a:xfrm>
            <a:off x="4540320" y="499572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Can 48"/>
          <p:cNvSpPr/>
          <p:nvPr/>
        </p:nvSpPr>
        <p:spPr>
          <a:xfrm>
            <a:off x="5861160" y="484344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1" name="Straight Arrow Connector 49"/>
          <p:cNvCxnSpPr/>
          <p:nvPr/>
        </p:nvCxnSpPr>
        <p:spPr>
          <a:xfrm>
            <a:off x="3797280" y="6517800"/>
            <a:ext cx="743760" cy="252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012" name="Straight Arrow Connector 62"/>
          <p:cNvCxnSpPr/>
          <p:nvPr/>
        </p:nvCxnSpPr>
        <p:spPr>
          <a:xfrm>
            <a:off x="5346360" y="6509880"/>
            <a:ext cx="762840" cy="10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13" name="Rectangle 67" descr=""/>
          <p:cNvPicPr/>
          <p:nvPr/>
        </p:nvPicPr>
        <p:blipFill>
          <a:blip r:embed="rId2"/>
          <a:stretch/>
        </p:blipFill>
        <p:spPr>
          <a:xfrm>
            <a:off x="4486320" y="5267160"/>
            <a:ext cx="933480" cy="341640"/>
          </a:xfrm>
          <a:prstGeom prst="rect">
            <a:avLst/>
          </a:prstGeom>
          <a:ln w="0">
            <a:noFill/>
          </a:ln>
        </p:spPr>
      </p:pic>
      <p:pic>
        <p:nvPicPr>
          <p:cNvPr id="2014" name="Rectangle 68" descr=""/>
          <p:cNvPicPr/>
          <p:nvPr/>
        </p:nvPicPr>
        <p:blipFill>
          <a:blip r:embed="rId3"/>
          <a:stretch/>
        </p:blipFill>
        <p:spPr>
          <a:xfrm>
            <a:off x="5888160" y="5108400"/>
            <a:ext cx="933480" cy="341640"/>
          </a:xfrm>
          <a:prstGeom prst="rect">
            <a:avLst/>
          </a:prstGeom>
          <a:ln w="0">
            <a:noFill/>
          </a:ln>
        </p:spPr>
      </p:pic>
      <p:sp>
        <p:nvSpPr>
          <p:cNvPr id="2015" name="TextBox 69"/>
          <p:cNvSpPr/>
          <p:nvPr/>
        </p:nvSpPr>
        <p:spPr>
          <a:xfrm>
            <a:off x="3695760" y="6326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Box 70"/>
          <p:cNvSpPr/>
          <p:nvPr/>
        </p:nvSpPr>
        <p:spPr>
          <a:xfrm>
            <a:off x="5283360" y="6291360"/>
            <a:ext cx="156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7" name="Curved Connector 75"/>
          <p:cNvCxnSpPr>
            <a:stCxn id="1997" idx="1"/>
            <a:endCxn id="2009" idx="1"/>
          </p:cNvCxnSpPr>
          <p:nvPr/>
        </p:nvCxnSpPr>
        <p:spPr>
          <a:xfrm flipH="1" rot="16200000">
            <a:off x="3888360" y="4138200"/>
            <a:ext cx="229320" cy="1486440"/>
          </a:xfrm>
          <a:prstGeom prst="curvedConnector5">
            <a:avLst>
              <a:gd name="adj1" fmla="val -60691"/>
              <a:gd name="adj2" fmla="val 50000"/>
              <a:gd name="adj3" fmla="val -6069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8" name="Curved Connector 94"/>
          <p:cNvCxnSpPr>
            <a:stCxn id="1997" idx="1"/>
            <a:endCxn id="2010" idx="1"/>
          </p:cNvCxnSpPr>
          <p:nvPr/>
        </p:nvCxnSpPr>
        <p:spPr>
          <a:xfrm flipH="1" rot="16200000">
            <a:off x="4626000" y="3401640"/>
            <a:ext cx="76680" cy="2807280"/>
          </a:xfrm>
          <a:prstGeom prst="curvedConnector5">
            <a:avLst>
              <a:gd name="adj1" fmla="val -301415"/>
              <a:gd name="adj2" fmla="val 49993"/>
              <a:gd name="adj3" fmla="val -301415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9" name="Curved Connector 125"/>
          <p:cNvCxnSpPr>
            <a:stCxn id="2009" idx="1"/>
            <a:endCxn id="2010" idx="1"/>
          </p:cNvCxnSpPr>
          <p:nvPr/>
        </p:nvCxnSpPr>
        <p:spPr>
          <a:xfrm flipH="1" flipV="1" rot="5400000">
            <a:off x="5329440" y="4258800"/>
            <a:ext cx="153000" cy="1321200"/>
          </a:xfrm>
          <a:prstGeom prst="curvedConnector5">
            <a:avLst>
              <a:gd name="adj1" fmla="val 250000"/>
              <a:gd name="adj2" fmla="val 49986"/>
              <a:gd name="adj3" fmla="val 2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0" name="TextBox 126"/>
          <p:cNvSpPr/>
          <p:nvPr/>
        </p:nvSpPr>
        <p:spPr>
          <a:xfrm>
            <a:off x="3467160" y="438624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Box 128"/>
          <p:cNvSpPr/>
          <p:nvPr/>
        </p:nvSpPr>
        <p:spPr>
          <a:xfrm>
            <a:off x="4622760" y="4538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Can 129"/>
          <p:cNvSpPr/>
          <p:nvPr/>
        </p:nvSpPr>
        <p:spPr>
          <a:xfrm>
            <a:off x="6273720" y="4843440"/>
            <a:ext cx="33012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Box 130"/>
          <p:cNvSpPr/>
          <p:nvPr/>
        </p:nvSpPr>
        <p:spPr>
          <a:xfrm>
            <a:off x="4457880" y="436248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Cloud 29"/>
          <p:cNvSpPr/>
          <p:nvPr/>
        </p:nvSpPr>
        <p:spPr>
          <a:xfrm>
            <a:off x="1816200" y="952560"/>
            <a:ext cx="6108480" cy="1600200"/>
          </a:xfrm>
          <a:custGeom>
            <a:avLst/>
            <a:gdLst>
              <a:gd name="textAreaLeft" fmla="*/ 841680 w 6108480"/>
              <a:gd name="textAreaRight" fmla="*/ 4832280 w 6108480"/>
              <a:gd name="textAreaTop" fmla="*/ 241560 h 1600200"/>
              <a:gd name="textAreaBottom" fmla="*/ 1284480 h 1600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Straight Arrow Connector 30"/>
          <p:cNvCxnSpPr>
            <a:stCxn id="2026" idx="0"/>
            <a:endCxn id="2027" idx="2"/>
          </p:cNvCxnSpPr>
          <p:nvPr/>
        </p:nvCxnSpPr>
        <p:spPr>
          <a:xfrm flipV="1">
            <a:off x="3464280" y="2059920"/>
            <a:ext cx="3960" cy="102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8" name="Can 31"/>
          <p:cNvSpPr/>
          <p:nvPr/>
        </p:nvSpPr>
        <p:spPr>
          <a:xfrm>
            <a:off x="3137040" y="1521000"/>
            <a:ext cx="41256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33"/>
          <p:cNvSpPr/>
          <p:nvPr/>
        </p:nvSpPr>
        <p:spPr>
          <a:xfrm>
            <a:off x="3137040" y="3086280"/>
            <a:ext cx="66024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9" name="Rectangle 34" descr=""/>
          <p:cNvPicPr/>
          <p:nvPr/>
        </p:nvPicPr>
        <p:blipFill>
          <a:blip r:embed="rId4"/>
          <a:stretch/>
        </p:blipFill>
        <p:spPr>
          <a:xfrm>
            <a:off x="2998800" y="179244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30" name="Can 35"/>
          <p:cNvSpPr/>
          <p:nvPr/>
        </p:nvSpPr>
        <p:spPr>
          <a:xfrm>
            <a:off x="5035680" y="1714680"/>
            <a:ext cx="33012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Can 37"/>
          <p:cNvSpPr/>
          <p:nvPr/>
        </p:nvSpPr>
        <p:spPr>
          <a:xfrm>
            <a:off x="3549600" y="153036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38"/>
          <p:cNvSpPr/>
          <p:nvPr/>
        </p:nvSpPr>
        <p:spPr>
          <a:xfrm>
            <a:off x="6273720" y="308628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3" name="Straight Arrow Connector 39"/>
          <p:cNvCxnSpPr>
            <a:stCxn id="2034" idx="0"/>
            <a:endCxn id="2029" idx="2"/>
          </p:cNvCxnSpPr>
          <p:nvPr/>
        </p:nvCxnSpPr>
        <p:spPr>
          <a:xfrm flipH="1" flipV="1">
            <a:off x="3466440" y="2059920"/>
            <a:ext cx="156924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5" name="Straight Arrow Connector 40"/>
          <p:cNvCxnSpPr>
            <a:stCxn id="2032" idx="0"/>
            <a:endCxn id="2029" idx="2"/>
          </p:cNvCxnSpPr>
          <p:nvPr/>
        </p:nvCxnSpPr>
        <p:spPr>
          <a:xfrm flipH="1" flipV="1">
            <a:off x="3466440" y="2059920"/>
            <a:ext cx="313740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34" name="Rectangle 41"/>
          <p:cNvSpPr/>
          <p:nvPr/>
        </p:nvSpPr>
        <p:spPr>
          <a:xfrm>
            <a:off x="4705200" y="3086280"/>
            <a:ext cx="66060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ser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6" name="Straight Arrow Connector 42"/>
          <p:cNvCxnSpPr/>
          <p:nvPr/>
        </p:nvCxnSpPr>
        <p:spPr>
          <a:xfrm>
            <a:off x="3879720" y="1901520"/>
            <a:ext cx="743760" cy="244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37" name="Straight Arrow Connector 43"/>
          <p:cNvCxnSpPr>
            <a:stCxn id="2038" idx="3"/>
          </p:cNvCxnSpPr>
          <p:nvPr/>
        </p:nvCxnSpPr>
        <p:spPr>
          <a:xfrm flipV="1">
            <a:off x="5447880" y="1980720"/>
            <a:ext cx="578520" cy="1533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39" name="Can 44"/>
          <p:cNvSpPr/>
          <p:nvPr/>
        </p:nvSpPr>
        <p:spPr>
          <a:xfrm>
            <a:off x="4622760" y="1714680"/>
            <a:ext cx="41292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Can 45"/>
          <p:cNvSpPr/>
          <p:nvPr/>
        </p:nvSpPr>
        <p:spPr>
          <a:xfrm>
            <a:off x="5943600" y="156204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1" name="Straight Arrow Connector 46"/>
          <p:cNvCxnSpPr/>
          <p:nvPr/>
        </p:nvCxnSpPr>
        <p:spPr>
          <a:xfrm>
            <a:off x="3879720" y="3236400"/>
            <a:ext cx="743760" cy="252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042" name="Straight Arrow Connector 50"/>
          <p:cNvCxnSpPr/>
          <p:nvPr/>
        </p:nvCxnSpPr>
        <p:spPr>
          <a:xfrm>
            <a:off x="5428800" y="3228480"/>
            <a:ext cx="762840" cy="10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43" name="Rectangle 51" descr=""/>
          <p:cNvPicPr/>
          <p:nvPr/>
        </p:nvPicPr>
        <p:blipFill>
          <a:blip r:embed="rId5"/>
          <a:stretch/>
        </p:blipFill>
        <p:spPr>
          <a:xfrm>
            <a:off x="4565520" y="1987560"/>
            <a:ext cx="939960" cy="341280"/>
          </a:xfrm>
          <a:prstGeom prst="rect">
            <a:avLst/>
          </a:prstGeom>
          <a:ln w="0">
            <a:noFill/>
          </a:ln>
        </p:spPr>
      </p:pic>
      <p:pic>
        <p:nvPicPr>
          <p:cNvPr id="2044" name="Rectangle 52" descr=""/>
          <p:cNvPicPr/>
          <p:nvPr/>
        </p:nvPicPr>
        <p:blipFill>
          <a:blip r:embed="rId6"/>
          <a:stretch/>
        </p:blipFill>
        <p:spPr>
          <a:xfrm>
            <a:off x="5973840" y="182880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45" name="TextBox 53"/>
          <p:cNvSpPr/>
          <p:nvPr/>
        </p:nvSpPr>
        <p:spPr>
          <a:xfrm>
            <a:off x="3778200" y="3044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Box 54"/>
          <p:cNvSpPr/>
          <p:nvPr/>
        </p:nvSpPr>
        <p:spPr>
          <a:xfrm>
            <a:off x="5365800" y="3009960"/>
            <a:ext cx="15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Can 60"/>
          <p:cNvSpPr/>
          <p:nvPr/>
        </p:nvSpPr>
        <p:spPr>
          <a:xfrm>
            <a:off x="6356520" y="1562040"/>
            <a:ext cx="33012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8" name="Straight Arrow Connector 80"/>
          <p:cNvCxnSpPr/>
          <p:nvPr/>
        </p:nvCxnSpPr>
        <p:spPr>
          <a:xfrm flipV="1">
            <a:off x="5035680" y="2249280"/>
            <a:ext cx="2160" cy="838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49" name="Straight Arrow Connector 84"/>
          <p:cNvCxnSpPr>
            <a:stCxn id="2032" idx="0"/>
          </p:cNvCxnSpPr>
          <p:nvPr/>
        </p:nvCxnSpPr>
        <p:spPr>
          <a:xfrm flipV="1">
            <a:off x="6601320" y="2096640"/>
            <a:ext cx="3960" cy="9914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50" name="TextBox 87"/>
          <p:cNvSpPr/>
          <p:nvPr/>
        </p:nvSpPr>
        <p:spPr>
          <a:xfrm>
            <a:off x="3384720" y="255276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Box 88"/>
          <p:cNvSpPr/>
          <p:nvPr/>
        </p:nvSpPr>
        <p:spPr>
          <a:xfrm>
            <a:off x="3962520" y="247644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Box 89"/>
          <p:cNvSpPr/>
          <p:nvPr/>
        </p:nvSpPr>
        <p:spPr>
          <a:xfrm>
            <a:off x="4375080" y="221616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Box 90"/>
          <p:cNvSpPr/>
          <p:nvPr/>
        </p:nvSpPr>
        <p:spPr>
          <a:xfrm>
            <a:off x="5695920" y="247644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Can 91"/>
          <p:cNvSpPr/>
          <p:nvPr/>
        </p:nvSpPr>
        <p:spPr>
          <a:xfrm>
            <a:off x="6603840" y="484344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Box 92"/>
          <p:cNvSpPr/>
          <p:nvPr/>
        </p:nvSpPr>
        <p:spPr>
          <a:xfrm>
            <a:off x="6556320" y="2400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6" name="Straight Arrow Connector 61"/>
          <p:cNvCxnSpPr>
            <a:stCxn id="2032" idx="0"/>
            <a:endCxn id="2043" idx="2"/>
          </p:cNvCxnSpPr>
          <p:nvPr/>
        </p:nvCxnSpPr>
        <p:spPr>
          <a:xfrm flipH="1" flipV="1">
            <a:off x="5035320" y="2247120"/>
            <a:ext cx="15688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57" name="TextBox 64"/>
          <p:cNvSpPr/>
          <p:nvPr/>
        </p:nvSpPr>
        <p:spPr>
          <a:xfrm>
            <a:off x="3301920" y="590544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Box 65"/>
          <p:cNvSpPr/>
          <p:nvPr/>
        </p:nvSpPr>
        <p:spPr>
          <a:xfrm>
            <a:off x="4870440" y="59054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Box 66"/>
          <p:cNvSpPr/>
          <p:nvPr/>
        </p:nvSpPr>
        <p:spPr>
          <a:xfrm>
            <a:off x="6356520" y="58294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,C2,C3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Box 74"/>
          <p:cNvSpPr/>
          <p:nvPr/>
        </p:nvSpPr>
        <p:spPr>
          <a:xfrm rot="1047600">
            <a:off x="3962520" y="18428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Box 76"/>
          <p:cNvSpPr/>
          <p:nvPr/>
        </p:nvSpPr>
        <p:spPr>
          <a:xfrm rot="1046400">
            <a:off x="3914280" y="5155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Box 71"/>
          <p:cNvSpPr/>
          <p:nvPr/>
        </p:nvSpPr>
        <p:spPr>
          <a:xfrm>
            <a:off x="857160" y="355680"/>
            <a:ext cx="5810400" cy="70380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ent from same server (without content mobility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Box 72"/>
          <p:cNvSpPr/>
          <p:nvPr/>
        </p:nvSpPr>
        <p:spPr>
          <a:xfrm>
            <a:off x="870120" y="3594240"/>
            <a:ext cx="3968640" cy="3988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ent mobility (content movin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Box 73"/>
          <p:cNvSpPr/>
          <p:nvPr/>
        </p:nvSpPr>
        <p:spPr>
          <a:xfrm>
            <a:off x="7442280" y="6286680"/>
            <a:ext cx="18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Box 80"/>
          <p:cNvSpPr/>
          <p:nvPr/>
        </p:nvSpPr>
        <p:spPr>
          <a:xfrm>
            <a:off x="5816520" y="4203720"/>
            <a:ext cx="87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Part or whole of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Cloud 3"/>
          <p:cNvSpPr/>
          <p:nvPr/>
        </p:nvSpPr>
        <p:spPr>
          <a:xfrm>
            <a:off x="1733400" y="914400"/>
            <a:ext cx="6108840" cy="1752480"/>
          </a:xfrm>
          <a:custGeom>
            <a:avLst/>
            <a:gdLst>
              <a:gd name="textAreaLeft" fmla="*/ 841680 w 6108840"/>
              <a:gd name="textAreaRight" fmla="*/ 4832640 w 6108840"/>
              <a:gd name="textAreaTop" fmla="*/ 264600 h 1752480"/>
              <a:gd name="textAreaBottom" fmla="*/ 1406880 h 1752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15840">
            <a:solidFill>
              <a:srgbClr val="385d8a">
                <a:alpha val="9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Straight Arrow Connector 5"/>
          <p:cNvCxnSpPr>
            <a:endCxn id="2068" idx="2"/>
          </p:cNvCxnSpPr>
          <p:nvPr/>
        </p:nvCxnSpPr>
        <p:spPr>
          <a:xfrm flipV="1">
            <a:off x="3054240" y="2174040"/>
            <a:ext cx="33120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69" name="Rectangle 9"/>
          <p:cNvSpPr/>
          <p:nvPr/>
        </p:nvSpPr>
        <p:spPr>
          <a:xfrm>
            <a:off x="3054240" y="3200400"/>
            <a:ext cx="33048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Rectangle 10" descr=""/>
          <p:cNvPicPr/>
          <p:nvPr/>
        </p:nvPicPr>
        <p:blipFill>
          <a:blip r:embed="rId1"/>
          <a:stretch/>
        </p:blipFill>
        <p:spPr>
          <a:xfrm>
            <a:off x="2919240" y="1908000"/>
            <a:ext cx="933480" cy="341640"/>
          </a:xfrm>
          <a:prstGeom prst="rect">
            <a:avLst/>
          </a:prstGeom>
          <a:ln w="0">
            <a:noFill/>
          </a:ln>
        </p:spPr>
      </p:pic>
      <p:sp>
        <p:nvSpPr>
          <p:cNvPr id="2071" name="Can 11"/>
          <p:cNvSpPr/>
          <p:nvPr/>
        </p:nvSpPr>
        <p:spPr>
          <a:xfrm>
            <a:off x="4952880" y="1828800"/>
            <a:ext cx="33048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Can 12"/>
          <p:cNvSpPr/>
          <p:nvPr/>
        </p:nvSpPr>
        <p:spPr>
          <a:xfrm>
            <a:off x="3467160" y="1600200"/>
            <a:ext cx="247680" cy="304920"/>
          </a:xfrm>
          <a:prstGeom prst="can">
            <a:avLst>
              <a:gd name="adj" fmla="val 2031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3" name="Straight Arrow Connector 21"/>
          <p:cNvCxnSpPr/>
          <p:nvPr/>
        </p:nvCxnSpPr>
        <p:spPr>
          <a:xfrm flipV="1">
            <a:off x="4950360" y="2363400"/>
            <a:ext cx="396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4" name="Straight Arrow Connector 23"/>
          <p:cNvCxnSpPr>
            <a:endCxn id="2075" idx="2"/>
          </p:cNvCxnSpPr>
          <p:nvPr/>
        </p:nvCxnSpPr>
        <p:spPr>
          <a:xfrm flipV="1">
            <a:off x="6353640" y="221076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6" name="Straight Arrow Connector 32"/>
          <p:cNvCxnSpPr/>
          <p:nvPr/>
        </p:nvCxnSpPr>
        <p:spPr>
          <a:xfrm>
            <a:off x="3797280" y="2015640"/>
            <a:ext cx="737280" cy="244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7" name="Straight Arrow Connector 36"/>
          <p:cNvCxnSpPr>
            <a:stCxn id="2078" idx="3"/>
          </p:cNvCxnSpPr>
          <p:nvPr/>
        </p:nvCxnSpPr>
        <p:spPr>
          <a:xfrm flipV="1">
            <a:off x="5365440" y="2094840"/>
            <a:ext cx="578520" cy="1530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79" name="Can 47"/>
          <p:cNvSpPr/>
          <p:nvPr/>
        </p:nvSpPr>
        <p:spPr>
          <a:xfrm>
            <a:off x="4540320" y="1828800"/>
            <a:ext cx="41256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Can 48"/>
          <p:cNvSpPr/>
          <p:nvPr/>
        </p:nvSpPr>
        <p:spPr>
          <a:xfrm>
            <a:off x="5861160" y="1676520"/>
            <a:ext cx="41256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1" name="Straight Arrow Connector 49"/>
          <p:cNvCxnSpPr>
            <a:stCxn id="2069" idx="2"/>
            <a:endCxn id="2082" idx="1"/>
          </p:cNvCxnSpPr>
          <p:nvPr/>
        </p:nvCxnSpPr>
        <p:spPr>
          <a:xfrm>
            <a:off x="3218400" y="3428640"/>
            <a:ext cx="330840" cy="191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pic>
        <p:nvPicPr>
          <p:cNvPr id="2083" name="Rectangle 67" descr=""/>
          <p:cNvPicPr/>
          <p:nvPr/>
        </p:nvPicPr>
        <p:blipFill>
          <a:blip r:embed="rId2"/>
          <a:stretch/>
        </p:blipFill>
        <p:spPr>
          <a:xfrm>
            <a:off x="4486320" y="2103480"/>
            <a:ext cx="933480" cy="341280"/>
          </a:xfrm>
          <a:prstGeom prst="rect">
            <a:avLst/>
          </a:prstGeom>
          <a:ln w="0">
            <a:noFill/>
          </a:ln>
        </p:spPr>
      </p:pic>
      <p:pic>
        <p:nvPicPr>
          <p:cNvPr id="2084" name="Rectangle 68" descr=""/>
          <p:cNvPicPr/>
          <p:nvPr/>
        </p:nvPicPr>
        <p:blipFill>
          <a:blip r:embed="rId3"/>
          <a:stretch/>
        </p:blipFill>
        <p:spPr>
          <a:xfrm>
            <a:off x="5888160" y="1944720"/>
            <a:ext cx="933480" cy="341280"/>
          </a:xfrm>
          <a:prstGeom prst="rect">
            <a:avLst/>
          </a:prstGeom>
          <a:ln w="0">
            <a:noFill/>
          </a:ln>
        </p:spPr>
      </p:pic>
      <p:sp>
        <p:nvSpPr>
          <p:cNvPr id="2085" name="TextBox 69"/>
          <p:cNvSpPr/>
          <p:nvPr/>
        </p:nvSpPr>
        <p:spPr>
          <a:xfrm>
            <a:off x="273060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Box 70"/>
          <p:cNvSpPr/>
          <p:nvPr/>
        </p:nvSpPr>
        <p:spPr>
          <a:xfrm>
            <a:off x="5200560" y="386856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r mobilit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7" name="Curved Connector 125"/>
          <p:cNvCxnSpPr/>
          <p:nvPr/>
        </p:nvCxnSpPr>
        <p:spPr>
          <a:xfrm flipH="1" flipV="1" rot="5400000">
            <a:off x="5288040" y="1091880"/>
            <a:ext cx="153000" cy="1321200"/>
          </a:xfrm>
          <a:prstGeom prst="curvedConnector5">
            <a:avLst>
              <a:gd name="adj1" fmla="val 250000"/>
              <a:gd name="adj2" fmla="val 49986"/>
              <a:gd name="adj3" fmla="val 2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88" name="TextBox 128"/>
          <p:cNvSpPr/>
          <p:nvPr/>
        </p:nvSpPr>
        <p:spPr>
          <a:xfrm>
            <a:off x="4705200" y="1371600"/>
            <a:ext cx="5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Can 129"/>
          <p:cNvSpPr/>
          <p:nvPr/>
        </p:nvSpPr>
        <p:spPr>
          <a:xfrm>
            <a:off x="6273720" y="1676520"/>
            <a:ext cx="33012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Can 91"/>
          <p:cNvSpPr/>
          <p:nvPr/>
        </p:nvSpPr>
        <p:spPr>
          <a:xfrm>
            <a:off x="6603840" y="1676520"/>
            <a:ext cx="33048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Box 95"/>
          <p:cNvSpPr/>
          <p:nvPr/>
        </p:nvSpPr>
        <p:spPr>
          <a:xfrm rot="18212400">
            <a:off x="2628720" y="271620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Box 64"/>
          <p:cNvSpPr/>
          <p:nvPr/>
        </p:nvSpPr>
        <p:spPr>
          <a:xfrm>
            <a:off x="3137040" y="273852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Box 65"/>
          <p:cNvSpPr/>
          <p:nvPr/>
        </p:nvSpPr>
        <p:spPr>
          <a:xfrm>
            <a:off x="4870440" y="2738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Box 66"/>
          <p:cNvSpPr/>
          <p:nvPr/>
        </p:nvSpPr>
        <p:spPr>
          <a:xfrm>
            <a:off x="6769080" y="2666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2,C3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TextBox 76"/>
          <p:cNvSpPr/>
          <p:nvPr/>
        </p:nvSpPr>
        <p:spPr>
          <a:xfrm rot="1046400">
            <a:off x="3914640" y="1988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gnal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Rectangle 77"/>
          <p:cNvSpPr/>
          <p:nvPr/>
        </p:nvSpPr>
        <p:spPr>
          <a:xfrm>
            <a:off x="272412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78"/>
          <p:cNvSpPr/>
          <p:nvPr/>
        </p:nvSpPr>
        <p:spPr>
          <a:xfrm>
            <a:off x="478800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79"/>
          <p:cNvSpPr/>
          <p:nvPr/>
        </p:nvSpPr>
        <p:spPr>
          <a:xfrm>
            <a:off x="1981080" y="3200400"/>
            <a:ext cx="33048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81"/>
          <p:cNvSpPr/>
          <p:nvPr/>
        </p:nvSpPr>
        <p:spPr>
          <a:xfrm>
            <a:off x="3962520" y="320040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Rectangle 82"/>
          <p:cNvSpPr/>
          <p:nvPr/>
        </p:nvSpPr>
        <p:spPr>
          <a:xfrm>
            <a:off x="231156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83"/>
          <p:cNvSpPr/>
          <p:nvPr/>
        </p:nvSpPr>
        <p:spPr>
          <a:xfrm>
            <a:off x="429264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Rectangle 85"/>
          <p:cNvSpPr/>
          <p:nvPr/>
        </p:nvSpPr>
        <p:spPr>
          <a:xfrm>
            <a:off x="668664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Rectangle 86"/>
          <p:cNvSpPr/>
          <p:nvPr/>
        </p:nvSpPr>
        <p:spPr>
          <a:xfrm>
            <a:off x="6191280" y="320040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4" name="Straight Arrow Connector 98"/>
          <p:cNvCxnSpPr>
            <a:endCxn id="2070" idx="2"/>
          </p:cNvCxnSpPr>
          <p:nvPr/>
        </p:nvCxnSpPr>
        <p:spPr>
          <a:xfrm flipV="1">
            <a:off x="2310480" y="2174040"/>
            <a:ext cx="1073520" cy="10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05" name="Rectangle 102"/>
          <p:cNvSpPr/>
          <p:nvPr/>
        </p:nvSpPr>
        <p:spPr>
          <a:xfrm>
            <a:off x="511812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103"/>
          <p:cNvSpPr/>
          <p:nvPr/>
        </p:nvSpPr>
        <p:spPr>
          <a:xfrm>
            <a:off x="7016760" y="3200400"/>
            <a:ext cx="330120" cy="228600"/>
          </a:xfrm>
          <a:prstGeom prst="rect">
            <a:avLst/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Rectangle 110"/>
          <p:cNvSpPr/>
          <p:nvPr/>
        </p:nvSpPr>
        <p:spPr>
          <a:xfrm>
            <a:off x="3549600" y="3505320"/>
            <a:ext cx="33012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7" name="Straight Arrow Connector 113"/>
          <p:cNvCxnSpPr>
            <a:stCxn id="2082" idx="3"/>
            <a:endCxn id="2099" idx="2"/>
          </p:cNvCxnSpPr>
          <p:nvPr/>
        </p:nvCxnSpPr>
        <p:spPr>
          <a:xfrm flipV="1">
            <a:off x="3879720" y="3428280"/>
            <a:ext cx="248400" cy="191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2108" name="Rectangle 118"/>
          <p:cNvSpPr/>
          <p:nvPr/>
        </p:nvSpPr>
        <p:spPr>
          <a:xfrm>
            <a:off x="5530680" y="3657600"/>
            <a:ext cx="330480" cy="228600"/>
          </a:xfrm>
          <a:prstGeom prst="rect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U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9" name="Straight Arrow Connector 121"/>
          <p:cNvCxnSpPr>
            <a:stCxn id="2108" idx="3"/>
            <a:endCxn id="2103" idx="2"/>
          </p:cNvCxnSpPr>
          <p:nvPr/>
        </p:nvCxnSpPr>
        <p:spPr>
          <a:xfrm flipV="1">
            <a:off x="5861160" y="3428280"/>
            <a:ext cx="496080" cy="343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cxnSp>
        <p:nvCxnSpPr>
          <p:cNvPr id="2110" name="Straight Arrow Connector 132"/>
          <p:cNvCxnSpPr>
            <a:endCxn id="2083" idx="2"/>
          </p:cNvCxnSpPr>
          <p:nvPr/>
        </p:nvCxnSpPr>
        <p:spPr>
          <a:xfrm flipV="1">
            <a:off x="4292640" y="2361960"/>
            <a:ext cx="66060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1" name="Straight Arrow Connector 135"/>
          <p:cNvCxnSpPr>
            <a:endCxn id="2084" idx="2"/>
          </p:cNvCxnSpPr>
          <p:nvPr/>
        </p:nvCxnSpPr>
        <p:spPr>
          <a:xfrm flipH="1" flipV="1">
            <a:off x="6356520" y="2209320"/>
            <a:ext cx="66060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2" name="Rectangle 139"/>
          <p:cNvSpPr/>
          <p:nvPr/>
        </p:nvSpPr>
        <p:spPr>
          <a:xfrm>
            <a:off x="3263760" y="4038480"/>
            <a:ext cx="1936800" cy="58428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U4 moves and join another multicast group retrieving the same conten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3" name="Straight Arrow Connector 141"/>
          <p:cNvCxnSpPr>
            <a:stCxn id="2112" idx="0"/>
            <a:endCxn id="2099" idx="2"/>
          </p:cNvCxnSpPr>
          <p:nvPr/>
        </p:nvCxnSpPr>
        <p:spPr>
          <a:xfrm flipH="1" flipV="1">
            <a:off x="4126680" y="3428280"/>
            <a:ext cx="105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4" name="Rectangle 144"/>
          <p:cNvSpPr/>
          <p:nvPr/>
        </p:nvSpPr>
        <p:spPr>
          <a:xfrm>
            <a:off x="6108840" y="3886200"/>
            <a:ext cx="2438280" cy="64764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U4 moves. No available multicast group for the same content. So continue with unicast  se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5" name="Straight Arrow Connector 145"/>
          <p:cNvCxnSpPr>
            <a:stCxn id="2114" idx="0"/>
          </p:cNvCxnSpPr>
          <p:nvPr/>
        </p:nvCxnSpPr>
        <p:spPr>
          <a:xfrm flipH="1" flipV="1">
            <a:off x="6356160" y="3428640"/>
            <a:ext cx="9720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6" name="TextBox 146"/>
          <p:cNvSpPr/>
          <p:nvPr/>
        </p:nvSpPr>
        <p:spPr>
          <a:xfrm rot="18212400">
            <a:off x="4388040" y="2769840"/>
            <a:ext cx="7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Box 147"/>
          <p:cNvSpPr/>
          <p:nvPr/>
        </p:nvSpPr>
        <p:spPr>
          <a:xfrm rot="14340000">
            <a:off x="6271920" y="266652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Box 148"/>
          <p:cNvSpPr/>
          <p:nvPr/>
        </p:nvSpPr>
        <p:spPr>
          <a:xfrm rot="16200000">
            <a:off x="5943600" y="2594880"/>
            <a:ext cx="7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cast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타원 53"/>
          <p:cNvSpPr/>
          <p:nvPr/>
        </p:nvSpPr>
        <p:spPr>
          <a:xfrm>
            <a:off x="1816200" y="2971800"/>
            <a:ext cx="1650960" cy="60948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Box 54"/>
          <p:cNvSpPr/>
          <p:nvPr/>
        </p:nvSpPr>
        <p:spPr>
          <a:xfrm>
            <a:off x="1650960" y="2895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타원 55"/>
          <p:cNvSpPr/>
          <p:nvPr/>
        </p:nvSpPr>
        <p:spPr>
          <a:xfrm>
            <a:off x="3879720" y="3048120"/>
            <a:ext cx="82548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Box 56"/>
          <p:cNvSpPr/>
          <p:nvPr/>
        </p:nvSpPr>
        <p:spPr>
          <a:xfrm>
            <a:off x="3714840" y="297180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타원 57"/>
          <p:cNvSpPr/>
          <p:nvPr/>
        </p:nvSpPr>
        <p:spPr>
          <a:xfrm>
            <a:off x="4705200" y="3048120"/>
            <a:ext cx="82548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타원 58"/>
          <p:cNvSpPr/>
          <p:nvPr/>
        </p:nvSpPr>
        <p:spPr>
          <a:xfrm>
            <a:off x="6603840" y="3048120"/>
            <a:ext cx="825840" cy="533160"/>
          </a:xfrm>
          <a:prstGeom prst="ellipse">
            <a:avLst/>
          </a:prstGeom>
          <a:noFill/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Box 59"/>
          <p:cNvSpPr/>
          <p:nvPr/>
        </p:nvSpPr>
        <p:spPr>
          <a:xfrm>
            <a:off x="5448240" y="304812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Box 60"/>
          <p:cNvSpPr/>
          <p:nvPr/>
        </p:nvSpPr>
        <p:spPr>
          <a:xfrm>
            <a:off x="7346880" y="3030480"/>
            <a:ext cx="4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G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7" name="직선 화살표 연결선 63"/>
          <p:cNvCxnSpPr>
            <a:stCxn id="2099" idx="2"/>
            <a:endCxn id="2108" idx="1"/>
          </p:cNvCxnSpPr>
          <p:nvPr/>
        </p:nvCxnSpPr>
        <p:spPr>
          <a:xfrm>
            <a:off x="4127400" y="3428640"/>
            <a:ext cx="1404000" cy="3438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2128" name="TextBox 72"/>
          <p:cNvSpPr/>
          <p:nvPr/>
        </p:nvSpPr>
        <p:spPr>
          <a:xfrm>
            <a:off x="2476440" y="25909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Box 73"/>
          <p:cNvSpPr/>
          <p:nvPr/>
        </p:nvSpPr>
        <p:spPr>
          <a:xfrm>
            <a:off x="4210200" y="27432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Box 74"/>
          <p:cNvSpPr/>
          <p:nvPr/>
        </p:nvSpPr>
        <p:spPr>
          <a:xfrm>
            <a:off x="5943600" y="281952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1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Can 47"/>
          <p:cNvSpPr/>
          <p:nvPr/>
        </p:nvSpPr>
        <p:spPr>
          <a:xfrm>
            <a:off x="2971800" y="1600200"/>
            <a:ext cx="412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Box 80"/>
          <p:cNvSpPr/>
          <p:nvPr/>
        </p:nvSpPr>
        <p:spPr>
          <a:xfrm>
            <a:off x="4952880" y="121932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Content mov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3" name="구부러진 연결선 124"/>
          <p:cNvCxnSpPr/>
          <p:nvPr/>
        </p:nvCxnSpPr>
        <p:spPr>
          <a:xfrm flipH="1" rot="16200000">
            <a:off x="3723120" y="929880"/>
            <a:ext cx="229320" cy="1569240"/>
          </a:xfrm>
          <a:prstGeom prst="curvedConnector5">
            <a:avLst>
              <a:gd name="adj1" fmla="val -76415"/>
              <a:gd name="adj2" fmla="val 50000"/>
              <a:gd name="adj3" fmla="val -76415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34" name="TextBox 126"/>
          <p:cNvSpPr/>
          <p:nvPr/>
        </p:nvSpPr>
        <p:spPr>
          <a:xfrm>
            <a:off x="3137040" y="120168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맑은 고딕"/>
              </a:rPr>
              <a:t>Multicast server  handof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Box 99"/>
          <p:cNvSpPr/>
          <p:nvPr/>
        </p:nvSpPr>
        <p:spPr>
          <a:xfrm>
            <a:off x="1073160" y="457200"/>
            <a:ext cx="7689960" cy="3988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posal: Content mobility (multicast server handoff, content movin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Box 71"/>
          <p:cNvSpPr/>
          <p:nvPr/>
        </p:nvSpPr>
        <p:spPr>
          <a:xfrm>
            <a:off x="7975440" y="2946240"/>
            <a:ext cx="123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 Conten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: Multicast Gro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: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Box 80"/>
          <p:cNvSpPr/>
          <p:nvPr/>
        </p:nvSpPr>
        <p:spPr>
          <a:xfrm>
            <a:off x="1917720" y="156204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multicast sourc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내용 개체 틀 2"/>
          <p:cNvSpPr/>
          <p:nvPr/>
        </p:nvSpPr>
        <p:spPr>
          <a:xfrm>
            <a:off x="1328760" y="4681440"/>
            <a:ext cx="75484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굴림체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Lower delay,  Network resource optimization, Local routin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굴림체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Maintaining user’s mobility while changing multicast sour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731520" y="1468080"/>
            <a:ext cx="8420040" cy="25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scus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opic acceptable in the multimob WG for futur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la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I-D on this topic for nex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슬라이드 번호 개체 틀 3"/>
          <p:cNvSpPr/>
          <p:nvPr/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5521-6A1E-4EF8-AB67-6B2C70E5F8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내용 개체 틀 2"/>
          <p:cNvSpPr/>
          <p:nvPr/>
        </p:nvSpPr>
        <p:spPr>
          <a:xfrm>
            <a:off x="731880" y="4707000"/>
            <a:ext cx="8420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굴림체"/>
              </a:rPr>
              <a:t>Q&amp;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03:16Z</dcterms:created>
  <dc:creator>gmlee</dc:creator>
  <dc:description/>
  <dc:language>en-US</dc:language>
  <cp:lastModifiedBy>gmlee</cp:lastModifiedBy>
  <cp:lastPrinted>1999-05-07T04:43:39Z</cp:lastPrinted>
  <dcterms:modified xsi:type="dcterms:W3CDTF">2010-11-08T08:54:26Z</dcterms:modified>
  <cp:revision>637</cp:revision>
  <dc:subject/>
  <dc:title>Mobility in Content Delivery</dc:title>
</cp:coreProperties>
</file>