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notesMasterIdLst>
    <p:notesMasterId r:id="rId50"/>
  </p:notesMasterIdLst>
  <p:sldIdLst>
    <p:sldId id="256" r:id="rId51"/>
    <p:sldId id="257" r:id="rId52"/>
    <p:sldId id="258" r:id="rId53"/>
    <p:sldId id="259" r:id="rId54"/>
    <p:sldId id="260" r:id="rId55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notesMaster" Target="notesMasters/notesMaster1.xml"/><Relationship Id="rId51" Type="http://schemas.openxmlformats.org/officeDocument/2006/relationships/slide" Target="slides/slide1.xml"/><Relationship Id="rId52" Type="http://schemas.openxmlformats.org/officeDocument/2006/relationships/slide" Target="slides/slide2.xml"/><Relationship Id="rId53" Type="http://schemas.openxmlformats.org/officeDocument/2006/relationships/slide" Target="slides/slide3.xml"/><Relationship Id="rId54" Type="http://schemas.openxmlformats.org/officeDocument/2006/relationships/slide" Target="slides/slide4.xml"/><Relationship Id="rId55" Type="http://schemas.openxmlformats.org/officeDocument/2006/relationships/slide" Target="slides/slide5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PlaceHolder 1"/>
          <p:cNvSpPr>
            <a:spLocks noGrp="1"/>
          </p:cNvSpPr>
          <p:nvPr>
            <p:ph type="hdr"/>
          </p:nvPr>
        </p:nvSpPr>
        <p:spPr>
          <a:xfrm>
            <a:off x="7560" y="-1800"/>
            <a:ext cx="3043080" cy="453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 type="dt" idx="145"/>
          </p:nvPr>
        </p:nvSpPr>
        <p:spPr>
          <a:xfrm>
            <a:off x="4046400" y="-1800"/>
            <a:ext cx="3043440" cy="453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PlaceHolder 3"/>
          <p:cNvSpPr>
            <a:spLocks noGrp="1"/>
          </p:cNvSpPr>
          <p:nvPr>
            <p:ph type="ftr" idx="146"/>
          </p:nvPr>
        </p:nvSpPr>
        <p:spPr>
          <a:xfrm>
            <a:off x="7560" y="9664560"/>
            <a:ext cx="3043080" cy="5716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4"/>
          <p:cNvSpPr>
            <a:spLocks noGrp="1"/>
          </p:cNvSpPr>
          <p:nvPr>
            <p:ph type="sldNum" idx="147"/>
          </p:nvPr>
        </p:nvSpPr>
        <p:spPr>
          <a:xfrm>
            <a:off x="4046400" y="9664560"/>
            <a:ext cx="3043440" cy="5716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fld id="{71E62477-D257-4B3C-B536-A228C0D738C9}" type="slidenum">
              <a:rPr b="0" i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PlaceHolder 5"/>
          <p:cNvSpPr>
            <a:spLocks noGrp="1"/>
          </p:cNvSpPr>
          <p:nvPr>
            <p:ph type="body"/>
          </p:nvPr>
        </p:nvSpPr>
        <p:spPr>
          <a:xfrm>
            <a:off x="945720" y="4866840"/>
            <a:ext cx="5203800" cy="430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PlaceHolder 6"/>
          <p:cNvSpPr>
            <a:spLocks noGrp="1"/>
          </p:cNvSpPr>
          <p:nvPr>
            <p:ph type="sldImg"/>
          </p:nvPr>
        </p:nvSpPr>
        <p:spPr>
          <a:xfrm>
            <a:off x="777600" y="766440"/>
            <a:ext cx="554364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sldImg"/>
          </p:nvPr>
        </p:nvSpPr>
        <p:spPr>
          <a:xfrm>
            <a:off x="777960" y="766800"/>
            <a:ext cx="5543640" cy="3838680"/>
          </a:xfrm>
          <a:prstGeom prst="rect">
            <a:avLst/>
          </a:prstGeom>
          <a:ln w="0">
            <a:noFill/>
          </a:ln>
        </p:spPr>
      </p:sp>
      <p:sp>
        <p:nvSpPr>
          <p:cNvPr id="2144" name="PlaceHolder 2"/>
          <p:cNvSpPr>
            <a:spLocks noGrp="1"/>
          </p:cNvSpPr>
          <p:nvPr>
            <p:ph type="body"/>
          </p:nvPr>
        </p:nvSpPr>
        <p:spPr>
          <a:xfrm>
            <a:off x="945720" y="4866840"/>
            <a:ext cx="520380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슬라이드 번호 개체 틀 3"/>
          <p:cNvSpPr/>
          <p:nvPr/>
        </p:nvSpPr>
        <p:spPr>
          <a:xfrm>
            <a:off x="4046400" y="9664560"/>
            <a:ext cx="30434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fld id="{71387BF5-2F98-4BE7-BCE9-A398564593F2}" type="slidenum">
              <a:rPr b="0" i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sldImg"/>
          </p:nvPr>
        </p:nvSpPr>
        <p:spPr>
          <a:xfrm>
            <a:off x="777960" y="766800"/>
            <a:ext cx="5543640" cy="3838680"/>
          </a:xfrm>
          <a:prstGeom prst="rect">
            <a:avLst/>
          </a:prstGeom>
          <a:ln w="0">
            <a:noFill/>
          </a:ln>
        </p:spPr>
      </p:sp>
      <p:sp>
        <p:nvSpPr>
          <p:cNvPr id="2147" name="PlaceHolder 2"/>
          <p:cNvSpPr>
            <a:spLocks noGrp="1"/>
          </p:cNvSpPr>
          <p:nvPr>
            <p:ph type="body"/>
          </p:nvPr>
        </p:nvSpPr>
        <p:spPr>
          <a:xfrm>
            <a:off x="945720" y="4866840"/>
            <a:ext cx="520380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슬라이드 번호 개체 틀 3"/>
          <p:cNvSpPr/>
          <p:nvPr/>
        </p:nvSpPr>
        <p:spPr>
          <a:xfrm>
            <a:off x="4046400" y="9664560"/>
            <a:ext cx="30434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fld id="{6654908D-427F-46AA-B2FC-2228F3E7DAA3}" type="slidenum">
              <a:rPr b="0" i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sldImg"/>
          </p:nvPr>
        </p:nvSpPr>
        <p:spPr>
          <a:xfrm>
            <a:off x="779400" y="768240"/>
            <a:ext cx="5540400" cy="3837240"/>
          </a:xfrm>
          <a:prstGeom prst="rect">
            <a:avLst/>
          </a:prstGeom>
          <a:ln w="0">
            <a:noFill/>
          </a:ln>
        </p:spPr>
      </p:sp>
      <p:sp>
        <p:nvSpPr>
          <p:cNvPr id="2150" name="PlaceHolder 2"/>
          <p:cNvSpPr>
            <a:spLocks noGrp="1"/>
          </p:cNvSpPr>
          <p:nvPr>
            <p:ph type="body"/>
          </p:nvPr>
        </p:nvSpPr>
        <p:spPr>
          <a:xfrm>
            <a:off x="945720" y="4866840"/>
            <a:ext cx="520380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슬라이드 번호 개체 틀 3"/>
          <p:cNvSpPr/>
          <p:nvPr/>
        </p:nvSpPr>
        <p:spPr>
          <a:xfrm>
            <a:off x="4046400" y="9664560"/>
            <a:ext cx="30434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fld id="{4A2766AC-F501-48DA-9118-08760F8557EC}" type="slidenum"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sldImg"/>
          </p:nvPr>
        </p:nvSpPr>
        <p:spPr>
          <a:xfrm>
            <a:off x="779400" y="768240"/>
            <a:ext cx="5540400" cy="3837240"/>
          </a:xfrm>
          <a:prstGeom prst="rect">
            <a:avLst/>
          </a:prstGeom>
          <a:ln w="0">
            <a:noFill/>
          </a:ln>
        </p:spPr>
      </p:sp>
      <p:sp>
        <p:nvSpPr>
          <p:cNvPr id="2153" name="PlaceHolder 2"/>
          <p:cNvSpPr>
            <a:spLocks noGrp="1"/>
          </p:cNvSpPr>
          <p:nvPr>
            <p:ph type="body"/>
          </p:nvPr>
        </p:nvSpPr>
        <p:spPr>
          <a:xfrm>
            <a:off x="945720" y="4866840"/>
            <a:ext cx="520380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슬라이드 번호 개체 틀 3"/>
          <p:cNvSpPr/>
          <p:nvPr/>
        </p:nvSpPr>
        <p:spPr>
          <a:xfrm>
            <a:off x="4046400" y="9664560"/>
            <a:ext cx="30434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fld id="{9BE11E85-6F9B-4D31-A9C2-186A5FA3F7CC}" type="slidenum"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sldImg"/>
          </p:nvPr>
        </p:nvSpPr>
        <p:spPr>
          <a:xfrm>
            <a:off x="777960" y="766800"/>
            <a:ext cx="5543640" cy="3838680"/>
          </a:xfrm>
          <a:prstGeom prst="rect">
            <a:avLst/>
          </a:prstGeom>
          <a:ln w="0">
            <a:noFill/>
          </a:ln>
        </p:spPr>
      </p:sp>
      <p:sp>
        <p:nvSpPr>
          <p:cNvPr id="2156" name="PlaceHolder 2"/>
          <p:cNvSpPr>
            <a:spLocks noGrp="1"/>
          </p:cNvSpPr>
          <p:nvPr>
            <p:ph type="body"/>
          </p:nvPr>
        </p:nvSpPr>
        <p:spPr>
          <a:xfrm>
            <a:off x="945720" y="4866840"/>
            <a:ext cx="520380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슬라이드 번호 개체 틀 3"/>
          <p:cNvSpPr/>
          <p:nvPr/>
        </p:nvSpPr>
        <p:spPr>
          <a:xfrm>
            <a:off x="4046400" y="9664560"/>
            <a:ext cx="30434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fld id="{25C6C79C-F3D4-40D8-AEE4-5E32FE2C92E9}" type="slidenum">
              <a:rPr b="0" i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40ED-DC53-4E2D-B965-FC2EE383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F77D-34BE-4889-A808-0A2BD003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2AD9C-D28C-4ABB-863A-F68033CA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8D301-B301-461C-AA77-C3E6B611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8F700-99B2-45FE-9EB0-A53242C4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4EF00-0D36-4D1C-9E03-9539D8AF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2B0CD-F57C-49A7-97AE-DC5390F2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8C166-26D6-4850-B151-A9DC6CD0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67889-4235-4028-B23B-FA08681E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C23D0-6808-4EAF-A38F-55FA9CFB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D7006-E633-4060-8102-3E287D1D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ED142-1320-49B1-BF68-44A87617F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0FDB-3508-464E-8691-A95D50EAF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75AC1-EB7A-4FBA-9D5D-11FA18AA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5BBBA-9CC1-472D-B487-A7985FF4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D71D0-43A8-4FD7-B0F8-41C7094B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B81FC-E647-46E5-AF5D-471D9E3A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D02A0-00AD-40AA-8DD4-4BC6244D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B7D15-7FA0-442F-AB64-18F56176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C8560-46FC-42F8-9085-D35491DB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4E4A7-9CE3-4BA3-9C20-6DB2993D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678CB-58AF-475A-8907-57B00229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095EE-5DF7-41A5-B285-684D20CF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AFBE-BE53-4C34-BD0B-64CF6FB0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06D8E-B440-442C-BF8C-D550A5DB5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9C124-F4EF-4547-B6A4-E81C1011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EF55D-3BB3-4B7D-937F-C441E4CF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A6650-2E51-4538-BFB6-0225B806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68B20-6152-4D90-868F-292D1A37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B3726-7651-4D34-A235-81B3969A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D53BD-9AD8-4015-9AEF-F1B232E4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ADC71-6F94-42DE-8CE6-AD39F67E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4C316-6F50-4567-8D3C-4D785459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8EA49-BC63-4842-86FB-51E80D16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4D10-DAC2-4354-91D9-941E9BA6E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62D51-8584-4A7A-9B48-F21773CA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48486-152B-4085-BCE8-3F953440A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2BB44-9E15-459A-AA3D-971F2427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756B46-1013-439B-8628-DDDBEFDD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A5E92D-5665-4A72-875C-62DD9CFA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5FD65-EA7A-45CA-BCF9-6D3AAB2B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FD4030-2B1D-440D-A8B2-8ECFFAAE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16D587-D7AE-472D-8B43-396AE62E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B89B1E-D540-4508-AED2-D8098800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79CDA-D46D-42F1-842C-F955C4A4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F11F-8070-4F51-8898-8AAB0749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E244F-8EE3-49B2-B1DD-03EFE450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5E43E3-5D63-4AF7-9D0F-9D181FA7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E3447-3B22-4450-92CE-1059B78A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2630AA-C5CA-4AE1-ABFF-12C568964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08CB9-CC99-479A-9F72-18F60DC3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946463-D86B-4E60-9FD3-07C379E7E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B88EF4-FACA-4846-980A-D39FF257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98484A-3375-407C-B9E3-84E13041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97CDE0-81B0-4413-BE99-F15FBF2C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E1589F-8E83-4AEA-85B3-901D1174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A579-1970-485D-8C67-B157414C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FB8781-46B2-4B84-9AE7-8112992F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FC67F7-EC7E-4FC8-AAF2-E7B08F46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815E19-4872-4662-8719-6CE5E142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85C990-DB87-464A-AC44-38B9AFFE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445E7B-56E5-4579-91B8-2900B493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AF5C13-E54A-4EE3-A708-0835F797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F41ADA-F969-44CF-B17D-60437F27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261A4C-D59D-4537-8916-BD15F6E4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C23681-E2B1-409A-A99C-78AEBA20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10AC73-20B1-454F-98DF-2E5A63B9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0F9E-B0FB-4927-9023-2458FF94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D0BE5A-3110-4261-BFA3-B5117261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E15061-A78A-41EA-8936-17F3FAD8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A3F1AE-9BD8-4997-8CCB-95767E7D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646E41-56B9-4F79-BD77-6ACADA26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E96EC5-8C9E-420E-A11A-95DFC936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8A15D6-5F2F-4653-A470-D0455D40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E11918-0117-4486-B54E-382B0290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144143-5F3D-4F99-A5D4-504F7CBFF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AA05C0-4086-4CF3-99CC-41F5B8128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1DDABA-4778-46D9-AEC0-890D10D8B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C27A-73D6-40D3-96AB-C0B1E060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B8DE08-5385-4CDD-A189-4198284D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99F8C0-C0AF-442B-BC2E-8CE59DE3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57AD30-AD0F-4088-8B0A-704FB39B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584486-E7ED-401B-A1F6-39943061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6B5632-6D89-42A6-A0A1-C90B65A9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928ECE-BBE3-4143-ACEE-D11EBF23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176928-D97F-4F5C-90B0-E3650467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6DC285-EC6F-454E-AAD6-3FDF0C7B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13674F-4FF3-4D83-8C7E-CC07D0C8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CBFB78-B669-49E3-9DEC-A41E41BA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8B3F-9969-4CEF-AB39-9AF103E4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C18E92-5905-44E7-AAB5-3AF2FBCD6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1D8F6A-9805-43E9-B62B-E310EBC8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A3F2E8-26D6-4C26-962F-9B25FFAC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471393-9F46-4954-9A26-B315E49A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B061E5-82A9-4327-B209-1D9E36C5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985CAB-3C7F-4951-BC12-693217E3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69F640-401D-4553-859C-CFFB4CDF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ACB425-1097-446E-88DB-8E32D213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FC5115-060F-43E0-B1BA-D5821FAC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F340D3-017A-4E0E-B238-ED567982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DB06-ACC6-4469-99B1-3786DF8B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F120DA-1F41-4A12-8028-BEFD9E90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898B2D-DA8A-414C-A256-C0ABEDA01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2B2BAE-1590-4D98-BF7B-8F2CDAB87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AE99E8-16BB-4D77-9790-D8ADAB567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EAFD56-1C2F-4A8B-83E7-AD769285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956933-45DB-4EDF-8C17-C779007C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B9A683-966D-4F57-AD1C-415CA2B8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08A500-CFAF-434F-8D00-FDF8CC90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BE2A6D-A52C-4C22-A3A8-43D58244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F5B0A0-6678-401E-9445-D8D57B78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09C1-A572-4BCC-973C-ADBF9745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ACB1-12DB-450E-A8EC-B1AF12E0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BEEB84-32CA-4FDE-9F7E-1F55512F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FD398C-870D-4D98-B2E0-6658296A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BE5B37-6CED-4C5D-B7C6-77A6A273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0DFC2D-B00B-4454-BBBE-90691D1B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213D7E-3AE6-4735-B6E9-A6B8131C0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B4D4C4-A025-4821-821A-75A3EC56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6CBBD1-3AD7-4185-AE6D-0D295B73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7E3AC9-6DDB-4A55-98B8-32CAAE20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54232D-6F1A-4BF9-87EE-175EC85D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D3C7AA-FE44-4E17-8275-ECBE1D80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90AA-549B-40E2-B3FF-F6ECB1DF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DF9E5B-7BBE-499A-8B50-0963A2D4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0AF850-B899-4CBA-BD2E-EC78CFCF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12A358-9A44-43D0-B899-657C5F04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8A337A-4122-489C-8CF8-48EBDB42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FC1273-11E6-4516-925E-086FD15E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27FC39-BBF3-495E-AAED-E8E48BE2B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1A3339-7FE9-44B5-ADAE-1178F2340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DB4343-CB7D-4CC0-8934-4391923FC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570DAF-3653-4A5F-A7AA-D0DAA0AB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751E2D-F539-441B-B529-4E52E08C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69F8-108D-4A9E-828D-76CB74F7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79B79E-9595-4F88-932F-D3340542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34D8E4-2716-4776-9FDF-8FBA02A2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5BB8C4-78B8-4D76-B5A9-E04727BE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FC0259-08B6-44F7-81A2-1DFE5783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16C17E-088B-4683-960A-79D400D0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F7DF91-B466-4862-9544-930CB2B4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0BD9F1-6775-4DE4-9ACD-357C5447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233AC6-EF3B-4BB5-8C64-48DEDC21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1C2412-0EEE-444F-AE1F-BED1E8B32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04BE94-1BBE-43BD-B073-92E046B4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B45B-01C5-4BE5-BA5B-E304FBEF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EEA78C-3BFE-4CD0-92A0-25438C0B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2D84D6-94EC-4181-850E-169A76CF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419927-90DC-4805-8536-1D12F131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5CBEAF-C86E-4ED7-A1A5-93A3310F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CA89AD-82B7-48DC-8A28-A1F9277B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516125-DD96-4834-84AC-4D8EDCFD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3D367E-9521-4213-A5B9-51FC8774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3724D5-A013-4B0D-AF44-92708D5B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0FB7C4-AA89-4E52-A89A-867AA2D7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A99182-710C-4C2F-A7B7-F53CE581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161E-3F5B-40C9-8629-6D12D2CDB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A97C86-6391-4EF4-9CCC-0180F38C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039B2D-B6C6-4766-9538-754D4D5C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57AA48-1642-4810-A96D-F1A79E57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94F42F-2D0E-4399-8D59-B2D93BEF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0AEE6E-943E-4E4D-8FBA-CBED6EF3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E3D0C8-923B-4481-A6E5-1E0AEDB1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301185-0396-4BEF-88AD-649107F4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B0503C-F120-4A38-8675-53983AEE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184868-0C57-491B-92DA-60C85456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1754FE-341D-482F-9E7F-6E51FACA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F3504-778E-4621-90E4-7240949C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1099D6-0890-4737-8BFF-219FDEFD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A24988-E260-48FF-BBF5-F14579E53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6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7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BACDAE-C543-404A-ABA0-0313131D6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C4C1AE-805E-447D-8CE9-6D31AF2F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5D3013-E809-411E-9D43-4A9F9CA6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555F8D-B1DB-4A05-9CC8-11BF1AEC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598D93-4B4E-47D5-8296-B3CA8696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7BBA70-D64C-41D7-9E01-CE9AFE48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A14AC2-26E0-4B90-B4FD-747504B4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319C1C-018D-47AF-B437-2AE57C05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6DB0F-7848-4E23-AA2C-35745E70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0A777B-9E22-4A0E-8EA3-5EEF07BE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5F77A7-970B-4D6C-821B-7909EF03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87C065-BDF5-41E5-88C7-ED4D9250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CED75D-6052-4C93-9D65-12338C93E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695641-2B61-4E3A-B0A9-70E6A92B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E20FB8-02BA-41D4-ABED-4E01EC5E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22BD31-CA8B-49BA-A0AE-9FDA1EFB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96EBA1-BADA-4DCA-8C8F-B0D419D7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288041-D7EE-4EE6-83DB-CCA6BFB5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33AEB1-DCDE-47EA-B36B-1952A3AD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665DF-AD9C-4DF7-B762-D1C982E3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129F00-90AE-4D37-B583-332DD6C9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D5EFED-5EED-4588-8706-0FFE62F7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65B1A1-27F8-48FC-BBE9-625D9C75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7AD1B1-733F-41C7-8658-4368322B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DC3577-F461-4D4E-9F26-200176EF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A40EFD-B397-4AD5-B0C0-853AC7636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E805A8-3E2B-4115-AB52-228C35F93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E21593-8ED2-4E5F-9128-79D8509D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F8A997-DD43-4CF3-89F2-6331A491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7C3FF7-A9F2-4676-B9FC-7BBBF201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45000-06A8-43E0-B16B-08962BBE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635611-0E95-4BE0-A87A-580114F0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F61075-D686-4CAB-82D9-BFE5B422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253F81-F129-41B9-BA55-F4388EC8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E5BAA9-E77B-4780-B9A9-53A763C9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EA1D94-86A8-4F1B-9DDB-850A0D8B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3D6917-0435-447E-B5B2-2C0BAB20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7F695F-5628-4107-BDC9-17197D70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2481E2-4909-4849-9F89-03543CCA5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4AAEF1-7B3D-469A-B0CB-68E2DFEED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D78C04-C2E2-43B7-87B8-32EF93D9C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AF33E-1431-4A16-8C7A-05C15418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D625E0-6F75-4420-AFC6-E61392B5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DA584C-C628-43DA-8950-CB1FC14F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57A09A-4656-4DE9-BD70-BEE95858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44C290-CF90-4B50-9ABF-85E1D2C1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BF1273-C1A7-41FE-91DF-3EBEAD90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CA4DAD-FEC5-4661-B647-D40C757E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95E28A-F89B-461A-9219-52ED17E9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54D501-1B92-4D36-B303-FCBDFD17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91E8A7-8C07-4861-A0BC-2B5E4587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C67BD8-1B31-414E-B24B-2A7F5948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3C1D-CD2B-4AA8-AA23-0B206165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C1BEF-4215-4D3D-ABDF-E5C05FC7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0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1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2A5EEA-1331-4BAC-848B-0CB571AD2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4B6C304-3A92-4172-9BA3-6410C58F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4753C4-CFBE-402A-888A-3D3A9637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EA1919-096E-4C53-919A-89EC8F7F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42D230-21B7-4A5D-A1C0-82B03ADA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FCEDFE-EA9D-4481-BF6C-FA6245D6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F08BAC3-8B48-4297-8103-5C4907A7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01D07F-C4C4-4D1E-A2C5-ECEC7AEB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76D4B8D-A6AF-474D-9693-3F7273C1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FBED844-9274-488B-B057-5125F116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9071B-6A14-4957-B14E-DA974653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996008-863D-443C-BA4B-B1EE9A2B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75BDAB2-DE97-436F-A768-68FD0D7FA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1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2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37307E-7600-4851-9761-7DCDC8617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E59CAB-15C0-474C-9ECC-9FB32ECCD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27D5B2F-51B6-4965-BA71-9F1ED01E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B172B23-DA20-4180-A138-AB5A5FAC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C5A5E5-2210-4F6E-900D-46A94342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10C2779-8AB6-4ED7-A3A2-B0DA7651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392DAA9-DA6B-41D2-BE78-C3C72D24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5027AC-60C4-4B2A-95F3-14567326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69A8F-65C7-433A-B494-8C85F60D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FC1729-AEE7-45AA-811F-53BEB450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29B426-CB36-4F93-9832-3B3EADDC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F8A999-F516-4AB4-9295-32095250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C8531F-B0FB-4F31-A1F3-22683AA25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3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30FA14A-5DCF-4552-9A6A-39A14C44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99FCFD-914A-4590-AEBA-F0DA90EF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3142D2D-74E2-45ED-BE2C-4E83F4C6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A74E55-7E0F-466F-974E-EF7110A5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9EAF578-145B-4ABB-90CD-A6D50CE3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758BD7D-4457-41E1-BB86-7E85B52E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207E9-F0EE-42D3-B6F4-86C8AB5F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4ED103-33EE-41FE-BADA-FB0AB8DF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7B9B81A-70B9-433B-84DD-13045148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65125BD-4284-4D22-B862-31520D31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A41896-FC85-4F01-ACD4-EA8D59C9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235C4A-22A7-4CC0-BAC9-B41CE23D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74D8FD-0885-482A-9AA8-4F61C1ADC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3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4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968982-1CC0-42DB-86BA-ED86281E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2FAC3C3-AB8A-45BE-930E-BD8B50CA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515202A-4784-47EE-8016-9B18C59E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121D00A-1148-4DBF-B663-92137592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283AF-72A1-437F-813E-24574BFB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7C28724-D7D7-4419-B72E-C1F3284B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0EF1B84-4983-4279-A8E7-CE5ECC1F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D3007D9-29FD-4695-8D02-857D99E9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83802C8-9FEB-41EC-8E2B-28D547EA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4B3091E-C0BB-428D-805E-FC139E7F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514EE0C-EDEC-48C1-B929-775589A8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D896534-429F-4564-B8ED-73DA4591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F8A6FE7-7531-476B-83C3-443D68C4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F1D7EE9-E3F6-40F3-924A-A870D8A3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99B416C-6C52-4865-84CC-767EB086A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90521-0E4B-4117-96E2-D913F561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1A297F7-3276-4A05-8881-ED7CBECE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D6BE5C-4C89-4D31-9217-F00747E8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6665CBC-B463-449F-913E-B1731784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4D209FB-91EE-4E60-BE77-C468CE10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0664842-25E0-4FC3-9663-A9FCA71F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6BB712A-788B-419F-9718-0580EBA1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D0130E7-1C25-4854-A0E3-FA7906EA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E69F106-1177-4E88-B4C9-12433260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597331E-F810-4446-9C52-25ADB10E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784896-9496-4823-8A8A-3077A43B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39637-DEF5-4E03-8C78-1686B5EFD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5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6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213CA2-193F-4723-B742-2A6FFC0D4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3C9472B-E766-4B6C-A4C3-294CE596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9F71FCE-1971-4D98-8DDA-3A07596F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6226F89-2A93-4398-A7B4-26BF89EF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2973724-46D8-496E-B068-5CB8857B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C9AF938-71A9-4A96-8866-BC3CEAED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F47E6F4-D128-45AF-989C-64E58CA0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209EA79-1563-44E5-A7F6-AB5A5D8C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0979CC2-2115-429B-8D2D-905DB320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73EA053-A4CE-40EB-999B-36E04A18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3AD41-C90D-4C0D-B972-1D692B8C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0975B27-6AF5-4E7A-AB17-A9518368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1532731-7267-459B-94B7-85B2F937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6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7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CF34633-1ACC-4C1C-88DD-0BB3B76E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DA0B91F-CB88-4C05-B953-EAC5ED5C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44E1B51-88C1-4F99-B3BE-D3623E73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036E515-A67D-4FAB-B5D7-4AC20FEA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739A14C-0AD0-41E4-937D-0BA51EFC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CA400D5-AD4A-460E-85F8-66401A71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C43281C-662E-44B2-A1C6-658E8AA6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7826364-7B4E-4B20-B94F-335E144A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D09FC-2ABE-44BD-93FB-A2327773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266E805-AFF3-481E-8566-204C4548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607A4CB-DFA2-460F-801B-937481D3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63B20F0-C7A0-4823-8711-5237569B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B595219-7474-4C9D-98F2-E205F4AF0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7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8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0206770-64B6-4E70-B39A-1E7FB9F6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29DFF87-BFBC-4684-8E83-129F444A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B821467-DF34-49E6-8872-409A4067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D1359F2-5737-4139-9464-6482918A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68929D2-ADF4-4249-9548-15C4791D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167ABCA-06C0-4CDE-923C-BF833913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8B482-4D04-42E3-9D29-7E93F853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1D5B686-B8DC-45F8-96F2-998464A3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F3EB3C5-399E-4B01-A3DB-98802080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1FC442E-2D49-48E8-9EFB-F7345389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CE863DF-5773-4D20-9EEF-2218BDA7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E289121-7D80-4652-A932-D6E30A96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5B62EF4-30A7-478F-8A5C-D6F007F3E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8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9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8D36BB8-F3E2-47F2-BB2D-AD37F5FE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BDFF32F-08CD-4656-B25A-E8B5EC17C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96D1133-7550-4670-AC4C-F773F737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63BE672-2059-4476-B387-2880485C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649B-C135-4133-8C39-C422D9D3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330B9-A6F8-4AAF-8B20-EFBAD24F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3A9A2B2-BD2D-4097-807D-84AB62D5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FC2FD9A-AB32-4799-A550-220C8BBC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C3D88C3-0A0D-40CD-AB0E-7704A225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7A91EDC-A826-42F2-A3E4-58A90D89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546402E-1B31-4F3C-8452-1CE45972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BD37D7D-F385-40B9-8388-011DAF3F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8B00C34-CF0C-4709-B7E2-FAFDA062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0231BE7-EAF3-470C-86AF-158A1566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9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0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7745F94-E47F-4E71-939F-D07D870D6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D4CAF7C-6955-4255-997C-FECF78BD4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B498C-5463-478C-A5ED-CD0CBD79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08FAED8-0235-4B8B-8461-AFF7C0E9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BE6032F-EFFE-4BF9-B91A-A7575BF8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31BB342-7B1E-4637-AFF7-6BFCC0CB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1BF89CC-B210-4A62-8E27-39725208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C135235-5DE7-4310-8DCA-5B301331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766BD61-CFB9-41F0-BCAB-7B010908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3201B79-166B-4783-8A97-BC29D349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9A0FCD2-1C4C-464D-BBAB-3C49CB66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FEDE94E-AB9D-473E-839F-BF2E3FA5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BED39E4-FE9D-4940-8D90-F4C0C8154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10481-688E-46CD-95DB-D622D663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0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1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AE5623A-47AE-47DF-AB69-F8915E4FD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E7BADF5-4E95-4EA9-9996-9603D0EB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7FAB4D0-37F9-44B6-98B7-F542089A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C7208F5-D179-4EF0-A8F3-68294512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5FA4967-D8F3-4C9B-B3EC-6F5B4EB4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AA21ACE-F1EE-4D42-BF91-C21ACDAB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70E6C5A-529E-449C-8A07-D29E62D5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AB7C838-732B-46B2-BB33-E240CF5F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19C9A9F-A2E7-4458-90B7-A83FCEC0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03E224C-81C5-4735-A561-0377F16D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3455D-0A76-4B12-9EA4-3B58B2AA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4F42E79-C2FF-4843-B9C2-5B0FFC93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0743E7D-574F-46EA-816F-5A176126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558A78D-4578-456C-8F25-EB69EE32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7AB2296-674F-4E95-BC6C-6FCE404D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9C784A1-45DC-49B6-A7AA-354D06A2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74F5995-5928-4AA4-9FED-2DD4C85E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A1D6E10-462A-4BAA-85FC-964DABCD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F69248B-31E0-4E75-8222-A3546ED2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0B58D19-35DC-42B9-A5AA-0165E154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40B2258-E391-4ED0-9B9A-B3281D33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E6CEE-84AA-46EB-B362-B4483415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390CB97-F9BF-4DFA-A7A5-FAFA9735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D6D858C-6BE1-4B9D-ADA8-EE0994E6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9FC1095-A2E5-4A0D-8967-7200FCCF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16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9A414F9-CD72-47B5-9ED3-9961DED9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2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3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1F62946-B22F-4BF2-9EC8-BDFDCCB94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D9DF4AA-875F-4D7B-A76A-443C8D77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B0CBC74-3905-4F40-828E-6CFE7EF0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ED820BD-BFE3-476F-B184-2DB5EA64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B22038B-444A-4552-95AF-2E8E0520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273735D-1569-4F08-8CFA-4F3D0E5E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D1D52-F2EE-4CB7-ADC1-BAAD390F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B71A041-1D08-4F4D-B6B5-B27C3031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0AB30CE-FAC9-4A0A-88B5-14077AB7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1DE0459-850B-4232-9E20-C400495D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D73B138-24D3-4EB7-9DE3-A5E3B77D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75772A7-B672-481C-B5C2-127EB583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EDA5C00-344E-4CCB-996A-F48721DC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6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7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72F7156-8C0D-4D55-B99D-3396C2BD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ACA3FA2-4DC3-499B-ACA1-4B757A364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2A9A18B-4160-4574-87F7-CF8F3173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AC429BD-F207-4561-9AE4-4C0BF379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C8240-3B21-4C31-A164-EC4974EC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368FAFE-9C59-4B7B-9419-CB6CC57A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096E908-1770-4A1E-B860-B141561E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8E34E13-B8D1-4355-9E9F-4F988EA2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675E3FB-491D-4728-AD10-32D604B0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13363B2-F3A9-4EC4-AD48-CA69F8F2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D3570C4-6884-451E-BF49-22623A61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9415593-697D-4B67-9539-99CBFB8A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1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05DCDD2-1855-45CC-8DA7-8F176740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6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7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8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AB5D541-DDFA-4F1D-9785-4A2F799F9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35E24DF-A5B5-4BF2-A704-67C208576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906F4-A211-4F86-A0FF-C138A0B22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878348A-4F7F-43A0-BC31-916AE521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9E8E6A6-E59C-4F11-A864-0CD37CD3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BDDA97E-F744-4733-80F5-7B1E4C28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5C8B10F-A22F-494C-BB58-8B546518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C513C86-F06F-452C-BC66-65E8626C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B20B2F4-A4A3-403D-8AA4-84F8C01C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D71446F-DC3C-4370-BC69-0CB525D8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769E6D3-4C05-4CAF-8161-D46417A1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C0D09B6-7BEE-47C4-B237-D9E319CF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2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9CDC2CD-6C7C-47FE-8416-6B7456293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EC793-DA1C-42D0-98EA-19EFEF51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7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8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9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7E45FC0-06E6-4F93-AF10-5F02F9281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6680D14-F286-4329-BD7E-5ABE86A2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BAD03DE-BE0E-4946-84D7-36891D0B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78F8B87-7188-44C6-8593-09D562C6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7415EED-FA69-499C-B924-83F587D6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71EAB0C-A845-4FFD-BFCE-CB04B0D4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CD300F5-01CC-48F9-8298-2226A9A6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F234ED9-29F2-43E3-A545-41D6711F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4886480-B281-4368-8480-67293F0D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BF65068-3FE0-4FC0-920A-E7D1AE7C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AA4C3-8462-4C1C-8417-55C1E88C8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D7A64EF-E1C3-40BA-BDE8-714ABB9D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04D7592-459D-4054-91E2-4EF803DBF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9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90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DAC5D05-E7AB-4055-BCC3-701E4AAE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F558458-E290-4884-B696-5A0981BF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F9233D1-A504-4D73-984A-6655ECFF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956745E-313A-4F04-9C44-FE57C047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997DC25-36AA-4F3E-929D-94868604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DD19F2E-EE8C-424E-B17E-78CCEE59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967092D-7D65-4E33-8E24-0F985147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038ACEA-D892-42AB-AB9D-36D10FF5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A47A-C385-45B1-B18C-CA5508A2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C50E7-5700-477C-A326-16083945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AE01A1B-C0A8-4E8D-8A06-D81CC86C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E434A4D-4174-48F5-A28E-41BE9C27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451E586-759D-4CEB-9BF1-2D4F5CA0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4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68FE595-EA36-4661-BD58-A36E7F3F2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30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31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A4DA4FC-0A08-4147-A9F7-0651A643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454DA33-ECC9-4DFB-B648-D75761EB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40DD644-F406-4881-80D8-942081EC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9D840CD-0923-44BE-8D85-8E656306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333299F-3178-438A-AF93-724061ED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B8E3EA8-46FD-4D8F-825E-D5586B28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8FFF6-D715-44DC-A93E-7008A031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14CD23E-62DD-4A14-B395-1236A150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6066107-2417-4A7C-85ED-A59F1C86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D9882E0-2133-4ED8-940F-55E02F64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7C63C1C-E27E-41C9-9681-A3FCCC63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AE14FAB-B5B0-417A-BC23-46607E91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B06F406-7A57-4C1F-BA49-8F3904EEB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0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1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2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C6E4487-4BD2-4310-87EC-229CFF07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4FEF971-F66B-4D05-8F70-A61DA771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08CD7DE-880C-4252-9D2E-B08B02A3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D393E8E-63CF-40A1-8313-6717649F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FE70A-2A51-4D6D-B16E-BF2DD1BC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9B46A0B-FC62-4036-AB12-BFFEF157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3E15CA6-905C-4647-AFEB-7CFD5DD1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0AA444C-B261-4EC2-B8C8-F66070A0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D732252-2909-4933-99FD-87128242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DF2A1AF-0372-41EB-8482-4232F5A1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1AAB7D0-2298-4F20-8123-204C1BA4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A3156F3-DA6B-4092-BEB2-993CE264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6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7D7FBDE-E505-4B40-8FDD-C08BA317A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12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13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5CF2619-1070-492E-906A-4526540AA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38DDA43-2A91-46D0-990C-DC942C0E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2B872-0B4A-45B7-8C54-3E30A034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5F2EAE4-21B6-47B2-BE35-724268E6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083C12A-0E9B-42D9-BFA3-EFF625AE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8EE2174-816E-445D-BA75-FB4DD7FE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73525DD-3CE0-4E68-AD24-36ED02F3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5EF536A-B4E6-4F7D-9106-B7C65CBC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0675D60-34EF-4A58-BA14-7BE7A73F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C99CA19-57FD-4C34-8FC0-ACCEAA82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B15E336-A6BF-4727-8207-C0A9E682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4E496F4-D854-4256-B3FC-19368106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7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6B92B3B-787D-4C4C-A39C-419D1E2F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8CF2C-D112-4B0D-8CAF-BC7DB539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3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4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A8F0DD0-087B-4746-96D3-941C5B3C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001E83E-26D4-4145-8591-A13B83B3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10FE5DF-A49A-4A0D-B12C-D28B124B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64B852D-851B-40B3-AD7D-914599C0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9844F64-75DE-4255-8C8D-62DFF888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7EEC7CB-E6FC-43A5-B8D4-A135CFD1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AFF36FA-FD14-490B-9E57-9743D5F5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72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2DF6454-D2E3-42F5-9E93-EC13EDFA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865A747-EFFA-432A-B5A7-1ED79C75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9B8DF9B-5FC6-439F-9E73-7894F625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70873-74F1-4B13-BE3D-51E00193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45BB022-F1B0-4E32-A93A-5E015A07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8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818360D-222E-4A9B-A669-E67E6ACC3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93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94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95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1A5F6CA-78E0-438B-B666-AD005726F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72BE0AB-2BEC-439B-8ED5-054A9643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4C48EB6-19FE-44B9-9287-FAC4997C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8F5D597-455C-4AF1-951E-797E654B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8FE19AB-92FC-403D-82B8-E924B6CA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D8CD11D-DA6A-4FAF-8311-E6379441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6444640-F6D1-4229-B842-0F239C1A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1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13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AFC33C6-A42B-4908-8D51-FD3F0E31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D35E9-26F2-4940-B306-029B099D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7DEB69C-AE6E-4EC4-A76B-BC33C249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F57F3F9-D3E3-4D14-A5A1-ACD1C86F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92A5681-4E84-48DA-A2F5-8A62E5D1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590A282-C34B-4B6F-B8D7-62877214C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4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5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6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1134F78-405D-4DA8-A661-AC07B55DD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3CF73E1-7213-4DD1-9E74-BFA7ED9E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D6F57E9-F304-408B-B69C-85204E0B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D9503C4-05B8-4C08-B9DA-08792A8B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BD1649C-59C5-4DEE-A518-798C96A9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FDC2C20-964D-48D4-99F5-CA0C9784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9E2A8-0BED-4354-BE19-9299126E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6A9ACE6-5901-4400-A140-42E1A799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AF84CA7-548D-42E1-B0CC-CDD90F05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8FB6F7D-87AA-4FB7-ACC6-447D9BBE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094EB4C-F641-4CA4-8A00-D404950D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7EE5138-32CE-474E-9CE3-E3E04721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69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70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F3C6726-A11E-463F-BA29-401EDF7A6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75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76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77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65AA7DE-DC9C-4BF9-AAA7-04CB6DC06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465FD-213E-4467-BE1D-C4FE4A88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D6E6F-1E4B-49E6-BA71-8CF2DF41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709B-E9BE-4055-9FEA-CE927CE3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2040D-AAD0-490E-801E-3E25AD0B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259BB-B488-497A-8729-B2550E409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606B5-A064-441C-A54F-3762FC6B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8B322-14B4-40BF-8E4A-01F017BB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16F5E-DF8B-4F8E-96B2-1D371B00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81698-1681-4435-8D7D-7CA26EA4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78868-6E34-493E-B1AF-ADDDC496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F0A07-E1F3-44B5-9608-AAB437D6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EE12F-C8A6-4478-AF67-F2EEF23B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A987E-BD77-4DEB-B901-117F5D68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1109-C5B9-4252-9314-5A182C6A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D0F07-E8E8-47AC-8AA5-44A4A380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B2F3A-1BB5-4852-9386-46B4E7EB4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6A564-FF44-4669-814F-37E1899B3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25E8B-B698-4FEA-872F-C1B8D0E1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2AD6E-562A-44C6-8DD3-97DF1C0D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E1B66-5EED-41FC-80D8-751F6DCA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55404-6DC7-4490-84A3-1BE6D5AC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E9E36-5115-430A-B785-55749B47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918D5-6788-4124-8D7C-AA6C7511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A020C-EB69-41ED-9AAD-B7113A3E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7DE6-4992-456D-9968-4DD658D6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9028B-1486-46B3-BB72-120C4F97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DE955-AFBE-4662-AC1C-E80089D0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9D7A8-41CD-467D-94BA-FF63457D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4BDEA-D8AF-4A84-A8A8-707C9A64A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B7260-6ED3-4386-A095-0178BAA9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65650-CBF3-4979-B89B-DADF58472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FDFBB-C9F9-4693-B5D7-C8C48983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11B1D-325F-4A1A-A764-48F0FA6A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3A138-5D37-4D86-B823-296EA2C0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46795-BC50-4D24-B048-3EF739FA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D638-BFDB-4F02-9C70-5AFDA3AB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23CC6-2190-4EF8-8E08-9AC039DB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B12D1-A06E-437C-8DE9-9A214C3A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6D79A-226B-46A4-A06A-B08E0D96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837B0-E21B-48F1-B549-55A21A26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54DAF-AEE3-43FB-A84E-A94E7725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01C1D-2004-4B44-A530-BA1D81BB6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0607C-620C-45E4-9E32-52B2A4339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BDD12-CAEB-428D-BC13-8F413B1C2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61440-831A-4920-8B9F-4AFE8630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E0D7E-B18F-4E43-9CF1-F247706B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A21D-6E8B-4183-A70E-B2550F843C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682560" y="6288120"/>
            <a:ext cx="8420040" cy="0"/>
          </a:xfrm>
          <a:prstGeom prst="line">
            <a:avLst/>
          </a:prstGeom>
          <a:ln w="255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754200" y="1265400"/>
            <a:ext cx="8420040" cy="0"/>
          </a:xfrm>
          <a:prstGeom prst="line">
            <a:avLst/>
          </a:prstGeom>
          <a:ln w="255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8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9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30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40AD-07D1-405B-B019-FCC52667CD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31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3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3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D745-59E5-4411-88A9-E0608131E9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4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6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B6FE-2E17-4E7F-839A-D937DC6ACF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7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9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9537-5C1A-4100-B9C3-CD302522A1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40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4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42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DE17-6D7E-47C1-A1AE-1F6DE02BE5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43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4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45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B1C8-960D-4E6C-937D-9765E9F319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6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7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8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524F-CBA8-43C1-ADC0-76165C440A1B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49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50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51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7325-7C66-4DCF-8662-750CF0B8E9BA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52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53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54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845B-970A-4AE5-961B-D23A29B5B462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5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6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7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43F2-A3DB-4E4D-8296-2CEB63B2F9E8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2E1B-850B-4EC4-B4F9-FA66B054878F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58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59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60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38DB-E6CC-4D76-965C-5F6BA1A67FDA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dt" idx="6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 type="ftr" idx="6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 type="sldNum" idx="6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2228-6862-425C-9E01-3D901996AD97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6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6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66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629E-4F18-4BD8-A93A-E371A2DBA2ED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6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68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69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1781-6A2B-42B0-B00E-196B6284D3AF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 type="dt" idx="70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 type="ftr" idx="71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 type="sldNum" idx="72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38C7-21AB-4838-B5AA-5D5F6E38AAC9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 type="dt" idx="73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 type="ftr" idx="74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 type="sldNum" idx="75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1C8C-0883-430E-B0BA-0A14C7634747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dt" idx="76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ftr" idx="77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sldNum" idx="78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7193-3BA5-480D-8CE9-473A72560552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 type="dt" idx="79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 type="ftr" idx="80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 type="sldNum" idx="81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F753-30B8-43B4-96FD-19F33BB4779C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 type="dt" idx="82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 type="ftr" idx="83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 type="sldNum" idx="84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1CEF-D18E-483F-982C-B41934A5A865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5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6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7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68D6-7C3B-4A64-B7D4-36CA29126E73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44B2-FB85-4F40-AD9A-85B22AB61FC7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 type="dt" idx="88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 type="ftr" idx="89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 type="sldNum" idx="90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1F37-7212-426A-841A-8EABC3E83F62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 type="dt" idx="9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 type="ftr" idx="9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 type="sldNum" idx="9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3787-12B1-4630-86E3-D993F3073223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dt" idx="9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ftr" idx="9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 type="sldNum" idx="96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3968-2857-48FE-B9E4-79F35F6EC91F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 type="dt" idx="9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 type="ftr" idx="98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 type="sldNum" idx="99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3B94-BCFC-443B-AF27-8E4EA692A173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 type="dt" idx="100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 type="ftr" idx="101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 type="sldNum" idx="102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5BB7-4FB9-4780-AEF8-EF63B78A69DB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 type="dt" idx="103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 type="ftr" idx="104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PlaceHolder 5"/>
          <p:cNvSpPr>
            <a:spLocks noGrp="1"/>
          </p:cNvSpPr>
          <p:nvPr>
            <p:ph type="sldNum" idx="105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AE13-46FE-4D2D-9A63-F5FC1EA09C5D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dt" idx="106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ftr" idx="107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 type="sldNum" idx="108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4F05-F5BD-42E1-A348-E0065C3CF6C8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 type="dt" idx="109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 type="ftr" idx="110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5"/>
          <p:cNvSpPr>
            <a:spLocks noGrp="1"/>
          </p:cNvSpPr>
          <p:nvPr>
            <p:ph type="sldNum" idx="111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2732-4329-4392-A63C-915BD784ABA8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Line 7"/>
          <p:cNvSpPr/>
          <p:nvPr/>
        </p:nvSpPr>
        <p:spPr>
          <a:xfrm>
            <a:off x="657360" y="6296040"/>
            <a:ext cx="8420040" cy="0"/>
          </a:xfrm>
          <a:prstGeom prst="line">
            <a:avLst/>
          </a:prstGeom>
          <a:ln w="255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Line 8"/>
          <p:cNvSpPr/>
          <p:nvPr/>
        </p:nvSpPr>
        <p:spPr>
          <a:xfrm>
            <a:off x="754200" y="1405080"/>
            <a:ext cx="8420040" cy="0"/>
          </a:xfrm>
          <a:prstGeom prst="line">
            <a:avLst/>
          </a:prstGeom>
          <a:ln w="255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Line 11"/>
          <p:cNvSpPr/>
          <p:nvPr/>
        </p:nvSpPr>
        <p:spPr>
          <a:xfrm>
            <a:off x="727200" y="2978280"/>
            <a:ext cx="8420040" cy="0"/>
          </a:xfrm>
          <a:prstGeom prst="line">
            <a:avLst/>
          </a:prstGeom>
          <a:ln w="255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 type="dt" idx="112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 type="ftr" idx="113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 type="sldNum" idx="114"/>
          </p:nvPr>
        </p:nvSpPr>
        <p:spPr>
          <a:xfrm>
            <a:off x="8467200" y="6240600"/>
            <a:ext cx="1003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68BB-1CE6-425D-8CF2-47E6994B76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 type="dt" idx="115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 type="ftr" idx="116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PlaceHolder 5"/>
          <p:cNvSpPr>
            <a:spLocks noGrp="1"/>
          </p:cNvSpPr>
          <p:nvPr>
            <p:ph type="sldNum" idx="117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9C96-9ADA-4BEB-8508-9C41F528B7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dt" idx="10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1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12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03AA-0D8B-412F-840D-5CA57258AD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682560" y="6288120"/>
            <a:ext cx="8420040" cy="0"/>
          </a:xfrm>
          <a:prstGeom prst="line">
            <a:avLst/>
          </a:prstGeom>
          <a:ln w="255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754200" y="1265400"/>
            <a:ext cx="8420040" cy="0"/>
          </a:xfrm>
          <a:prstGeom prst="line">
            <a:avLst/>
          </a:prstGeom>
          <a:ln w="255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 type="dt" idx="118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 type="ftr" idx="119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5"/>
          <p:cNvSpPr>
            <a:spLocks noGrp="1"/>
          </p:cNvSpPr>
          <p:nvPr>
            <p:ph type="sldNum" idx="120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CCE5-E0FA-46AB-9199-E771C6F7F2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 type="dt" idx="121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 type="ftr" idx="12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5"/>
          <p:cNvSpPr>
            <a:spLocks noGrp="1"/>
          </p:cNvSpPr>
          <p:nvPr>
            <p:ph type="sldNum" idx="123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689D-F22D-4E28-8740-CA8AE115E1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 type="dt" idx="124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 type="ftr" idx="12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PlaceHolder 5"/>
          <p:cNvSpPr>
            <a:spLocks noGrp="1"/>
          </p:cNvSpPr>
          <p:nvPr>
            <p:ph type="sldNum" idx="126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109B-C334-4341-83C8-0520429E59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 type="dt" idx="127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 type="ftr" idx="12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5"/>
          <p:cNvSpPr>
            <a:spLocks noGrp="1"/>
          </p:cNvSpPr>
          <p:nvPr>
            <p:ph type="sldNum" idx="129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D8D8-A044-438A-9D94-E66061BF14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 type="dt" idx="130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 type="ftr" idx="13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PlaceHolder 5"/>
          <p:cNvSpPr>
            <a:spLocks noGrp="1"/>
          </p:cNvSpPr>
          <p:nvPr>
            <p:ph type="sldNum" idx="132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5B6C-03AF-4E07-A572-1AF0E6EA2F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 type="dt" idx="133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 type="ftr" idx="13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PlaceHolder 5"/>
          <p:cNvSpPr>
            <a:spLocks noGrp="1"/>
          </p:cNvSpPr>
          <p:nvPr>
            <p:ph type="sldNum" idx="135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07B0-5A30-411D-9292-1761F05F59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 type="dt" idx="136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 type="ftr" idx="137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PlaceHolder 5"/>
          <p:cNvSpPr>
            <a:spLocks noGrp="1"/>
          </p:cNvSpPr>
          <p:nvPr>
            <p:ph type="sldNum" idx="138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9625-0A81-473C-A187-0242ADAFAA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 type="dt" idx="139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 type="ftr" idx="140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 type="sldNum" idx="141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DFFA-14FC-4BDB-8B93-D6F28F5AEA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 type="dt" idx="142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 type="ftr" idx="14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PlaceHolder 5"/>
          <p:cNvSpPr>
            <a:spLocks noGrp="1"/>
          </p:cNvSpPr>
          <p:nvPr>
            <p:ph type="sldNum" idx="144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2FDE-564C-4E37-A3C6-CBB3229332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7"/>
          <p:cNvSpPr/>
          <p:nvPr/>
        </p:nvSpPr>
        <p:spPr>
          <a:xfrm>
            <a:off x="657360" y="6296040"/>
            <a:ext cx="8420040" cy="0"/>
          </a:xfrm>
          <a:prstGeom prst="line">
            <a:avLst/>
          </a:prstGeom>
          <a:ln w="255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8"/>
          <p:cNvSpPr/>
          <p:nvPr/>
        </p:nvSpPr>
        <p:spPr>
          <a:xfrm>
            <a:off x="754200" y="1405080"/>
            <a:ext cx="8420040" cy="0"/>
          </a:xfrm>
          <a:prstGeom prst="line">
            <a:avLst/>
          </a:prstGeom>
          <a:ln w="255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1"/>
          <p:cNvSpPr/>
          <p:nvPr/>
        </p:nvSpPr>
        <p:spPr>
          <a:xfrm>
            <a:off x="727200" y="2978280"/>
            <a:ext cx="8420040" cy="0"/>
          </a:xfrm>
          <a:prstGeom prst="line">
            <a:avLst/>
          </a:prstGeom>
          <a:ln w="255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8467200" y="6240600"/>
            <a:ext cx="1003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BFCF-6A52-4EDB-B594-1736D2695E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5928-73D3-4E15-84FA-4DD76DC8414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7F3C-A179-4324-9A37-65F25264AF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5A0E-1C33-4C20-8CB5-06DAEBB738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5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6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7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3108-74EE-431D-914E-9E29418E3A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8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745920" y="1641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bility in Content Deliver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 type="subTitle"/>
          </p:nvPr>
        </p:nvSpPr>
        <p:spPr>
          <a:xfrm>
            <a:off x="1523880" y="4115880"/>
            <a:ext cx="69343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79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IETF Beijing, November 2010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yu Myoung Lee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(gm.lee@it-sudparis.eu)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87" name="슬라이드 번호 개체 틀 3"/>
          <p:cNvSpPr/>
          <p:nvPr/>
        </p:nvSpPr>
        <p:spPr>
          <a:xfrm>
            <a:off x="8467560" y="6240600"/>
            <a:ext cx="100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5B17-EABE-46CF-8EE0-719FCEE5615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til now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 txBox="1"/>
          <p:nvPr/>
        </p:nvSpPr>
        <p:spPr>
          <a:xfrm>
            <a:off x="731520" y="1468080"/>
            <a:ext cx="8420040" cy="250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vice mobility, user mobility, session mobility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ulticast source mobility for future work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MIP MN may be a multicast sou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A which is a fixed node for MN can act as R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T can also refreshed in a network-based man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슬라이드 번호 개체 틀 3"/>
          <p:cNvSpPr/>
          <p:nvPr/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DE6A-63E1-4C3C-A44C-72087A5924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제목 1"/>
          <p:cNvSpPr/>
          <p:nvPr/>
        </p:nvSpPr>
        <p:spPr>
          <a:xfrm>
            <a:off x="755640" y="3971880"/>
            <a:ext cx="84456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굴림체"/>
              </a:rPr>
              <a:t>New item proposa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내용 개체 틀 2"/>
          <p:cNvSpPr/>
          <p:nvPr/>
        </p:nvSpPr>
        <p:spPr>
          <a:xfrm>
            <a:off x="731880" y="4707000"/>
            <a:ext cx="84200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굴림체"/>
              </a:rPr>
              <a:t>Content mobi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Multicast server handof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Content mov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Cloud 3"/>
          <p:cNvSpPr/>
          <p:nvPr/>
        </p:nvSpPr>
        <p:spPr>
          <a:xfrm>
            <a:off x="1733400" y="4081320"/>
            <a:ext cx="6108840" cy="1752840"/>
          </a:xfrm>
          <a:custGeom>
            <a:avLst/>
            <a:gdLst>
              <a:gd name="textAreaLeft" fmla="*/ 841680 w 6108840"/>
              <a:gd name="textAreaRight" fmla="*/ 4832640 w 6108840"/>
              <a:gd name="textAreaTop" fmla="*/ 264600 h 1752840"/>
              <a:gd name="textAreaBottom" fmla="*/ 1406880 h 17528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noFill/>
          <a:ln w="15840">
            <a:solidFill>
              <a:srgbClr val="385d8a">
                <a:alpha val="9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4" name="Straight Arrow Connector 5"/>
          <p:cNvCxnSpPr>
            <a:stCxn id="1995" idx="0"/>
            <a:endCxn id="1996" idx="2"/>
          </p:cNvCxnSpPr>
          <p:nvPr/>
        </p:nvCxnSpPr>
        <p:spPr>
          <a:xfrm flipV="1">
            <a:off x="3381840" y="5341680"/>
            <a:ext cx="3960" cy="1026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97" name="Can 6"/>
          <p:cNvSpPr/>
          <p:nvPr/>
        </p:nvSpPr>
        <p:spPr>
          <a:xfrm>
            <a:off x="3054240" y="4767120"/>
            <a:ext cx="412920" cy="304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c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Rectangle 9"/>
          <p:cNvSpPr/>
          <p:nvPr/>
        </p:nvSpPr>
        <p:spPr>
          <a:xfrm>
            <a:off x="3054240" y="6367320"/>
            <a:ext cx="660600" cy="228600"/>
          </a:xfrm>
          <a:prstGeom prst="rect">
            <a:avLst/>
          </a:prstGeom>
          <a:noFill/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user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8" name="Rectangle 10" descr=""/>
          <p:cNvPicPr/>
          <p:nvPr/>
        </p:nvPicPr>
        <p:blipFill>
          <a:blip r:embed="rId1"/>
          <a:stretch/>
        </p:blipFill>
        <p:spPr>
          <a:xfrm>
            <a:off x="2919240" y="5078520"/>
            <a:ext cx="933480" cy="334800"/>
          </a:xfrm>
          <a:prstGeom prst="rect">
            <a:avLst/>
          </a:prstGeom>
          <a:ln w="0">
            <a:noFill/>
          </a:ln>
        </p:spPr>
      </p:pic>
      <p:sp>
        <p:nvSpPr>
          <p:cNvPr id="1999" name="Can 11"/>
          <p:cNvSpPr/>
          <p:nvPr/>
        </p:nvSpPr>
        <p:spPr>
          <a:xfrm>
            <a:off x="4952880" y="4995720"/>
            <a:ext cx="330480" cy="3049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c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Can 12"/>
          <p:cNvSpPr/>
          <p:nvPr/>
        </p:nvSpPr>
        <p:spPr>
          <a:xfrm>
            <a:off x="3467160" y="4767120"/>
            <a:ext cx="247680" cy="304920"/>
          </a:xfrm>
          <a:prstGeom prst="can">
            <a:avLst>
              <a:gd name="adj" fmla="val 20314"/>
            </a:avLst>
          </a:prstGeom>
          <a:noFill/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Rectangle 20"/>
          <p:cNvSpPr/>
          <p:nvPr/>
        </p:nvSpPr>
        <p:spPr>
          <a:xfrm>
            <a:off x="6191280" y="6367320"/>
            <a:ext cx="660240" cy="228600"/>
          </a:xfrm>
          <a:prstGeom prst="rect">
            <a:avLst/>
          </a:prstGeom>
          <a:noFill/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User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2" name="Straight Arrow Connector 21"/>
          <p:cNvCxnSpPr>
            <a:stCxn id="2003" idx="0"/>
          </p:cNvCxnSpPr>
          <p:nvPr/>
        </p:nvCxnSpPr>
        <p:spPr>
          <a:xfrm flipV="1">
            <a:off x="4950360" y="5528880"/>
            <a:ext cx="3960" cy="838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04" name="Straight Arrow Connector 23"/>
          <p:cNvCxnSpPr>
            <a:endCxn id="2005" idx="2"/>
          </p:cNvCxnSpPr>
          <p:nvPr/>
        </p:nvCxnSpPr>
        <p:spPr>
          <a:xfrm flipV="1">
            <a:off x="6353640" y="5376240"/>
            <a:ext cx="3960" cy="99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03" name="Rectangle 24"/>
          <p:cNvSpPr/>
          <p:nvPr/>
        </p:nvSpPr>
        <p:spPr>
          <a:xfrm>
            <a:off x="4622760" y="6367320"/>
            <a:ext cx="660600" cy="228600"/>
          </a:xfrm>
          <a:prstGeom prst="rect">
            <a:avLst/>
          </a:prstGeom>
          <a:noFill/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user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6" name="Straight Arrow Connector 32"/>
          <p:cNvCxnSpPr>
            <a:endCxn id="2007" idx="1"/>
          </p:cNvCxnSpPr>
          <p:nvPr/>
        </p:nvCxnSpPr>
        <p:spPr>
          <a:xfrm>
            <a:off x="3797280" y="5183280"/>
            <a:ext cx="743760" cy="23256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08" name="Straight Arrow Connector 36"/>
          <p:cNvCxnSpPr>
            <a:stCxn id="2007" idx="3"/>
          </p:cNvCxnSpPr>
          <p:nvPr/>
        </p:nvCxnSpPr>
        <p:spPr>
          <a:xfrm flipV="1">
            <a:off x="5365440" y="5262120"/>
            <a:ext cx="578520" cy="15336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09" name="Can 47"/>
          <p:cNvSpPr/>
          <p:nvPr/>
        </p:nvSpPr>
        <p:spPr>
          <a:xfrm>
            <a:off x="4540320" y="4995720"/>
            <a:ext cx="412560" cy="304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c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Can 48"/>
          <p:cNvSpPr/>
          <p:nvPr/>
        </p:nvSpPr>
        <p:spPr>
          <a:xfrm>
            <a:off x="5861160" y="4843440"/>
            <a:ext cx="412560" cy="304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c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1" name="Straight Arrow Connector 49"/>
          <p:cNvCxnSpPr/>
          <p:nvPr/>
        </p:nvCxnSpPr>
        <p:spPr>
          <a:xfrm>
            <a:off x="3797280" y="6517800"/>
            <a:ext cx="743760" cy="252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tailEnd len="med" type="triangle" w="med"/>
          </a:ln>
        </p:spPr>
      </p:cxnSp>
      <p:cxnSp>
        <p:nvCxnSpPr>
          <p:cNvPr id="2012" name="Straight Arrow Connector 62"/>
          <p:cNvCxnSpPr/>
          <p:nvPr/>
        </p:nvCxnSpPr>
        <p:spPr>
          <a:xfrm>
            <a:off x="5346360" y="6509880"/>
            <a:ext cx="762840" cy="1044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tailEnd len="med" type="triangle" w="med"/>
          </a:ln>
        </p:spPr>
      </p:cxnSp>
      <p:pic>
        <p:nvPicPr>
          <p:cNvPr id="2013" name="Rectangle 67" descr=""/>
          <p:cNvPicPr/>
          <p:nvPr/>
        </p:nvPicPr>
        <p:blipFill>
          <a:blip r:embed="rId2"/>
          <a:stretch/>
        </p:blipFill>
        <p:spPr>
          <a:xfrm>
            <a:off x="4486320" y="5267160"/>
            <a:ext cx="933480" cy="341640"/>
          </a:xfrm>
          <a:prstGeom prst="rect">
            <a:avLst/>
          </a:prstGeom>
          <a:ln w="0">
            <a:noFill/>
          </a:ln>
        </p:spPr>
      </p:pic>
      <p:pic>
        <p:nvPicPr>
          <p:cNvPr id="2014" name="Rectangle 68" descr=""/>
          <p:cNvPicPr/>
          <p:nvPr/>
        </p:nvPicPr>
        <p:blipFill>
          <a:blip r:embed="rId3"/>
          <a:stretch/>
        </p:blipFill>
        <p:spPr>
          <a:xfrm>
            <a:off x="5888160" y="5108400"/>
            <a:ext cx="933480" cy="341640"/>
          </a:xfrm>
          <a:prstGeom prst="rect">
            <a:avLst/>
          </a:prstGeom>
          <a:ln w="0">
            <a:noFill/>
          </a:ln>
        </p:spPr>
      </p:pic>
      <p:sp>
        <p:nvSpPr>
          <p:cNvPr id="2015" name="TextBox 69"/>
          <p:cNvSpPr/>
          <p:nvPr/>
        </p:nvSpPr>
        <p:spPr>
          <a:xfrm>
            <a:off x="3695760" y="6326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r mobility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TextBox 70"/>
          <p:cNvSpPr/>
          <p:nvPr/>
        </p:nvSpPr>
        <p:spPr>
          <a:xfrm>
            <a:off x="5283360" y="6291360"/>
            <a:ext cx="156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r mobility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7" name="Curved Connector 75"/>
          <p:cNvCxnSpPr>
            <a:stCxn id="1997" idx="1"/>
            <a:endCxn id="2009" idx="1"/>
          </p:cNvCxnSpPr>
          <p:nvPr/>
        </p:nvCxnSpPr>
        <p:spPr>
          <a:xfrm flipH="1" rot="16200000">
            <a:off x="3888360" y="4138200"/>
            <a:ext cx="229320" cy="1486440"/>
          </a:xfrm>
          <a:prstGeom prst="curvedConnector5">
            <a:avLst>
              <a:gd name="adj1" fmla="val -60691"/>
              <a:gd name="adj2" fmla="val 50000"/>
              <a:gd name="adj3" fmla="val -60691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18" name="Curved Connector 94"/>
          <p:cNvCxnSpPr>
            <a:stCxn id="1997" idx="1"/>
            <a:endCxn id="2010" idx="1"/>
          </p:cNvCxnSpPr>
          <p:nvPr/>
        </p:nvCxnSpPr>
        <p:spPr>
          <a:xfrm flipH="1" rot="16200000">
            <a:off x="4626000" y="3401640"/>
            <a:ext cx="76680" cy="2807280"/>
          </a:xfrm>
          <a:prstGeom prst="curvedConnector5">
            <a:avLst>
              <a:gd name="adj1" fmla="val -301415"/>
              <a:gd name="adj2" fmla="val 49993"/>
              <a:gd name="adj3" fmla="val -301415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19" name="Curved Connector 125"/>
          <p:cNvCxnSpPr>
            <a:stCxn id="2009" idx="1"/>
            <a:endCxn id="2010" idx="1"/>
          </p:cNvCxnSpPr>
          <p:nvPr/>
        </p:nvCxnSpPr>
        <p:spPr>
          <a:xfrm flipH="1" flipV="1" rot="5400000">
            <a:off x="5329440" y="4258800"/>
            <a:ext cx="153000" cy="1321200"/>
          </a:xfrm>
          <a:prstGeom prst="curvedConnector5">
            <a:avLst>
              <a:gd name="adj1" fmla="val 250000"/>
              <a:gd name="adj2" fmla="val 49986"/>
              <a:gd name="adj3" fmla="val 2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20" name="TextBox 126"/>
          <p:cNvSpPr/>
          <p:nvPr/>
        </p:nvSpPr>
        <p:spPr>
          <a:xfrm>
            <a:off x="3467160" y="4386240"/>
            <a:ext cx="41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1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TextBox 128"/>
          <p:cNvSpPr/>
          <p:nvPr/>
        </p:nvSpPr>
        <p:spPr>
          <a:xfrm>
            <a:off x="4622760" y="4538520"/>
            <a:ext cx="57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1,C2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Can 129"/>
          <p:cNvSpPr/>
          <p:nvPr/>
        </p:nvSpPr>
        <p:spPr>
          <a:xfrm>
            <a:off x="6273720" y="4843440"/>
            <a:ext cx="330120" cy="3049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c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TextBox 130"/>
          <p:cNvSpPr/>
          <p:nvPr/>
        </p:nvSpPr>
        <p:spPr>
          <a:xfrm>
            <a:off x="4457880" y="4362480"/>
            <a:ext cx="41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1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Cloud 29"/>
          <p:cNvSpPr/>
          <p:nvPr/>
        </p:nvSpPr>
        <p:spPr>
          <a:xfrm>
            <a:off x="1816200" y="952560"/>
            <a:ext cx="6108480" cy="1600200"/>
          </a:xfrm>
          <a:custGeom>
            <a:avLst/>
            <a:gdLst>
              <a:gd name="textAreaLeft" fmla="*/ 841680 w 6108480"/>
              <a:gd name="textAreaRight" fmla="*/ 4832280 w 6108480"/>
              <a:gd name="textAreaTop" fmla="*/ 241560 h 1600200"/>
              <a:gd name="textAreaBottom" fmla="*/ 1284480 h 16002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noFill/>
          <a:ln w="15840">
            <a:solidFill>
              <a:srgbClr val="385d8a">
                <a:alpha val="9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5" name="Straight Arrow Connector 30"/>
          <p:cNvCxnSpPr>
            <a:stCxn id="2026" idx="0"/>
            <a:endCxn id="2027" idx="2"/>
          </p:cNvCxnSpPr>
          <p:nvPr/>
        </p:nvCxnSpPr>
        <p:spPr>
          <a:xfrm flipV="1">
            <a:off x="3464280" y="2059920"/>
            <a:ext cx="3960" cy="1027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28" name="Can 31"/>
          <p:cNvSpPr/>
          <p:nvPr/>
        </p:nvSpPr>
        <p:spPr>
          <a:xfrm>
            <a:off x="3137040" y="1521000"/>
            <a:ext cx="412560" cy="3045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c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Rectangle 33"/>
          <p:cNvSpPr/>
          <p:nvPr/>
        </p:nvSpPr>
        <p:spPr>
          <a:xfrm>
            <a:off x="3137040" y="3086280"/>
            <a:ext cx="660240" cy="228600"/>
          </a:xfrm>
          <a:prstGeom prst="rect">
            <a:avLst/>
          </a:prstGeom>
          <a:noFill/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user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9" name="Rectangle 34" descr=""/>
          <p:cNvPicPr/>
          <p:nvPr/>
        </p:nvPicPr>
        <p:blipFill>
          <a:blip r:embed="rId4"/>
          <a:stretch/>
        </p:blipFill>
        <p:spPr>
          <a:xfrm>
            <a:off x="2998800" y="1792440"/>
            <a:ext cx="933480" cy="341280"/>
          </a:xfrm>
          <a:prstGeom prst="rect">
            <a:avLst/>
          </a:prstGeom>
          <a:ln w="0">
            <a:noFill/>
          </a:ln>
        </p:spPr>
      </p:pic>
      <p:sp>
        <p:nvSpPr>
          <p:cNvPr id="2030" name="Can 35"/>
          <p:cNvSpPr/>
          <p:nvPr/>
        </p:nvSpPr>
        <p:spPr>
          <a:xfrm>
            <a:off x="5035680" y="1714680"/>
            <a:ext cx="330120" cy="3045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Can 37"/>
          <p:cNvSpPr/>
          <p:nvPr/>
        </p:nvSpPr>
        <p:spPr>
          <a:xfrm>
            <a:off x="3549600" y="1530360"/>
            <a:ext cx="247680" cy="304920"/>
          </a:xfrm>
          <a:prstGeom prst="can">
            <a:avLst>
              <a:gd name="adj" fmla="val 20314"/>
            </a:avLst>
          </a:prstGeom>
          <a:noFill/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Rectangle 38"/>
          <p:cNvSpPr/>
          <p:nvPr/>
        </p:nvSpPr>
        <p:spPr>
          <a:xfrm>
            <a:off x="6273720" y="3086280"/>
            <a:ext cx="660600" cy="228600"/>
          </a:xfrm>
          <a:prstGeom prst="rect">
            <a:avLst/>
          </a:prstGeom>
          <a:noFill/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User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3" name="Straight Arrow Connector 39"/>
          <p:cNvCxnSpPr>
            <a:stCxn id="2034" idx="0"/>
            <a:endCxn id="2029" idx="2"/>
          </p:cNvCxnSpPr>
          <p:nvPr/>
        </p:nvCxnSpPr>
        <p:spPr>
          <a:xfrm flipH="1" flipV="1">
            <a:off x="3466440" y="2059920"/>
            <a:ext cx="1569240" cy="102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35" name="Straight Arrow Connector 40"/>
          <p:cNvCxnSpPr>
            <a:stCxn id="2032" idx="0"/>
            <a:endCxn id="2029" idx="2"/>
          </p:cNvCxnSpPr>
          <p:nvPr/>
        </p:nvCxnSpPr>
        <p:spPr>
          <a:xfrm flipH="1" flipV="1">
            <a:off x="3466440" y="2059920"/>
            <a:ext cx="3137400" cy="102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34" name="Rectangle 41"/>
          <p:cNvSpPr/>
          <p:nvPr/>
        </p:nvSpPr>
        <p:spPr>
          <a:xfrm>
            <a:off x="4705200" y="3086280"/>
            <a:ext cx="660600" cy="228600"/>
          </a:xfrm>
          <a:prstGeom prst="rect">
            <a:avLst/>
          </a:prstGeom>
          <a:noFill/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user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6" name="Straight Arrow Connector 42"/>
          <p:cNvCxnSpPr/>
          <p:nvPr/>
        </p:nvCxnSpPr>
        <p:spPr>
          <a:xfrm>
            <a:off x="3879720" y="1901520"/>
            <a:ext cx="743760" cy="24480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37" name="Straight Arrow Connector 43"/>
          <p:cNvCxnSpPr>
            <a:stCxn id="2038" idx="3"/>
          </p:cNvCxnSpPr>
          <p:nvPr/>
        </p:nvCxnSpPr>
        <p:spPr>
          <a:xfrm flipV="1">
            <a:off x="5447880" y="1980720"/>
            <a:ext cx="578520" cy="15336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39" name="Can 44"/>
          <p:cNvSpPr/>
          <p:nvPr/>
        </p:nvSpPr>
        <p:spPr>
          <a:xfrm>
            <a:off x="4622760" y="1714680"/>
            <a:ext cx="412920" cy="3045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c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Can 45"/>
          <p:cNvSpPr/>
          <p:nvPr/>
        </p:nvSpPr>
        <p:spPr>
          <a:xfrm>
            <a:off x="5943600" y="1562040"/>
            <a:ext cx="412920" cy="304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c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1" name="Straight Arrow Connector 46"/>
          <p:cNvCxnSpPr/>
          <p:nvPr/>
        </p:nvCxnSpPr>
        <p:spPr>
          <a:xfrm>
            <a:off x="3879720" y="3236400"/>
            <a:ext cx="743760" cy="252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tailEnd len="med" type="triangle" w="med"/>
          </a:ln>
        </p:spPr>
      </p:cxnSp>
      <p:cxnSp>
        <p:nvCxnSpPr>
          <p:cNvPr id="2042" name="Straight Arrow Connector 50"/>
          <p:cNvCxnSpPr/>
          <p:nvPr/>
        </p:nvCxnSpPr>
        <p:spPr>
          <a:xfrm>
            <a:off x="5428800" y="3228480"/>
            <a:ext cx="762840" cy="1044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tailEnd len="med" type="triangle" w="med"/>
          </a:ln>
        </p:spPr>
      </p:cxnSp>
      <p:pic>
        <p:nvPicPr>
          <p:cNvPr id="2043" name="Rectangle 51" descr=""/>
          <p:cNvPicPr/>
          <p:nvPr/>
        </p:nvPicPr>
        <p:blipFill>
          <a:blip r:embed="rId5"/>
          <a:stretch/>
        </p:blipFill>
        <p:spPr>
          <a:xfrm>
            <a:off x="4565520" y="1987560"/>
            <a:ext cx="939960" cy="341280"/>
          </a:xfrm>
          <a:prstGeom prst="rect">
            <a:avLst/>
          </a:prstGeom>
          <a:ln w="0">
            <a:noFill/>
          </a:ln>
        </p:spPr>
      </p:pic>
      <p:pic>
        <p:nvPicPr>
          <p:cNvPr id="2044" name="Rectangle 52" descr=""/>
          <p:cNvPicPr/>
          <p:nvPr/>
        </p:nvPicPr>
        <p:blipFill>
          <a:blip r:embed="rId6"/>
          <a:stretch/>
        </p:blipFill>
        <p:spPr>
          <a:xfrm>
            <a:off x="5973840" y="1828800"/>
            <a:ext cx="933480" cy="341280"/>
          </a:xfrm>
          <a:prstGeom prst="rect">
            <a:avLst/>
          </a:prstGeom>
          <a:ln w="0">
            <a:noFill/>
          </a:ln>
        </p:spPr>
      </p:pic>
      <p:sp>
        <p:nvSpPr>
          <p:cNvPr id="2045" name="TextBox 53"/>
          <p:cNvSpPr/>
          <p:nvPr/>
        </p:nvSpPr>
        <p:spPr>
          <a:xfrm>
            <a:off x="3778200" y="30448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r mobility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TextBox 54"/>
          <p:cNvSpPr/>
          <p:nvPr/>
        </p:nvSpPr>
        <p:spPr>
          <a:xfrm>
            <a:off x="5365800" y="3009960"/>
            <a:ext cx="156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r mobility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Can 60"/>
          <p:cNvSpPr/>
          <p:nvPr/>
        </p:nvSpPr>
        <p:spPr>
          <a:xfrm>
            <a:off x="6356520" y="1562040"/>
            <a:ext cx="330120" cy="3049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8" name="Straight Arrow Connector 80"/>
          <p:cNvCxnSpPr/>
          <p:nvPr/>
        </p:nvCxnSpPr>
        <p:spPr>
          <a:xfrm flipV="1">
            <a:off x="5035680" y="2249280"/>
            <a:ext cx="2160" cy="83880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49" name="Straight Arrow Connector 84"/>
          <p:cNvCxnSpPr>
            <a:stCxn id="2032" idx="0"/>
          </p:cNvCxnSpPr>
          <p:nvPr/>
        </p:nvCxnSpPr>
        <p:spPr>
          <a:xfrm flipV="1">
            <a:off x="6601320" y="2096640"/>
            <a:ext cx="3960" cy="99144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50" name="TextBox 87"/>
          <p:cNvSpPr/>
          <p:nvPr/>
        </p:nvSpPr>
        <p:spPr>
          <a:xfrm>
            <a:off x="3384720" y="2552760"/>
            <a:ext cx="41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1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TextBox 88"/>
          <p:cNvSpPr/>
          <p:nvPr/>
        </p:nvSpPr>
        <p:spPr>
          <a:xfrm>
            <a:off x="3962520" y="2476440"/>
            <a:ext cx="41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1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TextBox 89"/>
          <p:cNvSpPr/>
          <p:nvPr/>
        </p:nvSpPr>
        <p:spPr>
          <a:xfrm>
            <a:off x="4375080" y="2216160"/>
            <a:ext cx="41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1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TextBox 90"/>
          <p:cNvSpPr/>
          <p:nvPr/>
        </p:nvSpPr>
        <p:spPr>
          <a:xfrm>
            <a:off x="5695920" y="2476440"/>
            <a:ext cx="41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Can 91"/>
          <p:cNvSpPr/>
          <p:nvPr/>
        </p:nvSpPr>
        <p:spPr>
          <a:xfrm>
            <a:off x="6603840" y="4843440"/>
            <a:ext cx="330480" cy="3049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c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TextBox 92"/>
          <p:cNvSpPr/>
          <p:nvPr/>
        </p:nvSpPr>
        <p:spPr>
          <a:xfrm>
            <a:off x="6556320" y="2400480"/>
            <a:ext cx="41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6" name="Straight Arrow Connector 61"/>
          <p:cNvCxnSpPr>
            <a:stCxn id="2032" idx="0"/>
            <a:endCxn id="2043" idx="2"/>
          </p:cNvCxnSpPr>
          <p:nvPr/>
        </p:nvCxnSpPr>
        <p:spPr>
          <a:xfrm flipH="1" flipV="1">
            <a:off x="5035320" y="2247120"/>
            <a:ext cx="1568880" cy="839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57" name="TextBox 64"/>
          <p:cNvSpPr/>
          <p:nvPr/>
        </p:nvSpPr>
        <p:spPr>
          <a:xfrm>
            <a:off x="3301920" y="5905440"/>
            <a:ext cx="41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1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TextBox 65"/>
          <p:cNvSpPr/>
          <p:nvPr/>
        </p:nvSpPr>
        <p:spPr>
          <a:xfrm>
            <a:off x="4870440" y="5905440"/>
            <a:ext cx="57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1,C2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TextBox 66"/>
          <p:cNvSpPr/>
          <p:nvPr/>
        </p:nvSpPr>
        <p:spPr>
          <a:xfrm>
            <a:off x="6356520" y="582948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1,C2,C3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TextBox 74"/>
          <p:cNvSpPr/>
          <p:nvPr/>
        </p:nvSpPr>
        <p:spPr>
          <a:xfrm rot="1047600">
            <a:off x="3962520" y="18428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gnaling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TextBox 76"/>
          <p:cNvSpPr/>
          <p:nvPr/>
        </p:nvSpPr>
        <p:spPr>
          <a:xfrm rot="1046400">
            <a:off x="3914280" y="5155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gnaling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TextBox 71"/>
          <p:cNvSpPr/>
          <p:nvPr/>
        </p:nvSpPr>
        <p:spPr>
          <a:xfrm>
            <a:off x="857160" y="355680"/>
            <a:ext cx="5810400" cy="703800"/>
          </a:xfrm>
          <a:prstGeom prst="rect">
            <a:avLst/>
          </a:prstGeom>
          <a:solidFill>
            <a:srgbClr val="ff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tent from same server (without content mobility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TextBox 72"/>
          <p:cNvSpPr/>
          <p:nvPr/>
        </p:nvSpPr>
        <p:spPr>
          <a:xfrm>
            <a:off x="870120" y="3594240"/>
            <a:ext cx="3968640" cy="398880"/>
          </a:xfrm>
          <a:prstGeom prst="rect">
            <a:avLst/>
          </a:prstGeom>
          <a:solidFill>
            <a:srgbClr val="ff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tent mobility (content moving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TextBox 73"/>
          <p:cNvSpPr/>
          <p:nvPr/>
        </p:nvSpPr>
        <p:spPr>
          <a:xfrm>
            <a:off x="7442280" y="6286680"/>
            <a:ext cx="187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: Conten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TextBox 80"/>
          <p:cNvSpPr/>
          <p:nvPr/>
        </p:nvSpPr>
        <p:spPr>
          <a:xfrm>
            <a:off x="5816520" y="4203720"/>
            <a:ext cx="876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맑은 고딕"/>
              </a:rPr>
              <a:t>Part or whole of conten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Cloud 3"/>
          <p:cNvSpPr/>
          <p:nvPr/>
        </p:nvSpPr>
        <p:spPr>
          <a:xfrm>
            <a:off x="1733400" y="914400"/>
            <a:ext cx="6108840" cy="1752480"/>
          </a:xfrm>
          <a:custGeom>
            <a:avLst/>
            <a:gdLst>
              <a:gd name="textAreaLeft" fmla="*/ 841680 w 6108840"/>
              <a:gd name="textAreaRight" fmla="*/ 4832640 w 6108840"/>
              <a:gd name="textAreaTop" fmla="*/ 264600 h 1752480"/>
              <a:gd name="textAreaBottom" fmla="*/ 1406880 h 17524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noFill/>
          <a:ln w="15840">
            <a:solidFill>
              <a:srgbClr val="385d8a">
                <a:alpha val="9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7" name="Straight Arrow Connector 5"/>
          <p:cNvCxnSpPr>
            <a:endCxn id="2068" idx="2"/>
          </p:cNvCxnSpPr>
          <p:nvPr/>
        </p:nvCxnSpPr>
        <p:spPr>
          <a:xfrm flipV="1">
            <a:off x="3054240" y="2174040"/>
            <a:ext cx="331200" cy="102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69" name="Rectangle 9"/>
          <p:cNvSpPr/>
          <p:nvPr/>
        </p:nvSpPr>
        <p:spPr>
          <a:xfrm>
            <a:off x="3054240" y="3200400"/>
            <a:ext cx="330480" cy="228600"/>
          </a:xfrm>
          <a:prstGeom prst="rect">
            <a:avLst/>
          </a:prstGeom>
          <a:solidFill>
            <a:srgbClr val="ffff00"/>
          </a:solidFill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U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0" name="Rectangle 10" descr=""/>
          <p:cNvPicPr/>
          <p:nvPr/>
        </p:nvPicPr>
        <p:blipFill>
          <a:blip r:embed="rId1"/>
          <a:stretch/>
        </p:blipFill>
        <p:spPr>
          <a:xfrm>
            <a:off x="2919240" y="1908000"/>
            <a:ext cx="933480" cy="341640"/>
          </a:xfrm>
          <a:prstGeom prst="rect">
            <a:avLst/>
          </a:prstGeom>
          <a:ln w="0">
            <a:noFill/>
          </a:ln>
        </p:spPr>
      </p:pic>
      <p:sp>
        <p:nvSpPr>
          <p:cNvPr id="2071" name="Can 11"/>
          <p:cNvSpPr/>
          <p:nvPr/>
        </p:nvSpPr>
        <p:spPr>
          <a:xfrm>
            <a:off x="4952880" y="1828800"/>
            <a:ext cx="330480" cy="3049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c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Can 12"/>
          <p:cNvSpPr/>
          <p:nvPr/>
        </p:nvSpPr>
        <p:spPr>
          <a:xfrm>
            <a:off x="3467160" y="1600200"/>
            <a:ext cx="247680" cy="304920"/>
          </a:xfrm>
          <a:prstGeom prst="can">
            <a:avLst>
              <a:gd name="adj" fmla="val 20314"/>
            </a:avLst>
          </a:prstGeom>
          <a:noFill/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3" name="Straight Arrow Connector 21"/>
          <p:cNvCxnSpPr/>
          <p:nvPr/>
        </p:nvCxnSpPr>
        <p:spPr>
          <a:xfrm flipV="1">
            <a:off x="4950360" y="2363400"/>
            <a:ext cx="3960" cy="838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74" name="Straight Arrow Connector 23"/>
          <p:cNvCxnSpPr>
            <a:endCxn id="2075" idx="2"/>
          </p:cNvCxnSpPr>
          <p:nvPr/>
        </p:nvCxnSpPr>
        <p:spPr>
          <a:xfrm flipV="1">
            <a:off x="6353640" y="2210760"/>
            <a:ext cx="3960" cy="99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76" name="Straight Arrow Connector 32"/>
          <p:cNvCxnSpPr/>
          <p:nvPr/>
        </p:nvCxnSpPr>
        <p:spPr>
          <a:xfrm>
            <a:off x="3797280" y="2015640"/>
            <a:ext cx="737280" cy="24480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7" name="Straight Arrow Connector 36"/>
          <p:cNvCxnSpPr>
            <a:stCxn id="2078" idx="3"/>
          </p:cNvCxnSpPr>
          <p:nvPr/>
        </p:nvCxnSpPr>
        <p:spPr>
          <a:xfrm flipV="1">
            <a:off x="5365440" y="2094840"/>
            <a:ext cx="578520" cy="15300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79" name="Can 47"/>
          <p:cNvSpPr/>
          <p:nvPr/>
        </p:nvSpPr>
        <p:spPr>
          <a:xfrm>
            <a:off x="4540320" y="1828800"/>
            <a:ext cx="412560" cy="304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c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Can 48"/>
          <p:cNvSpPr/>
          <p:nvPr/>
        </p:nvSpPr>
        <p:spPr>
          <a:xfrm>
            <a:off x="5861160" y="1676520"/>
            <a:ext cx="412560" cy="3045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c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1" name="Straight Arrow Connector 49"/>
          <p:cNvCxnSpPr>
            <a:stCxn id="2069" idx="2"/>
            <a:endCxn id="2082" idx="1"/>
          </p:cNvCxnSpPr>
          <p:nvPr/>
        </p:nvCxnSpPr>
        <p:spPr>
          <a:xfrm>
            <a:off x="3218400" y="3428640"/>
            <a:ext cx="330840" cy="19116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tailEnd len="med" type="triangle" w="med"/>
          </a:ln>
        </p:spPr>
      </p:cxnSp>
      <p:pic>
        <p:nvPicPr>
          <p:cNvPr id="2083" name="Rectangle 67" descr=""/>
          <p:cNvPicPr/>
          <p:nvPr/>
        </p:nvPicPr>
        <p:blipFill>
          <a:blip r:embed="rId2"/>
          <a:stretch/>
        </p:blipFill>
        <p:spPr>
          <a:xfrm>
            <a:off x="4486320" y="2103480"/>
            <a:ext cx="933480" cy="341280"/>
          </a:xfrm>
          <a:prstGeom prst="rect">
            <a:avLst/>
          </a:prstGeom>
          <a:ln w="0">
            <a:noFill/>
          </a:ln>
        </p:spPr>
      </p:pic>
      <p:pic>
        <p:nvPicPr>
          <p:cNvPr id="2084" name="Rectangle 68" descr=""/>
          <p:cNvPicPr/>
          <p:nvPr/>
        </p:nvPicPr>
        <p:blipFill>
          <a:blip r:embed="rId3"/>
          <a:stretch/>
        </p:blipFill>
        <p:spPr>
          <a:xfrm>
            <a:off x="5888160" y="1944720"/>
            <a:ext cx="933480" cy="341280"/>
          </a:xfrm>
          <a:prstGeom prst="rect">
            <a:avLst/>
          </a:prstGeom>
          <a:ln w="0">
            <a:noFill/>
          </a:ln>
        </p:spPr>
      </p:pic>
      <p:sp>
        <p:nvSpPr>
          <p:cNvPr id="2085" name="TextBox 69"/>
          <p:cNvSpPr/>
          <p:nvPr/>
        </p:nvSpPr>
        <p:spPr>
          <a:xfrm>
            <a:off x="2730600" y="358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r mobility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TextBox 70"/>
          <p:cNvSpPr/>
          <p:nvPr/>
        </p:nvSpPr>
        <p:spPr>
          <a:xfrm>
            <a:off x="5200560" y="3868560"/>
            <a:ext cx="11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r mobility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7" name="Curved Connector 125"/>
          <p:cNvCxnSpPr/>
          <p:nvPr/>
        </p:nvCxnSpPr>
        <p:spPr>
          <a:xfrm flipH="1" flipV="1" rot="5400000">
            <a:off x="5288040" y="1091880"/>
            <a:ext cx="153000" cy="1321200"/>
          </a:xfrm>
          <a:prstGeom prst="curvedConnector5">
            <a:avLst>
              <a:gd name="adj1" fmla="val 250000"/>
              <a:gd name="adj2" fmla="val 49986"/>
              <a:gd name="adj3" fmla="val 2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088" name="TextBox 128"/>
          <p:cNvSpPr/>
          <p:nvPr/>
        </p:nvSpPr>
        <p:spPr>
          <a:xfrm>
            <a:off x="4705200" y="1371600"/>
            <a:ext cx="5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1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Can 129"/>
          <p:cNvSpPr/>
          <p:nvPr/>
        </p:nvSpPr>
        <p:spPr>
          <a:xfrm>
            <a:off x="6273720" y="1676520"/>
            <a:ext cx="330120" cy="3045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c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Can 91"/>
          <p:cNvSpPr/>
          <p:nvPr/>
        </p:nvSpPr>
        <p:spPr>
          <a:xfrm>
            <a:off x="6603840" y="1676520"/>
            <a:ext cx="330480" cy="3045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c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TextBox 95"/>
          <p:cNvSpPr/>
          <p:nvPr/>
        </p:nvSpPr>
        <p:spPr>
          <a:xfrm rot="18212400">
            <a:off x="2628720" y="2716200"/>
            <a:ext cx="70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ulticast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TextBox 64"/>
          <p:cNvSpPr/>
          <p:nvPr/>
        </p:nvSpPr>
        <p:spPr>
          <a:xfrm>
            <a:off x="3137040" y="2738520"/>
            <a:ext cx="41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1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TextBox 65"/>
          <p:cNvSpPr/>
          <p:nvPr/>
        </p:nvSpPr>
        <p:spPr>
          <a:xfrm>
            <a:off x="4870440" y="2738520"/>
            <a:ext cx="57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2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TextBox 66"/>
          <p:cNvSpPr/>
          <p:nvPr/>
        </p:nvSpPr>
        <p:spPr>
          <a:xfrm>
            <a:off x="6769080" y="266688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2,C3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TextBox 76"/>
          <p:cNvSpPr/>
          <p:nvPr/>
        </p:nvSpPr>
        <p:spPr>
          <a:xfrm rot="1046400">
            <a:off x="3914640" y="198864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gnaling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Rectangle 77"/>
          <p:cNvSpPr/>
          <p:nvPr/>
        </p:nvSpPr>
        <p:spPr>
          <a:xfrm>
            <a:off x="2724120" y="3200400"/>
            <a:ext cx="330120" cy="228600"/>
          </a:xfrm>
          <a:prstGeom prst="rect">
            <a:avLst/>
          </a:prstGeom>
          <a:noFill/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U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Rectangle 78"/>
          <p:cNvSpPr/>
          <p:nvPr/>
        </p:nvSpPr>
        <p:spPr>
          <a:xfrm>
            <a:off x="4788000" y="3200400"/>
            <a:ext cx="330120" cy="228600"/>
          </a:xfrm>
          <a:prstGeom prst="rect">
            <a:avLst/>
          </a:prstGeom>
          <a:noFill/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U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Rectangle 79"/>
          <p:cNvSpPr/>
          <p:nvPr/>
        </p:nvSpPr>
        <p:spPr>
          <a:xfrm>
            <a:off x="1981080" y="3200400"/>
            <a:ext cx="330480" cy="228600"/>
          </a:xfrm>
          <a:prstGeom prst="rect">
            <a:avLst/>
          </a:prstGeom>
          <a:noFill/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U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Rectangle 81"/>
          <p:cNvSpPr/>
          <p:nvPr/>
        </p:nvSpPr>
        <p:spPr>
          <a:xfrm>
            <a:off x="3962520" y="3200400"/>
            <a:ext cx="330120" cy="228600"/>
          </a:xfrm>
          <a:prstGeom prst="rect">
            <a:avLst/>
          </a:prstGeom>
          <a:solidFill>
            <a:srgbClr val="ffff00"/>
          </a:solidFill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U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Rectangle 82"/>
          <p:cNvSpPr/>
          <p:nvPr/>
        </p:nvSpPr>
        <p:spPr>
          <a:xfrm>
            <a:off x="2311560" y="3200400"/>
            <a:ext cx="330120" cy="228600"/>
          </a:xfrm>
          <a:prstGeom prst="rect">
            <a:avLst/>
          </a:prstGeom>
          <a:noFill/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U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Rectangle 83"/>
          <p:cNvSpPr/>
          <p:nvPr/>
        </p:nvSpPr>
        <p:spPr>
          <a:xfrm>
            <a:off x="4292640" y="3200400"/>
            <a:ext cx="330120" cy="228600"/>
          </a:xfrm>
          <a:prstGeom prst="rect">
            <a:avLst/>
          </a:prstGeom>
          <a:noFill/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U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Rectangle 85"/>
          <p:cNvSpPr/>
          <p:nvPr/>
        </p:nvSpPr>
        <p:spPr>
          <a:xfrm>
            <a:off x="6686640" y="3200400"/>
            <a:ext cx="330120" cy="228600"/>
          </a:xfrm>
          <a:prstGeom prst="rect">
            <a:avLst/>
          </a:prstGeom>
          <a:noFill/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U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Rectangle 86"/>
          <p:cNvSpPr/>
          <p:nvPr/>
        </p:nvSpPr>
        <p:spPr>
          <a:xfrm>
            <a:off x="6191280" y="3200400"/>
            <a:ext cx="330120" cy="228600"/>
          </a:xfrm>
          <a:prstGeom prst="rect">
            <a:avLst/>
          </a:prstGeom>
          <a:solidFill>
            <a:srgbClr val="ffff00"/>
          </a:solidFill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U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4" name="Straight Arrow Connector 98"/>
          <p:cNvCxnSpPr>
            <a:endCxn id="2070" idx="2"/>
          </p:cNvCxnSpPr>
          <p:nvPr/>
        </p:nvCxnSpPr>
        <p:spPr>
          <a:xfrm flipV="1">
            <a:off x="2310480" y="2174040"/>
            <a:ext cx="1073520" cy="102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05" name="Rectangle 102"/>
          <p:cNvSpPr/>
          <p:nvPr/>
        </p:nvSpPr>
        <p:spPr>
          <a:xfrm>
            <a:off x="5118120" y="3200400"/>
            <a:ext cx="330120" cy="228600"/>
          </a:xfrm>
          <a:prstGeom prst="rect">
            <a:avLst/>
          </a:prstGeom>
          <a:noFill/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U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Rectangle 103"/>
          <p:cNvSpPr/>
          <p:nvPr/>
        </p:nvSpPr>
        <p:spPr>
          <a:xfrm>
            <a:off x="7016760" y="3200400"/>
            <a:ext cx="330120" cy="228600"/>
          </a:xfrm>
          <a:prstGeom prst="rect">
            <a:avLst/>
          </a:prstGeom>
          <a:noFill/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U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Rectangle 110"/>
          <p:cNvSpPr/>
          <p:nvPr/>
        </p:nvSpPr>
        <p:spPr>
          <a:xfrm>
            <a:off x="3549600" y="3505320"/>
            <a:ext cx="330120" cy="228600"/>
          </a:xfrm>
          <a:prstGeom prst="rect">
            <a:avLst/>
          </a:prstGeom>
          <a:solidFill>
            <a:srgbClr val="ffff00"/>
          </a:solidFill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U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7" name="Straight Arrow Connector 113"/>
          <p:cNvCxnSpPr>
            <a:stCxn id="2082" idx="3"/>
            <a:endCxn id="2099" idx="2"/>
          </p:cNvCxnSpPr>
          <p:nvPr/>
        </p:nvCxnSpPr>
        <p:spPr>
          <a:xfrm flipV="1">
            <a:off x="3879720" y="3428280"/>
            <a:ext cx="248400" cy="19116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tailEnd len="med" type="triangle" w="med"/>
          </a:ln>
        </p:spPr>
      </p:cxnSp>
      <p:sp>
        <p:nvSpPr>
          <p:cNvPr id="2108" name="Rectangle 118"/>
          <p:cNvSpPr/>
          <p:nvPr/>
        </p:nvSpPr>
        <p:spPr>
          <a:xfrm>
            <a:off x="5530680" y="3657600"/>
            <a:ext cx="330480" cy="228600"/>
          </a:xfrm>
          <a:prstGeom prst="rect">
            <a:avLst/>
          </a:prstGeom>
          <a:solidFill>
            <a:srgbClr val="ffff00"/>
          </a:solidFill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U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9" name="Straight Arrow Connector 121"/>
          <p:cNvCxnSpPr>
            <a:stCxn id="2108" idx="3"/>
            <a:endCxn id="2103" idx="2"/>
          </p:cNvCxnSpPr>
          <p:nvPr/>
        </p:nvCxnSpPr>
        <p:spPr>
          <a:xfrm flipV="1">
            <a:off x="5861160" y="3428280"/>
            <a:ext cx="496080" cy="34380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tailEnd len="med" type="triangle" w="med"/>
          </a:ln>
        </p:spPr>
      </p:cxnSp>
      <p:cxnSp>
        <p:nvCxnSpPr>
          <p:cNvPr id="2110" name="Straight Arrow Connector 132"/>
          <p:cNvCxnSpPr>
            <a:endCxn id="2083" idx="2"/>
          </p:cNvCxnSpPr>
          <p:nvPr/>
        </p:nvCxnSpPr>
        <p:spPr>
          <a:xfrm flipV="1">
            <a:off x="4292640" y="2361960"/>
            <a:ext cx="660600" cy="838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11" name="Straight Arrow Connector 135"/>
          <p:cNvCxnSpPr>
            <a:endCxn id="2084" idx="2"/>
          </p:cNvCxnSpPr>
          <p:nvPr/>
        </p:nvCxnSpPr>
        <p:spPr>
          <a:xfrm flipH="1" flipV="1">
            <a:off x="6356520" y="2209320"/>
            <a:ext cx="660600" cy="99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12" name="Rectangle 139"/>
          <p:cNvSpPr/>
          <p:nvPr/>
        </p:nvSpPr>
        <p:spPr>
          <a:xfrm>
            <a:off x="3263760" y="4038480"/>
            <a:ext cx="1936800" cy="584280"/>
          </a:xfrm>
          <a:prstGeom prst="rect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U4 moves and join another multicast group retrieving the same conten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3" name="Straight Arrow Connector 141"/>
          <p:cNvCxnSpPr>
            <a:stCxn id="2112" idx="0"/>
            <a:endCxn id="2099" idx="2"/>
          </p:cNvCxnSpPr>
          <p:nvPr/>
        </p:nvCxnSpPr>
        <p:spPr>
          <a:xfrm flipH="1" flipV="1">
            <a:off x="4126680" y="3428280"/>
            <a:ext cx="10548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4" name="Rectangle 144"/>
          <p:cNvSpPr/>
          <p:nvPr/>
        </p:nvSpPr>
        <p:spPr>
          <a:xfrm>
            <a:off x="6108840" y="3886200"/>
            <a:ext cx="2438280" cy="647640"/>
          </a:xfrm>
          <a:prstGeom prst="rect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U4 moves. No available multicast group for the same content. So continue with unicast  se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5" name="Straight Arrow Connector 145"/>
          <p:cNvCxnSpPr>
            <a:stCxn id="2114" idx="0"/>
          </p:cNvCxnSpPr>
          <p:nvPr/>
        </p:nvCxnSpPr>
        <p:spPr>
          <a:xfrm flipH="1" flipV="1">
            <a:off x="6356160" y="3428640"/>
            <a:ext cx="97200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6" name="TextBox 146"/>
          <p:cNvSpPr/>
          <p:nvPr/>
        </p:nvSpPr>
        <p:spPr>
          <a:xfrm rot="18212400">
            <a:off x="4388040" y="2769840"/>
            <a:ext cx="70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ulticast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TextBox 147"/>
          <p:cNvSpPr/>
          <p:nvPr/>
        </p:nvSpPr>
        <p:spPr>
          <a:xfrm rot="14340000">
            <a:off x="6271920" y="2666520"/>
            <a:ext cx="70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ulticast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TextBox 148"/>
          <p:cNvSpPr/>
          <p:nvPr/>
        </p:nvSpPr>
        <p:spPr>
          <a:xfrm rot="16200000">
            <a:off x="5943600" y="2594880"/>
            <a:ext cx="70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nicast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타원 53"/>
          <p:cNvSpPr/>
          <p:nvPr/>
        </p:nvSpPr>
        <p:spPr>
          <a:xfrm>
            <a:off x="1816200" y="2971800"/>
            <a:ext cx="1650960" cy="609480"/>
          </a:xfrm>
          <a:prstGeom prst="ellipse">
            <a:avLst/>
          </a:prstGeom>
          <a:noFill/>
          <a:ln w="936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TextBox 54"/>
          <p:cNvSpPr/>
          <p:nvPr/>
        </p:nvSpPr>
        <p:spPr>
          <a:xfrm>
            <a:off x="1650960" y="2895480"/>
            <a:ext cx="41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맑은 고딕"/>
              </a:rPr>
              <a:t>G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타원 55"/>
          <p:cNvSpPr/>
          <p:nvPr/>
        </p:nvSpPr>
        <p:spPr>
          <a:xfrm>
            <a:off x="3879720" y="3048120"/>
            <a:ext cx="825480" cy="533160"/>
          </a:xfrm>
          <a:prstGeom prst="ellipse">
            <a:avLst/>
          </a:prstGeom>
          <a:noFill/>
          <a:ln w="936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TextBox 56"/>
          <p:cNvSpPr/>
          <p:nvPr/>
        </p:nvSpPr>
        <p:spPr>
          <a:xfrm>
            <a:off x="3714840" y="2971800"/>
            <a:ext cx="41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맑은 고딕"/>
              </a:rPr>
              <a:t>G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타원 57"/>
          <p:cNvSpPr/>
          <p:nvPr/>
        </p:nvSpPr>
        <p:spPr>
          <a:xfrm>
            <a:off x="4705200" y="3048120"/>
            <a:ext cx="825480" cy="533160"/>
          </a:xfrm>
          <a:prstGeom prst="ellipse">
            <a:avLst/>
          </a:prstGeom>
          <a:noFill/>
          <a:ln w="936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타원 58"/>
          <p:cNvSpPr/>
          <p:nvPr/>
        </p:nvSpPr>
        <p:spPr>
          <a:xfrm>
            <a:off x="6603840" y="3048120"/>
            <a:ext cx="825840" cy="533160"/>
          </a:xfrm>
          <a:prstGeom prst="ellipse">
            <a:avLst/>
          </a:prstGeom>
          <a:noFill/>
          <a:ln w="936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TextBox 59"/>
          <p:cNvSpPr/>
          <p:nvPr/>
        </p:nvSpPr>
        <p:spPr>
          <a:xfrm>
            <a:off x="5448240" y="3048120"/>
            <a:ext cx="41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맑은 고딕"/>
              </a:rPr>
              <a:t>G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TextBox 60"/>
          <p:cNvSpPr/>
          <p:nvPr/>
        </p:nvSpPr>
        <p:spPr>
          <a:xfrm>
            <a:off x="7346880" y="3030480"/>
            <a:ext cx="41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맑은 고딕"/>
              </a:rPr>
              <a:t>G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7" name="직선 화살표 연결선 63"/>
          <p:cNvCxnSpPr>
            <a:stCxn id="2099" idx="2"/>
            <a:endCxn id="2108" idx="1"/>
          </p:cNvCxnSpPr>
          <p:nvPr/>
        </p:nvCxnSpPr>
        <p:spPr>
          <a:xfrm>
            <a:off x="4127400" y="3428640"/>
            <a:ext cx="1404000" cy="34380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tailEnd len="med" type="triangle" w="med"/>
          </a:ln>
        </p:spPr>
      </p:cxnSp>
      <p:sp>
        <p:nvSpPr>
          <p:cNvPr id="2128" name="TextBox 72"/>
          <p:cNvSpPr/>
          <p:nvPr/>
        </p:nvSpPr>
        <p:spPr>
          <a:xfrm>
            <a:off x="2476440" y="2590920"/>
            <a:ext cx="57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1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TextBox 73"/>
          <p:cNvSpPr/>
          <p:nvPr/>
        </p:nvSpPr>
        <p:spPr>
          <a:xfrm>
            <a:off x="4210200" y="2743200"/>
            <a:ext cx="57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1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TextBox 74"/>
          <p:cNvSpPr/>
          <p:nvPr/>
        </p:nvSpPr>
        <p:spPr>
          <a:xfrm>
            <a:off x="5943600" y="2819520"/>
            <a:ext cx="57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1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Can 47"/>
          <p:cNvSpPr/>
          <p:nvPr/>
        </p:nvSpPr>
        <p:spPr>
          <a:xfrm>
            <a:off x="2971800" y="1600200"/>
            <a:ext cx="412920" cy="304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c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TextBox 80"/>
          <p:cNvSpPr/>
          <p:nvPr/>
        </p:nvSpPr>
        <p:spPr>
          <a:xfrm>
            <a:off x="4952880" y="1219320"/>
            <a:ext cx="123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맑은 고딕"/>
              </a:rPr>
              <a:t>Content moving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3" name="구부러진 연결선 124"/>
          <p:cNvCxnSpPr/>
          <p:nvPr/>
        </p:nvCxnSpPr>
        <p:spPr>
          <a:xfrm flipH="1" rot="16200000">
            <a:off x="3723120" y="929880"/>
            <a:ext cx="229320" cy="1569240"/>
          </a:xfrm>
          <a:prstGeom prst="curvedConnector5">
            <a:avLst>
              <a:gd name="adj1" fmla="val -76415"/>
              <a:gd name="adj2" fmla="val 50000"/>
              <a:gd name="adj3" fmla="val -76415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34" name="TextBox 126"/>
          <p:cNvSpPr/>
          <p:nvPr/>
        </p:nvSpPr>
        <p:spPr>
          <a:xfrm>
            <a:off x="3137040" y="1201680"/>
            <a:ext cx="148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맑은 고딕"/>
              </a:rPr>
              <a:t>Multicast server  handoff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TextBox 99"/>
          <p:cNvSpPr/>
          <p:nvPr/>
        </p:nvSpPr>
        <p:spPr>
          <a:xfrm>
            <a:off x="1073160" y="457200"/>
            <a:ext cx="7689960" cy="398880"/>
          </a:xfrm>
          <a:prstGeom prst="rect">
            <a:avLst/>
          </a:prstGeom>
          <a:solidFill>
            <a:srgbClr val="ff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posal: Content mobility (multicast server handoff, content moving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TextBox 71"/>
          <p:cNvSpPr/>
          <p:nvPr/>
        </p:nvSpPr>
        <p:spPr>
          <a:xfrm>
            <a:off x="7975440" y="2946240"/>
            <a:ext cx="1231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: Conten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: Multicast Group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: User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TextBox 80"/>
          <p:cNvSpPr/>
          <p:nvPr/>
        </p:nvSpPr>
        <p:spPr>
          <a:xfrm>
            <a:off x="1917720" y="1562040"/>
            <a:ext cx="105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d multicast sourc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내용 개체 틀 2"/>
          <p:cNvSpPr/>
          <p:nvPr/>
        </p:nvSpPr>
        <p:spPr>
          <a:xfrm>
            <a:off x="1328760" y="4681440"/>
            <a:ext cx="754848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굴림체"/>
              </a:rPr>
              <a:t>Benefi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체"/>
              </a:rPr>
              <a:t>Lower delay,  Network resource optimization, Local routing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굴림체"/>
              </a:rPr>
              <a:t>Challe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체"/>
              </a:rPr>
              <a:t>Maintaining user’s mobility while changing multicast sourc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 txBox="1"/>
          <p:nvPr/>
        </p:nvSpPr>
        <p:spPr>
          <a:xfrm>
            <a:off x="731520" y="1468080"/>
            <a:ext cx="8420040" cy="250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iscussion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is topic acceptable in the multimob WG for future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lan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an I-D on this topic for next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슬라이드 번호 개체 틀 3"/>
          <p:cNvSpPr/>
          <p:nvPr/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3320-9902-4BFF-8D07-596E13DB9D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내용 개체 틀 2"/>
          <p:cNvSpPr/>
          <p:nvPr/>
        </p:nvSpPr>
        <p:spPr>
          <a:xfrm>
            <a:off x="731880" y="4707000"/>
            <a:ext cx="84200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굴림체"/>
              </a:rPr>
              <a:t>Q&amp;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5:03:16Z</dcterms:created>
  <dc:creator>gmlee</dc:creator>
  <dc:description/>
  <dc:language>en-US</dc:language>
  <cp:lastModifiedBy>gmlee</cp:lastModifiedBy>
  <cp:lastPrinted>1999-05-07T04:43:39Z</cp:lastPrinted>
  <dcterms:modified xsi:type="dcterms:W3CDTF">2010-11-08T08:54:26Z</dcterms:modified>
  <cp:revision>637</cp:revision>
  <dc:subject/>
  <dc:title>Mobility in Content Delivery</dc:title>
</cp:coreProperties>
</file>