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089CB-FB51-40D6-826A-06607AF3440D}" type="datetime">
              <a:rPr b="0" lang="ja-JP" sz="1200" spc="-1" strike="noStrike">
                <a:solidFill>
                  <a:srgbClr val="000000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99213-D268-48BF-B28B-2EAD6D7CDD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0BB94-36BA-4F4E-9BD0-8573CDA927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2119D-8D7A-4660-8E38-E8F5201049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10943-4942-4DD3-9973-2BCBAA02F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6BB55-9C6F-4BAD-BFF7-49E78CCB77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6EE6D-F910-4A73-86E4-72428B3221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2AB-0D3F-45BF-96FA-4BB312B4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90D-AF8D-4532-A941-3A65275F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E51-ACCA-4A92-AF9B-72C21DC0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B6A-73A0-4A46-8E58-329FB697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919-FD2B-4A91-BE25-042BD1B1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112-0A33-479D-9510-5D56D4B4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E7F-1915-4087-95EB-4E1A40E5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771-FC86-4170-8C31-166D46E7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27E-C871-43AA-BA9D-3E9C036F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F11-85A9-4D86-A853-F5DB56CA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9F9-1F72-4018-AEE5-3734933B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5E7-0430-4839-8E36-9BA15461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E6D0E-1427-40CF-91C2-7EC0D65BD876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, July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B40CB-FEAC-4CAB-9095-00F705A589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ning the Behavior of IGMP and MLD for Mobile Hosts and Rou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1000" y="4218120"/>
            <a:ext cx="820260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aft‐asaeda‐multimob‐igmp‐mld‐optimization‐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04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toshi Asaeda, Yogo Uch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eio Univer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2599200" y="99360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ETF, November 2010, Beijing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23ACF-1969-4E75-8641-9BF4C4AFB0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ing Strategy –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bustness Variable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big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bust, because possibility of loosing unsolicited reports messages decre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small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sibility increas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ut the explicit tracking will give correct sense about last memb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balanc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default value (2) may be adopted in the regular c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mall value, “1”, can be adopted when shorter Query Interval (e.g. 60 to 90) and shorter Query Resp. Int. (e.g. 5) are adopted for a router enabling explicit tracking recover (because the condition in which a router misses unsolicited messages will be recovered by General Query in the shorter period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51EA8-966F-422D-B8CE-E2DA2D2B11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ing Strategy –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MQC / LLQC (Robustness Variable tim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MQT (=LMQC*LMQI (1)) / LLQT are sensitive fac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small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ening leave lat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big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bust from packet lo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balanc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the default value (Robustness Variable tim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ence LMQT/LLQT = 2 second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iguration being Robustness Variable = “1” will shortening the leave latency, as we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EAFC0-C944-468F-8ABF-927E22CAB3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ing Strategy –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up Query Interval (1/4 of [Query Interval] (e.g. 25 sec.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hor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ck new member disco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long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trong benef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bal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sec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22B7C-B354-48DA-9498-04531426FD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 Scenario – WiM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91600" y="1587600"/>
            <a:ext cx="380844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EEE802.16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0MHz (approx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1Mbp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Pv6 on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0 MNs random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join/leave the sa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cast str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15 min, 3.2Mbp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e competiti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icast str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10Mbp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Ns moves wi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ndom waypoint algorith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D67DF-516F-45A8-9BB8-A74E85053D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図 7" descr="wimax_topology.jpg"/>
          <p:cNvPicPr/>
          <p:nvPr/>
        </p:nvPicPr>
        <p:blipFill>
          <a:blip r:embed="rId1"/>
          <a:stretch/>
        </p:blipFill>
        <p:spPr>
          <a:xfrm>
            <a:off x="3575160" y="1808280"/>
            <a:ext cx="55036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it Number of Members – WiM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EAD52-97A8-4C0B-A1E4-A4775364DB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図 5" descr="number.jpg"/>
          <p:cNvPicPr/>
          <p:nvPr/>
        </p:nvPicPr>
        <p:blipFill>
          <a:blip r:embed="rId1"/>
          <a:stretch/>
        </p:blipFill>
        <p:spPr>
          <a:xfrm>
            <a:off x="1096920" y="1417680"/>
            <a:ext cx="69786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ing “Exampl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AF127-FD01-4634-91D7-3511F6B010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384120" y="1542960"/>
            <a:ext cx="84852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quality of strategies based on more complex simulation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G docu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need IGMPv3/MLDv2 extens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nded status is Experiment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59EE3-6F3D-4791-AC72-145B6AF703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abling the explicit membership tracking function is SHOUL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tential tuning values are proposed according to our experimental resul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ery Interval, Query Response Interval, Startup Query Inter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cast Query Interval and Unicast Query Response Inter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ustness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t Member Query Count (LMQC) / Last Listener Query Count (LLQ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lease check the new draft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sfc.wide.ad.jp/~asaeda/paper/draft-asaeda-multimob-igmp-mld-optimization-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04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E84AA-3428-41ED-B041-65128AF577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 Scenario – WiF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5960" y="1766520"/>
            <a:ext cx="42372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EEE802.11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Pv6 on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0 MNs random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oin/leave the sa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Pv6 multicast strea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15 min, 320kbp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e competitiv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icast strea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10Mbp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Ns moves with random waypoint algorith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7FF80-5FDB-4969-A51D-74C51FDEC0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図 6" descr="wifi_topology.jpg"/>
          <p:cNvPicPr/>
          <p:nvPr/>
        </p:nvPicPr>
        <p:blipFill>
          <a:blip r:embed="rId1"/>
          <a:stretch/>
        </p:blipFill>
        <p:spPr>
          <a:xfrm>
            <a:off x="3846600" y="1698480"/>
            <a:ext cx="52419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it Number of Members – WiF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27EE6-B4AB-4332-B18B-C0AC6E5DDD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図 4" descr="number.jpg"/>
          <p:cNvPicPr/>
          <p:nvPr/>
        </p:nvPicPr>
        <p:blipFill>
          <a:blip r:embed="rId1"/>
          <a:stretch/>
        </p:blipFill>
        <p:spPr>
          <a:xfrm>
            <a:off x="1111320" y="1417680"/>
            <a:ext cx="697860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king of Membership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GMP/MLD-Based Explicit Membership Tracking Function for Multicast Routers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asaeda-mboned-explicit-tracking-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tribu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able per-host accoun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able unicast general query that may minimizes the network resource consum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 the number of Group(-and-Source) Specific query messages and its reply mess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en the leave latency by shorter LMQT/LLQ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Future extension) Enable intelligent query timer tuning based on the number of receiv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explicit tracking function is SHOULD for multicast routers (or proxies) maintaining mobile no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7B12B-7B3F-440E-972C-86DF04F002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-State Report – Regular 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1732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ponses for General Queries (12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ponses for Group- (and-Source) Specific Que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2E65D-9F31-4817-8834-32FD605B56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図 5" descr="1_cur_state.jpg"/>
          <p:cNvPicPr/>
          <p:nvPr/>
        </p:nvPicPr>
        <p:blipFill>
          <a:blip r:embed="rId1"/>
          <a:stretch/>
        </p:blipFill>
        <p:spPr>
          <a:xfrm>
            <a:off x="1025640" y="2374920"/>
            <a:ext cx="7270560" cy="4346640"/>
          </a:xfrm>
          <a:prstGeom prst="rect">
            <a:avLst/>
          </a:prstGeom>
          <a:ln w="0">
            <a:noFill/>
          </a:ln>
        </p:spPr>
      </p:pic>
      <p:grpSp>
        <p:nvGrpSpPr>
          <p:cNvPr id="69" name="図形グループ 40"/>
          <p:cNvGrpSpPr/>
          <p:nvPr/>
        </p:nvGrpSpPr>
        <p:grpSpPr>
          <a:xfrm>
            <a:off x="5826240" y="2943360"/>
            <a:ext cx="3068640" cy="2124000"/>
            <a:chOff x="5826240" y="2943360"/>
            <a:chExt cx="3068640" cy="2124000"/>
          </a:xfrm>
        </p:grpSpPr>
        <p:sp>
          <p:nvSpPr>
            <p:cNvPr id="70" name="正方形/長方形 7"/>
            <p:cNvSpPr/>
            <p:nvPr/>
          </p:nvSpPr>
          <p:spPr>
            <a:xfrm>
              <a:off x="5826240" y="2943360"/>
              <a:ext cx="3057120" cy="205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線コネクタ 9"/>
            <p:cNvSpPr/>
            <p:nvPr/>
          </p:nvSpPr>
          <p:spPr>
            <a:xfrm>
              <a:off x="5826240" y="397728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線コネクタ 11"/>
            <p:cNvSpPr/>
            <p:nvPr/>
          </p:nvSpPr>
          <p:spPr>
            <a:xfrm>
              <a:off x="5826240" y="368928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線コネクタ 13"/>
            <p:cNvSpPr/>
            <p:nvPr/>
          </p:nvSpPr>
          <p:spPr>
            <a:xfrm>
              <a:off x="5826240" y="340668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線コネクタ 15"/>
            <p:cNvSpPr/>
            <p:nvPr/>
          </p:nvSpPr>
          <p:spPr>
            <a:xfrm>
              <a:off x="5826240" y="455328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線コネクタ 17"/>
            <p:cNvSpPr/>
            <p:nvPr/>
          </p:nvSpPr>
          <p:spPr>
            <a:xfrm>
              <a:off x="5826240" y="426420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線コネクタ 18"/>
            <p:cNvSpPr/>
            <p:nvPr/>
          </p:nvSpPr>
          <p:spPr>
            <a:xfrm>
              <a:off x="5826240" y="484128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正方形/長方形 20"/>
            <p:cNvSpPr/>
            <p:nvPr/>
          </p:nvSpPr>
          <p:spPr>
            <a:xfrm>
              <a:off x="5826240" y="4841280"/>
              <a:ext cx="3057120" cy="22608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線コネクタ 23"/>
            <p:cNvSpPr/>
            <p:nvPr/>
          </p:nvSpPr>
          <p:spPr>
            <a:xfrm flipV="1">
              <a:off x="6528600" y="3689280"/>
              <a:ext cx="1080" cy="1152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線コネクタ 24"/>
            <p:cNvSpPr/>
            <p:nvPr/>
          </p:nvSpPr>
          <p:spPr>
            <a:xfrm flipV="1">
              <a:off x="6555240" y="3687840"/>
              <a:ext cx="0" cy="115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線コネクタ 25"/>
            <p:cNvSpPr/>
            <p:nvPr/>
          </p:nvSpPr>
          <p:spPr>
            <a:xfrm flipV="1">
              <a:off x="6582600" y="3977280"/>
              <a:ext cx="0" cy="86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線コネクタ 26"/>
            <p:cNvSpPr/>
            <p:nvPr/>
          </p:nvSpPr>
          <p:spPr>
            <a:xfrm flipV="1">
              <a:off x="6607440" y="4263840"/>
              <a:ext cx="0" cy="577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線コネクタ 27"/>
            <p:cNvSpPr/>
            <p:nvPr/>
          </p:nvSpPr>
          <p:spPr>
            <a:xfrm flipV="1">
              <a:off x="6630480" y="4263840"/>
              <a:ext cx="0" cy="577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線コネクタ 28"/>
            <p:cNvSpPr/>
            <p:nvPr/>
          </p:nvSpPr>
          <p:spPr>
            <a:xfrm flipV="1">
              <a:off x="7421040" y="3696120"/>
              <a:ext cx="0" cy="1152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線コネクタ 29"/>
            <p:cNvSpPr/>
            <p:nvPr/>
          </p:nvSpPr>
          <p:spPr>
            <a:xfrm flipV="1">
              <a:off x="7446960" y="3124080"/>
              <a:ext cx="0" cy="171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線コネクタ 30"/>
            <p:cNvSpPr/>
            <p:nvPr/>
          </p:nvSpPr>
          <p:spPr>
            <a:xfrm flipV="1">
              <a:off x="7471440" y="3118320"/>
              <a:ext cx="0" cy="171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線コネクタ 31"/>
            <p:cNvSpPr/>
            <p:nvPr/>
          </p:nvSpPr>
          <p:spPr>
            <a:xfrm flipV="1">
              <a:off x="7492320" y="3127680"/>
              <a:ext cx="0" cy="171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線コネクタ 32"/>
            <p:cNvSpPr/>
            <p:nvPr/>
          </p:nvSpPr>
          <p:spPr>
            <a:xfrm flipV="1">
              <a:off x="7393680" y="3971520"/>
              <a:ext cx="0" cy="86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線コネクタ 33"/>
            <p:cNvSpPr/>
            <p:nvPr/>
          </p:nvSpPr>
          <p:spPr>
            <a:xfrm flipV="1">
              <a:off x="8268840" y="3683520"/>
              <a:ext cx="1080" cy="1152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線コネクタ 34"/>
            <p:cNvSpPr/>
            <p:nvPr/>
          </p:nvSpPr>
          <p:spPr>
            <a:xfrm flipV="1">
              <a:off x="8296200" y="3687840"/>
              <a:ext cx="1080" cy="115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線コネクタ 35"/>
            <p:cNvSpPr/>
            <p:nvPr/>
          </p:nvSpPr>
          <p:spPr>
            <a:xfrm flipV="1">
              <a:off x="8241120" y="4259520"/>
              <a:ext cx="0" cy="576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線コネクタ 36"/>
            <p:cNvSpPr/>
            <p:nvPr/>
          </p:nvSpPr>
          <p:spPr>
            <a:xfrm flipV="1">
              <a:off x="8319600" y="3687840"/>
              <a:ext cx="1080" cy="115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線コネクタ 37"/>
            <p:cNvSpPr/>
            <p:nvPr/>
          </p:nvSpPr>
          <p:spPr>
            <a:xfrm flipV="1">
              <a:off x="8345520" y="3682080"/>
              <a:ext cx="1080" cy="115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線コネクタ 38"/>
            <p:cNvSpPr/>
            <p:nvPr/>
          </p:nvSpPr>
          <p:spPr>
            <a:xfrm>
              <a:off x="5837760" y="311436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-State Report – Explicit Trac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1732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ponses for General Queries (12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ponses for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O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roup- (and-Source) Specific Que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F581A-18ED-4FE5-AFFD-46EE253750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図 10" descr="3_cur_state.jpg"/>
          <p:cNvPicPr/>
          <p:nvPr/>
        </p:nvPicPr>
        <p:blipFill>
          <a:blip r:embed="rId1"/>
          <a:stretch/>
        </p:blipFill>
        <p:spPr>
          <a:xfrm>
            <a:off x="1046160" y="2379600"/>
            <a:ext cx="72723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ing Strategy –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ery Interval (125) and Query Response Interval (1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short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ick membership record synchro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long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link conges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balanc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resource sensitive link, the default value (125) or a bit longer value (150) may be adop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not resource sensitive link, shorter Query Interval (e.g. 60 to 90) and shorter Query Resp. Int. (e.g. 5) can be adop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D6F79-6787-461E-B5CB-5869FF5723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ing Strategy –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icast Query Interval and Unicast Query Response Interv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us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drain on battery power for non-member no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not eliminate the regular multicast General Query (in order to discover nodes whose unsolicited report are mis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hould be shorter than the regular (i.e. multicast) Query Inter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FC3376 and 3810 do not distinguish multicast and unicast General Query and do not define different timer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col extens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FEFA4-10E4-4239-A0CB-8E0810041F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1:52:52Z</dcterms:created>
  <dc:creator>朝枝 仁</dc:creator>
  <dc:description/>
  <dc:language>en-US</dc:language>
  <cp:lastModifiedBy>朝枝 仁</cp:lastModifiedBy>
  <dcterms:modified xsi:type="dcterms:W3CDTF">2010-11-09T04:31:53Z</dcterms:modified>
  <cp:revision>55</cp:revision>
  <dc:subject/>
  <dc:title>Tuning the Behavior of IGMP and MLD for Mobile Hosts and Routers</dc:title>
</cp:coreProperties>
</file>