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4642F-8BF0-4FB8-9052-8C4396A83553}" type="datetime">
              <a:rPr b="0" lang="ja-JP" sz="1200" spc="-1" strike="noStrike">
                <a:solidFill>
                  <a:srgbClr val="000000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D6C64-3C39-42B2-B3A5-E64F3D6A2F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D1AA8-B72F-4654-A40D-377C87D74F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7C53D-FE6A-4850-A066-07997A8DCFB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F6653-B41E-4434-A2D2-905EAD07C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CAF36-ABEA-4D7A-9408-E412CA2F3D8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71567-02A1-4D16-9027-942EE34FAA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4C8-F129-4114-88FE-632392FB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B42-D453-4C87-8EB9-EC172203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4084-FC0A-4F89-B372-213EA5F3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1E8-20EE-4964-956F-DC231828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13B-1322-4061-B911-5CEC8C95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45B-350B-4F71-9288-255A10F7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419-EF19-4F27-9DC1-DCE0278E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8B7-3AF4-423D-8B44-30B282FE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30E-2E1D-49D2-8B63-B3FE510D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794-F3FD-43CB-9F2B-035D8329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790-F992-41C2-BA3D-825A3183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0DA-E6CF-4C7A-8669-493185ED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E4D03-75A8-4B7C-9247-1F4732E61232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8th IETF, July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5269E-434D-48E3-8F55-7C8E19F9EC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ning the Behavior of IGMP and MLD for Mobile Hosts and Rou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1000" y="4218120"/>
            <a:ext cx="820260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aft‐asaeda‐multimob‐igmp‐mld‐optimization‐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04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toshi Asaeda, Yogo Uch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eio Univers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2599200" y="993600"/>
            <a:ext cx="39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ETF, November 2010, Beijing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7FDD7-7AC5-41FA-A33F-D510365D6D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ing Strategy –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bustness Variable (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big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bust, because possibility of loosing unsolicited reports messages decre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small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sibility increas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ut the explicit tracking will give correct sense about last memb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balanc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default value (2) may be adopted in the regular ca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mall value, “1”, can be adopted when shorter Query Interval (e.g. 60 to 90) and shorter Query Resp. Int. (e.g. 5) are adopted for a router enabling explicit tracking recover (because the condition in which a router misses unsolicited messages will be recovered by General Query in the shorter period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751B8-C441-4DA8-BA10-B686F689A4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ing Strategy –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MQC / LLQC (Robustness Variable tim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MQT (=LMQC*LMQI (1)) / LLQT are sensitive fac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small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ening leave lat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big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bust from packet lo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balanc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the default value (Robustness Variable tim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ence LMQT/LLQT = 2 second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figuration being Robustness Variable = “1” will shortening the leave latency, as we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A4D27-098B-4F57-B661-9CAA9EDAAA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ing Strategy –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up Query Interval (1/4 of [Query Interval] (e.g. 25 sec.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hor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ick new member disco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long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trong benef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bala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sec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D8D75-858C-4689-900D-607154B871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 Scenario – WiM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91600" y="1587600"/>
            <a:ext cx="380844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EEE802.16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0MHz (approx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1Mbp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Pv6 on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0 MNs random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join/leave the sa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ulticast str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15 min, 3.2Mbp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ne competiti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icast str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10Mbp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Ns moves wi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andom waypoint algorith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FDE7D-4E1A-4C87-A9CD-C2AE09C57F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図 7" descr="wimax_topology.jpg"/>
          <p:cNvPicPr/>
          <p:nvPr/>
        </p:nvPicPr>
        <p:blipFill>
          <a:blip r:embed="rId1"/>
          <a:stretch/>
        </p:blipFill>
        <p:spPr>
          <a:xfrm>
            <a:off x="3575160" y="1808280"/>
            <a:ext cx="55036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it Number of Members – WiMA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64D9C-C8E4-4AC0-9A53-7A809F57B4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図 5" descr="number.jpg"/>
          <p:cNvPicPr/>
          <p:nvPr/>
        </p:nvPicPr>
        <p:blipFill>
          <a:blip r:embed="rId1"/>
          <a:stretch/>
        </p:blipFill>
        <p:spPr>
          <a:xfrm>
            <a:off x="1096920" y="1417680"/>
            <a:ext cx="69786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ing “Exampl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5FE4D-70A4-42AC-B3D6-72B6E8559A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コンテンツ プレースホルダ 6" descr=""/>
          <p:cNvPicPr/>
          <p:nvPr/>
        </p:nvPicPr>
        <p:blipFill>
          <a:blip r:embed="rId1"/>
          <a:stretch/>
        </p:blipFill>
        <p:spPr>
          <a:xfrm>
            <a:off x="384120" y="1542960"/>
            <a:ext cx="848520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quality of strategies based on more complex simulation 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G docume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need IGMPv3/MLDv2 extens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nded status is Experiment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DF2E2-6795-46DA-9424-4655842D46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abling the explicit membership tracking function is SHOUL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tential tuning values are proposed according to our experimental resul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ery Interval, Query Response Interval, Startup Query Inter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cast Query Interval and Unicast Query Response Inter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bustness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st Member Query Count (LMQC) / Last Listener Query Count (LLQ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lease check the new draft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sfc.wide.ad.jp/~asaeda/paper/draft-asaeda-multimob-igmp-mld-optimization-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04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0CE01-2C97-45CA-B2E3-853A9A40D0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 Scenario – WiF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5960" y="1766520"/>
            <a:ext cx="42372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EEE802.11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Pv6 on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0 MNs random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oin/leave the sa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Pv6 multicast strea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15 min, 320kbp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e competitiv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icast strea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10Mbp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Ns moves with random waypoint algorith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E36DC-2DDD-481C-911B-C708F5A0BC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図 6" descr="wifi_topology.jpg"/>
          <p:cNvPicPr/>
          <p:nvPr/>
        </p:nvPicPr>
        <p:blipFill>
          <a:blip r:embed="rId1"/>
          <a:stretch/>
        </p:blipFill>
        <p:spPr>
          <a:xfrm>
            <a:off x="3846600" y="1698480"/>
            <a:ext cx="524196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it Number of Members – WiF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C13D8-8979-4B7B-8006-7507B8A3D0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図 4" descr="number.jpg"/>
          <p:cNvPicPr/>
          <p:nvPr/>
        </p:nvPicPr>
        <p:blipFill>
          <a:blip r:embed="rId1"/>
          <a:stretch/>
        </p:blipFill>
        <p:spPr>
          <a:xfrm>
            <a:off x="1111320" y="1417680"/>
            <a:ext cx="697860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king of Membership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GMP/MLD-Based Explicit Membership Tracking Function for Multicast Routers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ft-asaeda-mboned-explicit-tracking-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tribu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able per-host accoun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able unicast general query that may minimizes the network resource consum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 the number of Group(-and-Source) Specific query messages and its reply messa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en the leave latency by shorter LMQT/LLQ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Future extension) Enable intelligent query timer tuning based on the number of receiv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explicit tracking function is SHOULD for multicast routers (or proxies) maintaining mobile no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2C10A-C937-425A-8764-91F455B640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ent-State Report – Regular C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1732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ponses for General Queries (12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ponses for Group- (and-Source) Specific Que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4D8BE-1D6F-43D1-BE74-7183491400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図 5" descr="1_cur_state.jpg"/>
          <p:cNvPicPr/>
          <p:nvPr/>
        </p:nvPicPr>
        <p:blipFill>
          <a:blip r:embed="rId1"/>
          <a:stretch/>
        </p:blipFill>
        <p:spPr>
          <a:xfrm>
            <a:off x="1025640" y="2374920"/>
            <a:ext cx="7270560" cy="4346640"/>
          </a:xfrm>
          <a:prstGeom prst="rect">
            <a:avLst/>
          </a:prstGeom>
          <a:ln w="0">
            <a:noFill/>
          </a:ln>
        </p:spPr>
      </p:pic>
      <p:grpSp>
        <p:nvGrpSpPr>
          <p:cNvPr id="69" name="図形グループ 40"/>
          <p:cNvGrpSpPr/>
          <p:nvPr/>
        </p:nvGrpSpPr>
        <p:grpSpPr>
          <a:xfrm>
            <a:off x="5826240" y="2943360"/>
            <a:ext cx="3068640" cy="2124000"/>
            <a:chOff x="5826240" y="2943360"/>
            <a:chExt cx="3068640" cy="2124000"/>
          </a:xfrm>
        </p:grpSpPr>
        <p:sp>
          <p:nvSpPr>
            <p:cNvPr id="70" name="正方形/長方形 7"/>
            <p:cNvSpPr/>
            <p:nvPr/>
          </p:nvSpPr>
          <p:spPr>
            <a:xfrm>
              <a:off x="5826240" y="2943360"/>
              <a:ext cx="3057120" cy="205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線コネクタ 9"/>
            <p:cNvSpPr/>
            <p:nvPr/>
          </p:nvSpPr>
          <p:spPr>
            <a:xfrm>
              <a:off x="5826240" y="3977280"/>
              <a:ext cx="305712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線コネクタ 11"/>
            <p:cNvSpPr/>
            <p:nvPr/>
          </p:nvSpPr>
          <p:spPr>
            <a:xfrm>
              <a:off x="5826240" y="3689280"/>
              <a:ext cx="305712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線コネクタ 13"/>
            <p:cNvSpPr/>
            <p:nvPr/>
          </p:nvSpPr>
          <p:spPr>
            <a:xfrm>
              <a:off x="5826240" y="3406680"/>
              <a:ext cx="305712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線コネクタ 15"/>
            <p:cNvSpPr/>
            <p:nvPr/>
          </p:nvSpPr>
          <p:spPr>
            <a:xfrm>
              <a:off x="5826240" y="4553280"/>
              <a:ext cx="305712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線コネクタ 17"/>
            <p:cNvSpPr/>
            <p:nvPr/>
          </p:nvSpPr>
          <p:spPr>
            <a:xfrm>
              <a:off x="5826240" y="4264200"/>
              <a:ext cx="305712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線コネクタ 18"/>
            <p:cNvSpPr/>
            <p:nvPr/>
          </p:nvSpPr>
          <p:spPr>
            <a:xfrm>
              <a:off x="5826240" y="4841280"/>
              <a:ext cx="305712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正方形/長方形 20"/>
            <p:cNvSpPr/>
            <p:nvPr/>
          </p:nvSpPr>
          <p:spPr>
            <a:xfrm>
              <a:off x="5826240" y="4841280"/>
              <a:ext cx="3057120" cy="22608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線コネクタ 23"/>
            <p:cNvSpPr/>
            <p:nvPr/>
          </p:nvSpPr>
          <p:spPr>
            <a:xfrm flipV="1">
              <a:off x="6528600" y="3689280"/>
              <a:ext cx="1080" cy="1152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線コネクタ 24"/>
            <p:cNvSpPr/>
            <p:nvPr/>
          </p:nvSpPr>
          <p:spPr>
            <a:xfrm flipV="1">
              <a:off x="6555240" y="3687840"/>
              <a:ext cx="0" cy="1153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線コネクタ 25"/>
            <p:cNvSpPr/>
            <p:nvPr/>
          </p:nvSpPr>
          <p:spPr>
            <a:xfrm flipV="1">
              <a:off x="6582600" y="3977280"/>
              <a:ext cx="0" cy="86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線コネクタ 26"/>
            <p:cNvSpPr/>
            <p:nvPr/>
          </p:nvSpPr>
          <p:spPr>
            <a:xfrm flipV="1">
              <a:off x="6607440" y="4263840"/>
              <a:ext cx="0" cy="577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線コネクタ 27"/>
            <p:cNvSpPr/>
            <p:nvPr/>
          </p:nvSpPr>
          <p:spPr>
            <a:xfrm flipV="1">
              <a:off x="6630480" y="4263840"/>
              <a:ext cx="0" cy="577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線コネクタ 28"/>
            <p:cNvSpPr/>
            <p:nvPr/>
          </p:nvSpPr>
          <p:spPr>
            <a:xfrm flipV="1">
              <a:off x="7421040" y="3696120"/>
              <a:ext cx="0" cy="1152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線コネクタ 29"/>
            <p:cNvSpPr/>
            <p:nvPr/>
          </p:nvSpPr>
          <p:spPr>
            <a:xfrm flipV="1">
              <a:off x="7446960" y="3124080"/>
              <a:ext cx="0" cy="1716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線コネクタ 30"/>
            <p:cNvSpPr/>
            <p:nvPr/>
          </p:nvSpPr>
          <p:spPr>
            <a:xfrm flipV="1">
              <a:off x="7471440" y="3118320"/>
              <a:ext cx="0" cy="1716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線コネクタ 31"/>
            <p:cNvSpPr/>
            <p:nvPr/>
          </p:nvSpPr>
          <p:spPr>
            <a:xfrm flipV="1">
              <a:off x="7492320" y="3127680"/>
              <a:ext cx="0" cy="1716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線コネクタ 32"/>
            <p:cNvSpPr/>
            <p:nvPr/>
          </p:nvSpPr>
          <p:spPr>
            <a:xfrm flipV="1">
              <a:off x="7393680" y="3971520"/>
              <a:ext cx="0" cy="86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線コネクタ 33"/>
            <p:cNvSpPr/>
            <p:nvPr/>
          </p:nvSpPr>
          <p:spPr>
            <a:xfrm flipV="1">
              <a:off x="8268840" y="3683520"/>
              <a:ext cx="1080" cy="1152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線コネクタ 34"/>
            <p:cNvSpPr/>
            <p:nvPr/>
          </p:nvSpPr>
          <p:spPr>
            <a:xfrm flipV="1">
              <a:off x="8296200" y="3687840"/>
              <a:ext cx="1080" cy="1153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線コネクタ 35"/>
            <p:cNvSpPr/>
            <p:nvPr/>
          </p:nvSpPr>
          <p:spPr>
            <a:xfrm flipV="1">
              <a:off x="8241120" y="4259520"/>
              <a:ext cx="0" cy="576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線コネクタ 36"/>
            <p:cNvSpPr/>
            <p:nvPr/>
          </p:nvSpPr>
          <p:spPr>
            <a:xfrm flipV="1">
              <a:off x="8319600" y="3687840"/>
              <a:ext cx="1080" cy="1153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線コネクタ 37"/>
            <p:cNvSpPr/>
            <p:nvPr/>
          </p:nvSpPr>
          <p:spPr>
            <a:xfrm flipV="1">
              <a:off x="8345520" y="3682080"/>
              <a:ext cx="1080" cy="1153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線コネクタ 38"/>
            <p:cNvSpPr/>
            <p:nvPr/>
          </p:nvSpPr>
          <p:spPr>
            <a:xfrm>
              <a:off x="5837760" y="3114360"/>
              <a:ext cx="305712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ent-State Report – Explicit Trac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1732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ponses for General Queries (12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ponses for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ON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roup- (and-Source) Specific Que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FFE93-C03F-4E8B-8A09-328A5C3A18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図 10" descr="3_cur_state.jpg"/>
          <p:cNvPicPr/>
          <p:nvPr/>
        </p:nvPicPr>
        <p:blipFill>
          <a:blip r:embed="rId1"/>
          <a:stretch/>
        </p:blipFill>
        <p:spPr>
          <a:xfrm>
            <a:off x="1046160" y="2379600"/>
            <a:ext cx="727236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ing Strategy –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ery Interval (125) and Query Response Interval (1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short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ick membership record synchro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long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link conges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balanc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resource sensitive link, the default value (125) or a bit longer value (150) may be adop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not resource sensitive link, shorter Query Interval (e.g. 60 to 90) and shorter Query Resp. Int. (e.g. 5) can be adop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9815E-3B13-43FA-BB96-DF5FDCE1F1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ing Strategy –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icast Query Interval and Unicast Query Response Interv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us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drain on battery power for non-member no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oes not eliminate the regular multicast General Query (in order to discover nodes whose unsolicited report are mis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should be shorter than the regular (i.e. multicast) Query Inter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FC3376 and 3810 do not distinguish multicast and unicast General Query and do not define different timer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ocol extens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CD4DB-C7F2-4274-A095-A0A896C624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1:52:52Z</dcterms:created>
  <dc:creator>朝枝 仁</dc:creator>
  <dc:description/>
  <dc:language>en-US</dc:language>
  <cp:lastModifiedBy>朝枝 仁</cp:lastModifiedBy>
  <dcterms:modified xsi:type="dcterms:W3CDTF">2010-11-09T04:31:53Z</dcterms:modified>
  <cp:revision>55</cp:revision>
  <dc:subject/>
  <dc:title>Tuning the Behavior of IGMP and MLD for Mobile Hosts and Routers</dc:title>
</cp:coreProperties>
</file>