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77724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979440"/>
            <a:ext cx="77724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6500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7944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397944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66500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66500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97944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397944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3979440"/>
            <a:ext cx="25023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37926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665000"/>
            <a:ext cx="37926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87280" y="25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65000"/>
            <a:ext cx="37926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97944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37926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6500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397944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65000"/>
            <a:ext cx="37926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9440"/>
            <a:ext cx="777240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3a88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1" marL="952560" indent="-27936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2" marL="1473120" indent="-22860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3" marL="1892160" indent="-22860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4" marL="2311560" indent="-22860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5" marL="231156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6" marL="231156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1197000"/>
            <a:ext cx="8991720" cy="30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Multicast Listener Extensions for MIPv6 and PMIPv6 Fast Handovers</a:t>
            </a:r>
            <a:br>
              <a:rPr sz="1800"/>
            </a:br>
            <a:br>
              <a:rPr sz="1800"/>
            </a:br>
            <a:r>
              <a:rPr b="0" lang="de-DE" sz="2800" spc="-1" strike="noStrike">
                <a:solidFill>
                  <a:srgbClr val="000000"/>
                </a:solidFill>
                <a:latin typeface="Arial Unicode MS"/>
              </a:rPr>
              <a:t>draft-schmidt-multimob-fmipv6-pfmipv6-multicast-03</a:t>
            </a:r>
            <a:endParaRPr b="1" lang="en-US" sz="28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04920" y="4257720"/>
            <a:ext cx="853416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0092"/>
                </a:solidFill>
                <a:latin typeface="Tahoma"/>
              </a:rPr>
              <a:t>Thomas C. Schmidt</a:t>
            </a: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0092"/>
                </a:solidFill>
                <a:latin typeface="Tahoma"/>
              </a:rPr>
              <a:t>t.schmidt@ieee.org</a:t>
            </a: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0092"/>
                </a:solidFill>
                <a:latin typeface="Tahoma"/>
              </a:rPr>
              <a:t>HAW Hamburg </a:t>
            </a:r>
            <a:br>
              <a:rPr sz="1800"/>
            </a:br>
            <a:endParaRPr b="0" lang="en-US" sz="1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e3a88"/>
                </a:solidFill>
                <a:latin typeface="Tahoma"/>
              </a:rPr>
              <a:t>Status of the Draft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665000"/>
            <a:ext cx="81342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1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First introduced in Anaheim (IETF 77) (v1)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91960" indent="-291960">
              <a:lnSpc>
                <a:spcPct val="11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Defines a generic context transfer scheme for multicast state records that works for FMIPv6, PFMIPv6 and similar protocols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91960" indent="-291960">
              <a:lnSpc>
                <a:spcPct val="11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Update Version 2 (Sept.):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1" marL="952560" indent="-279360">
              <a:lnSpc>
                <a:spcPct val="11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Major revision, filled in details 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91960" indent="-291960">
              <a:lnSpc>
                <a:spcPct val="11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Update Version 3 (Nov.):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1" marL="952560" indent="-279360">
              <a:lnSpc>
                <a:spcPct val="11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Filled in remaining details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952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lvl="1" marL="952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e3a88"/>
                </a:solidFill>
                <a:latin typeface="Tahoma"/>
              </a:rPr>
              <a:t>Main Contributions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82960" indent="-282960">
              <a:lnSpc>
                <a:spcPct val="12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Defines a coherent multicast membership transfer based on MLD/IGMP state records (easy handling)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82960" indent="-282960">
              <a:lnSpc>
                <a:spcPct val="12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Defines a common Multicast Mobility Header Option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82960" indent="-282960">
              <a:lnSpc>
                <a:spcPct val="12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Defines per group feedback in Multicast Acknowledgement Option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82960" indent="-282960">
              <a:lnSpc>
                <a:spcPct val="12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Dynamically steers Multicast forwarding via MLD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82960" indent="-282960">
              <a:lnSpc>
                <a:spcPct val="12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Accounts for MLD/IGMP interoperability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82960" indent="-282960">
              <a:lnSpc>
                <a:spcPct val="12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Seamlessly plugs into FMIPv6 and PFMIPv6 protocol semantics and behavior 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e3a88"/>
                </a:solidFill>
                <a:latin typeface="Tahoma"/>
              </a:rPr>
              <a:t>Core Operations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7989840" cy="47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49009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90092"/>
                </a:solidFill>
                <a:latin typeface="Tahoma"/>
              </a:rPr>
              <a:t>Detect / anticipate movement as in (P)FMIPv6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49009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90092"/>
                </a:solidFill>
                <a:latin typeface="Tahoma"/>
              </a:rPr>
              <a:t>Construct Mobility Header Multicast Option and exchange in (FBU)-HI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49009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90092"/>
                </a:solidFill>
                <a:latin typeface="Tahoma"/>
              </a:rPr>
              <a:t>Acknowledge in Mobility Header Multicast Acknowledgement Option and return unsupported groups in HACK-(FBACK)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49009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90092"/>
                </a:solidFill>
                <a:latin typeface="Tahoma"/>
              </a:rPr>
              <a:t>Asynchronously join groups in new access network using loopback (NAR/NMAG)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49009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90092"/>
                </a:solidFill>
                <a:latin typeface="Tahoma"/>
              </a:rPr>
              <a:t>Organize a per group (channel) forwarding between ARs by MLD (proxy-like approach)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49009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90092"/>
                </a:solidFill>
                <a:latin typeface="Tahoma"/>
              </a:rPr>
              <a:t>On re-attachment of the MN, AR starts forwarding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6920" y="4392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e3a88"/>
                </a:solidFill>
                <a:latin typeface="Tahoma"/>
              </a:rPr>
              <a:t>New Multicast Mobility Option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268280"/>
            <a:ext cx="84596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Type      |   Length      | Option-Code   |   Reserved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                    MLD (IGMP) Report Payload                 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~                                                               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~                                                               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ption-Co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: IGMPv3 Payload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2: MLDv2 Payload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3: IGMPv3 Payload Type from IGMPv2 Compatibility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4: MLDv2 Payload Type from MLDv1 Compatibility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7280" y="4392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e3a88"/>
                </a:solidFill>
                <a:latin typeface="Tahoma"/>
              </a:rPr>
              <a:t>New Multicast Acknowledgement Option</a:t>
            </a:r>
            <a:endParaRPr b="1" lang="en-US" sz="32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341360"/>
            <a:ext cx="81010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Type      |   Length      | Option-Code   |    Status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           MLD (IGMP) Unsupported Report Payload              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~                                                               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~                                                               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on-Code: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tu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: Report Payload type unsup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: Requested group service unsup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: Requested group service administratively prohib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e3a88"/>
                </a:solidFill>
                <a:latin typeface="Tahoma"/>
              </a:rPr>
              <a:t>MLD/IGMP Compatibility Aspects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90092"/>
                </a:solidFill>
                <a:latin typeface="Tahoma"/>
              </a:rPr>
              <a:t>ARs need to support MLDv2/IGMPv3 (problem with host suppression) 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90092"/>
                </a:solidFill>
                <a:latin typeface="Tahoma"/>
              </a:rPr>
              <a:t>According to MLD/IGMP specs: Compatibility mode required – can use MLDv1/IGMPv2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90092"/>
                </a:solidFill>
                <a:latin typeface="Tahoma"/>
              </a:rPr>
              <a:t>Routers translate into MLDv2/IGMPv3 equivalents and report on status in option code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3a88"/>
                </a:solidFill>
                <a:latin typeface="Tahoma"/>
              </a:rPr>
              <a:t>Summary &amp; Outcome</a:t>
            </a:r>
            <a:endParaRPr b="1" lang="en-US" sz="3600" spc="-1" strike="noStrike">
              <a:solidFill>
                <a:srgbClr val="ce3a88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Protocol defined incl. details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490092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Initial reviews arrived: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lvl="1" marL="719280" indent="-247680">
              <a:lnSpc>
                <a:spcPct val="120000"/>
              </a:lnSpc>
              <a:spcBef>
                <a:spcPts val="601"/>
              </a:spcBef>
              <a:buClr>
                <a:srgbClr val="49009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0092"/>
                </a:solidFill>
                <a:latin typeface="Tahoma"/>
              </a:rPr>
              <a:t>Please have a look &amp; help to improve the document!</a:t>
            </a:r>
            <a:endParaRPr b="0" lang="en-US" sz="2400" spc="-1" strike="noStrike">
              <a:solidFill>
                <a:srgbClr val="490092"/>
              </a:solidFill>
              <a:latin typeface="Tahoma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Proposal to WG: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92"/>
                </a:solidFill>
                <a:latin typeface="Tahoma"/>
              </a:rPr>
              <a:t>Anticipate this as a WG item in future charter</a:t>
            </a: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0920" y="1665000"/>
            <a:ext cx="7846920" cy="44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0092"/>
              </a:solidFill>
              <a:latin typeface="Tahoma"/>
            </a:endParaRPr>
          </a:p>
          <a:p>
            <a:pPr marL="29196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0092"/>
                </a:solidFill>
                <a:latin typeface="Tahoma"/>
              </a:rPr>
              <a:t>Questions/Comments? </a:t>
            </a:r>
            <a:endParaRPr b="0" lang="en-US" sz="4000" spc="-1" strike="noStrike">
              <a:solidFill>
                <a:srgbClr val="490092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0:05:15Z</dcterms:created>
  <dc:creator>Thomas C Schmidt</dc:creator>
  <dc:description/>
  <dc:language>en-US</dc:language>
  <cp:lastModifiedBy>Thomas C Schmidt</cp:lastModifiedBy>
  <dcterms:modified xsi:type="dcterms:W3CDTF">2010-11-09T04:29:38Z</dcterms:modified>
  <cp:revision>13</cp:revision>
  <dc:subject/>
  <dc:title>draft-schmidt-multimob-fmipv6-pfmipv6-multicast-01</dc:title>
</cp:coreProperties>
</file>