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3.png"/><Relationship Id="rId14" Type="http://schemas.openxmlformats.org/officeDocument/2006/relationships/image" Target="../media/image4.jpe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7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13004640" cy="2523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"/>
          <p:cNvSpPr/>
          <p:nvPr/>
        </p:nvSpPr>
        <p:spPr>
          <a:xfrm>
            <a:off x="274680" y="95104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900" spc="-1" strike="noStrike">
                <a:solidFill>
                  <a:srgbClr val="d3d3d3"/>
                </a:solidFill>
                <a:latin typeface="Arial"/>
                <a:ea typeface="Arial"/>
              </a:rPr>
              <a:t>EDCS-875479</a:t>
            </a:r>
            <a:endParaRPr b="0" lang="en-US" sz="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0" name=""/>
          <p:cNvSpPr/>
          <p:nvPr/>
        </p:nvSpPr>
        <p:spPr>
          <a:xfrm>
            <a:off x="12457080" y="291960"/>
            <a:ext cx="54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"/>
          <p:cNvSpPr/>
          <p:nvPr/>
        </p:nvSpPr>
        <p:spPr>
          <a:xfrm>
            <a:off x="8994600" y="9431280"/>
            <a:ext cx="368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TF 81, Jul/2011, Quebec City, Canada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2" name=""/>
          <p:cNvSpPr/>
          <p:nvPr/>
        </p:nvSpPr>
        <p:spPr>
          <a:xfrm>
            <a:off x="268200" y="9431280"/>
            <a:ext cx="348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ft-bashandy-idr-bgp-repair-label-02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3040" y="1422000"/>
            <a:ext cx="12598560" cy="29466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5500" spc="-1" strike="noStrike">
                <a:solidFill>
                  <a:srgbClr val="c00000"/>
                </a:solidFill>
                <a:latin typeface="Arial"/>
                <a:ea typeface="Arial"/>
              </a:rPr>
              <a:t>Scalable Loop Free BGP FRR </a:t>
            </a:r>
            <a:br>
              <a:rPr sz="5500"/>
            </a:br>
            <a:r>
              <a:rPr b="1" lang="en-US" sz="5500" spc="-1" strike="noStrike">
                <a:solidFill>
                  <a:srgbClr val="c00000"/>
                </a:solidFill>
                <a:latin typeface="Arial"/>
                <a:ea typeface="Arial"/>
              </a:rPr>
              <a:t>Using Repair Label</a:t>
            </a:r>
            <a:br>
              <a:rPr sz="5500"/>
            </a:br>
            <a:br>
              <a:rPr sz="5500"/>
            </a:b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draft-bashandy-idr-bgp-repair-label-02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76760" y="4941360"/>
            <a:ext cx="4924440" cy="32785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senter :</a:t>
            </a:r>
            <a:endParaRPr b="0" lang="en-US" sz="2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Jakob Heitz, </a:t>
            </a:r>
            <a:endParaRPr b="0" lang="en-US" sz="2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ricsson</a:t>
            </a:r>
            <a:endParaRPr b="0" lang="en-US" sz="2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ETF81, Jul/2011</a:t>
            </a:r>
            <a:endParaRPr b="0" lang="en-US" sz="2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Quebec City, Canda</a:t>
            </a:r>
            <a:endParaRPr b="0" lang="en-US" sz="2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"/>
          <p:cNvSpPr/>
          <p:nvPr/>
        </p:nvSpPr>
        <p:spPr>
          <a:xfrm>
            <a:off x="665280" y="4643280"/>
            <a:ext cx="6807240" cy="20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uthors :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hmed Bashandy, Cisco System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urjiz Pithawala, Cisco System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akob Heitz, Ericsson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3004640" cy="2523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7" name=""/>
          <p:cNvSpPr/>
          <p:nvPr/>
        </p:nvSpPr>
        <p:spPr>
          <a:xfrm>
            <a:off x="274680" y="95104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900" spc="-1" strike="noStrike">
                <a:solidFill>
                  <a:srgbClr val="d3d3d3"/>
                </a:solidFill>
                <a:latin typeface="Arial"/>
                <a:ea typeface="Arial"/>
              </a:rPr>
              <a:t>EDCS-875479</a:t>
            </a:r>
            <a:endParaRPr b="0" lang="en-US" sz="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" name=""/>
          <p:cNvSpPr/>
          <p:nvPr/>
        </p:nvSpPr>
        <p:spPr>
          <a:xfrm>
            <a:off x="12457080" y="291960"/>
            <a:ext cx="54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9" name=""/>
          <p:cNvSpPr/>
          <p:nvPr/>
        </p:nvSpPr>
        <p:spPr>
          <a:xfrm>
            <a:off x="8994600" y="9431280"/>
            <a:ext cx="368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TF 81, Jul/2011, Quebec City, Canada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"/>
          <p:cNvSpPr/>
          <p:nvPr/>
        </p:nvSpPr>
        <p:spPr>
          <a:xfrm>
            <a:off x="268200" y="9431280"/>
            <a:ext cx="348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ft-bashandy-idr-bgp-repair-label-02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9880" y="323640"/>
            <a:ext cx="11585880" cy="1191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3900" spc="-1" strike="noStrike">
                <a:solidFill>
                  <a:srgbClr val="0183b7"/>
                </a:solidFill>
                <a:latin typeface="Arial"/>
                <a:ea typeface="Arial"/>
              </a:rPr>
              <a:t>What do we want to do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66880" y="1949400"/>
            <a:ext cx="11293200" cy="65548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t">
            <a:normAutofit/>
          </a:bodyPr>
          <a:p>
            <a:pPr marL="617400" indent="-617400">
              <a:lnSpc>
                <a:spcPct val="95000"/>
              </a:lnSpc>
              <a:spcBef>
                <a:spcPts val="1400"/>
              </a:spcBef>
              <a:buSzPct val="102886"/>
              <a:buBlip>
                <a:blip r:embed="rId1"/>
              </a:buBlip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BGP free core 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lvl="1" marL="1025640" indent="-451080">
              <a:lnSpc>
                <a:spcPct val="95000"/>
              </a:lnSpc>
              <a:spcBef>
                <a:spcPts val="799"/>
              </a:spcBef>
              <a:buSzPct val="102886"/>
              <a:buBlip>
                <a:blip r:embed="rId2"/>
              </a:buBlip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Packets are </a:t>
            </a:r>
            <a:r>
              <a:rPr b="1" i="1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tunneled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 between edge routers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617400" indent="-617400">
              <a:lnSpc>
                <a:spcPct val="95000"/>
              </a:lnSpc>
              <a:spcBef>
                <a:spcPts val="1400"/>
              </a:spcBef>
              <a:buSzPct val="102825"/>
              <a:buBlip>
                <a:blip r:embed="rId3"/>
              </a:buBlip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On loss of primary path, we want to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lvl="1" marL="1025640" indent="-451080">
              <a:lnSpc>
                <a:spcPct val="95000"/>
              </a:lnSpc>
              <a:spcBef>
                <a:spcPts val="799"/>
              </a:spcBef>
              <a:buSzPct val="102886"/>
              <a:buBlip>
                <a:blip r:embed="rId4"/>
              </a:buBlip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Restore traffic through a pre-calculated repair path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lvl="2" marL="1360440" indent="-444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MT"/>
              <a:buChar char="•"/>
              <a:tabLst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without waiting for control plane convergence, and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lvl="2" marL="1360440" indent="-444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MT"/>
              <a:buChar char="•"/>
              <a:tabLst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avoid loops when restoring traffic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3004640" cy="2523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"/>
          <p:cNvSpPr/>
          <p:nvPr/>
        </p:nvSpPr>
        <p:spPr>
          <a:xfrm>
            <a:off x="274680" y="95104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900" spc="-1" strike="noStrike">
                <a:solidFill>
                  <a:srgbClr val="d3d3d3"/>
                </a:solidFill>
                <a:latin typeface="Arial"/>
                <a:ea typeface="Arial"/>
              </a:rPr>
              <a:t>EDCS-875479</a:t>
            </a:r>
            <a:endParaRPr b="0" lang="en-US" sz="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"/>
          <p:cNvSpPr/>
          <p:nvPr/>
        </p:nvSpPr>
        <p:spPr>
          <a:xfrm>
            <a:off x="12457080" y="291960"/>
            <a:ext cx="54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"/>
          <p:cNvSpPr/>
          <p:nvPr/>
        </p:nvSpPr>
        <p:spPr>
          <a:xfrm>
            <a:off x="8994600" y="9431280"/>
            <a:ext cx="368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TF 81, Jul/2011, Quebec City, Canada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"/>
          <p:cNvSpPr/>
          <p:nvPr/>
        </p:nvSpPr>
        <p:spPr>
          <a:xfrm>
            <a:off x="268200" y="9431280"/>
            <a:ext cx="348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ft-bashandy-idr-bgp-repair-label-02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0680480" y="5535720"/>
            <a:ext cx="1320840" cy="1260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3120" bIns="-331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8345160" y="2792160"/>
            <a:ext cx="142920" cy="5236920"/>
          </a:xfrm>
          <a:prstGeom prst="line">
            <a:avLst/>
          </a:prstGeom>
          <a:ln w="81360">
            <a:solidFill>
              <a:srgbClr val="0183b7"/>
            </a:solidFill>
            <a:prstDash val="sysDot"/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697960" y="5516640"/>
            <a:ext cx="1722240" cy="2917800"/>
          </a:xfrm>
          <a:prstGeom prst="line">
            <a:avLst/>
          </a:prstGeom>
          <a:ln w="81360">
            <a:solidFill>
              <a:srgbClr val="0183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6520" y="433440"/>
            <a:ext cx="11583720" cy="690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3900" spc="-1" strike="noStrike">
                <a:solidFill>
                  <a:srgbClr val="0183b7"/>
                </a:solidFill>
                <a:latin typeface="Arial"/>
                <a:ea typeface="Arial"/>
              </a:rPr>
              <a:t>Possible Solution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50600" y="2611440"/>
            <a:ext cx="1299960" cy="137304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3" name="image.pdf" descr=""/>
          <p:cNvPicPr/>
          <p:nvPr/>
        </p:nvPicPr>
        <p:blipFill>
          <a:blip r:embed="rId1"/>
          <a:stretch/>
        </p:blipFill>
        <p:spPr>
          <a:xfrm>
            <a:off x="8112240" y="8045280"/>
            <a:ext cx="819000" cy="551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2044800" y="2381040"/>
            <a:ext cx="6610320" cy="15876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5" name="image.pdf" descr=""/>
          <p:cNvPicPr/>
          <p:nvPr/>
        </p:nvPicPr>
        <p:blipFill>
          <a:blip r:embed="rId2"/>
          <a:stretch/>
        </p:blipFill>
        <p:spPr>
          <a:xfrm>
            <a:off x="1755720" y="2209680"/>
            <a:ext cx="819360" cy="551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81120" y="185112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E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"/>
          <p:cNvSpPr/>
          <p:nvPr/>
        </p:nvSpPr>
        <p:spPr>
          <a:xfrm>
            <a:off x="7978680" y="193824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E2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14600" y="2076480"/>
            <a:ext cx="2515320" cy="538920"/>
            <a:chOff x="2514600" y="2076480"/>
            <a:chExt cx="2515320" cy="538920"/>
          </a:xfrm>
        </p:grpSpPr>
        <p:sp>
          <p:nvSpPr>
            <p:cNvPr id="69" name=""/>
            <p:cNvSpPr/>
            <p:nvPr/>
          </p:nvSpPr>
          <p:spPr>
            <a:xfrm>
              <a:off x="3134160" y="2076480"/>
              <a:ext cx="1101240" cy="125280"/>
            </a:xfrm>
            <a:prstGeom prst="rightArrow">
              <a:avLst>
                <a:gd name="adj1" fmla="val 50000"/>
                <a:gd name="adj2" fmla="val 154521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9360" bIns="-93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3438000" y="2253240"/>
              <a:ext cx="883440" cy="361800"/>
              <a:chOff x="3438000" y="2253240"/>
              <a:chExt cx="883440" cy="361800"/>
            </a:xfrm>
          </p:grpSpPr>
          <p:sp>
            <p:nvSpPr>
              <p:cNvPr id="71" name=""/>
              <p:cNvSpPr/>
              <p:nvPr/>
            </p:nvSpPr>
            <p:spPr>
              <a:xfrm>
                <a:off x="3501720" y="2253240"/>
                <a:ext cx="744120" cy="36180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438000" y="2253240"/>
                <a:ext cx="8834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PN</a:t>
                </a:r>
                <a:r>
                  <a:rPr b="1" lang="en-US" sz="1400" spc="-1" strike="noStrike" baseline="-19000">
                    <a:solidFill>
                      <a:srgbClr val="0000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4158000" y="2253240"/>
              <a:ext cx="871920" cy="361800"/>
              <a:chOff x="4158000" y="2253240"/>
              <a:chExt cx="871920" cy="361800"/>
            </a:xfrm>
          </p:grpSpPr>
          <p:sp>
            <p:nvSpPr>
              <p:cNvPr id="74" name=""/>
              <p:cNvSpPr/>
              <p:nvPr/>
            </p:nvSpPr>
            <p:spPr>
              <a:xfrm>
                <a:off x="4233240" y="2253240"/>
                <a:ext cx="717840" cy="36180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158000" y="2253240"/>
                <a:ext cx="87192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DP</a:t>
                </a:r>
                <a:r>
                  <a:rPr b="1" lang="en-US" sz="1400" spc="-1" strike="noStrike" baseline="-19000">
                    <a:solidFill>
                      <a:srgbClr val="0000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514600" y="2253240"/>
              <a:ext cx="1009800" cy="362160"/>
              <a:chOff x="2514600" y="2253240"/>
              <a:chExt cx="1009800" cy="362160"/>
            </a:xfrm>
          </p:grpSpPr>
          <p:sp>
            <p:nvSpPr>
              <p:cNvPr id="77" name=""/>
              <p:cNvSpPr/>
              <p:nvPr/>
            </p:nvSpPr>
            <p:spPr>
              <a:xfrm>
                <a:off x="2514600" y="2253240"/>
                <a:ext cx="1009800" cy="3477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525760" y="2253240"/>
                <a:ext cx="98388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 flipH="1" flipV="1">
            <a:off x="8585280" y="2684520"/>
            <a:ext cx="1869840" cy="267480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0" name="image.pdf" descr=""/>
          <p:cNvPicPr/>
          <p:nvPr/>
        </p:nvPicPr>
        <p:blipFill>
          <a:blip r:embed="rId4"/>
          <a:stretch/>
        </p:blipFill>
        <p:spPr>
          <a:xfrm>
            <a:off x="401760" y="3701880"/>
            <a:ext cx="819000" cy="55116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11422080" y="4535640"/>
            <a:ext cx="1586160" cy="1613520"/>
            <a:chOff x="11422080" y="4535640"/>
            <a:chExt cx="1586160" cy="1613520"/>
          </a:xfrm>
        </p:grpSpPr>
        <p:sp>
          <p:nvSpPr>
            <p:cNvPr id="82" name=""/>
            <p:cNvSpPr/>
            <p:nvPr/>
          </p:nvSpPr>
          <p:spPr>
            <a:xfrm>
              <a:off x="11496240" y="5179320"/>
              <a:ext cx="151200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85920"/>
                  <a:tab algn="l" pos="2571840"/>
                  <a:tab algn="l" pos="3857760"/>
                  <a:tab algn="l" pos="5143680"/>
                  <a:tab algn="l" pos="6429240"/>
                  <a:tab algn="l" pos="7715160"/>
                  <a:tab algn="l" pos="9001080"/>
                  <a:tab algn="l" pos="102870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X</a:t>
              </a:r>
              <a:endParaRPr b="0" lang="en-US" sz="19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93840" y="2398680"/>
            <a:ext cx="1350360" cy="1350000"/>
            <a:chOff x="393840" y="2398680"/>
            <a:chExt cx="1350360" cy="1350000"/>
          </a:xfrm>
        </p:grpSpPr>
        <p:sp>
          <p:nvSpPr>
            <p:cNvPr id="84" name=""/>
            <p:cNvSpPr/>
            <p:nvPr/>
          </p:nvSpPr>
          <p:spPr>
            <a:xfrm rot="18943800">
              <a:off x="587520" y="2600280"/>
              <a:ext cx="962640" cy="946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36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c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8943800">
              <a:off x="600480" y="2600280"/>
              <a:ext cx="93816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54360" bIns="54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</a:t>
              </a:r>
              <a:endParaRPr b="0" lang="en-US" sz="17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098920" y="6353280"/>
            <a:ext cx="588240" cy="1793160"/>
            <a:chOff x="8098920" y="6353280"/>
            <a:chExt cx="588240" cy="1793160"/>
          </a:xfrm>
        </p:grpSpPr>
        <p:grpSp>
          <p:nvGrpSpPr>
            <p:cNvPr id="87" name=""/>
            <p:cNvGrpSpPr/>
            <p:nvPr/>
          </p:nvGrpSpPr>
          <p:grpSpPr>
            <a:xfrm>
              <a:off x="8313120" y="6353280"/>
              <a:ext cx="363240" cy="1010160"/>
              <a:chOff x="8313120" y="6353280"/>
              <a:chExt cx="363240" cy="10101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7982280" y="6683760"/>
                <a:ext cx="1010160" cy="3488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5400000">
                <a:off x="8008200" y="6669000"/>
                <a:ext cx="972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rot="5400000">
              <a:off x="7606440" y="7390440"/>
              <a:ext cx="1098720" cy="114120"/>
            </a:xfrm>
            <a:prstGeom prst="rightArrow">
              <a:avLst>
                <a:gd name="adj1" fmla="val 50000"/>
                <a:gd name="adj2" fmla="val 169244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301600" y="7277040"/>
              <a:ext cx="385560" cy="869400"/>
              <a:chOff x="8301600" y="7277040"/>
              <a:chExt cx="385560" cy="869400"/>
            </a:xfrm>
          </p:grpSpPr>
          <p:sp>
            <p:nvSpPr>
              <p:cNvPr id="92" name=""/>
              <p:cNvSpPr/>
              <p:nvPr/>
            </p:nvSpPr>
            <p:spPr>
              <a:xfrm rot="5400000">
                <a:off x="8141400" y="7523280"/>
                <a:ext cx="706320" cy="36216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400000">
                <a:off x="8059680" y="7518960"/>
                <a:ext cx="8694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VPN</a:t>
                </a:r>
                <a:r>
                  <a:rPr b="1" i="1" lang="en-US" sz="1400" spc="-1" strike="noStrike" baseline="-19000">
                    <a:solidFill>
                      <a:srgbClr val="ff3300"/>
                    </a:solidFill>
                    <a:latin typeface="Arial"/>
                    <a:ea typeface="Arial"/>
                  </a:rPr>
                  <a:t>PE3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6060960" y="2124000"/>
            <a:ext cx="1793520" cy="518040"/>
            <a:chOff x="6060960" y="2124000"/>
            <a:chExt cx="1793520" cy="518040"/>
          </a:xfrm>
        </p:grpSpPr>
        <p:grpSp>
          <p:nvGrpSpPr>
            <p:cNvPr id="95" name=""/>
            <p:cNvGrpSpPr/>
            <p:nvPr/>
          </p:nvGrpSpPr>
          <p:grpSpPr>
            <a:xfrm>
              <a:off x="6060960" y="2273040"/>
              <a:ext cx="1010160" cy="369000"/>
              <a:chOff x="6060960" y="2273040"/>
              <a:chExt cx="1010160" cy="369000"/>
            </a:xfrm>
          </p:grpSpPr>
          <p:sp>
            <p:nvSpPr>
              <p:cNvPr id="96" name=""/>
              <p:cNvSpPr/>
              <p:nvPr/>
            </p:nvSpPr>
            <p:spPr>
              <a:xfrm>
                <a:off x="6060960" y="2273040"/>
                <a:ext cx="1010160" cy="354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072120" y="2273040"/>
                <a:ext cx="984240" cy="36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339240" y="2124000"/>
              <a:ext cx="1087560" cy="123840"/>
            </a:xfrm>
            <a:prstGeom prst="rightArrow">
              <a:avLst>
                <a:gd name="adj1" fmla="val 50000"/>
                <a:gd name="adj2" fmla="val 154376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984720" y="2284560"/>
              <a:ext cx="869760" cy="346680"/>
              <a:chOff x="6984720" y="2284560"/>
              <a:chExt cx="869760" cy="346680"/>
            </a:xfrm>
          </p:grpSpPr>
          <p:sp>
            <p:nvSpPr>
              <p:cNvPr id="100" name=""/>
              <p:cNvSpPr/>
              <p:nvPr/>
            </p:nvSpPr>
            <p:spPr>
              <a:xfrm>
                <a:off x="7058880" y="2284560"/>
                <a:ext cx="720720" cy="34668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984720" y="2284560"/>
                <a:ext cx="869760" cy="3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PN</a:t>
                </a:r>
                <a:r>
                  <a:rPr b="1" lang="en-US" sz="1400" spc="-1" strike="noStrike" baseline="-19000">
                    <a:solidFill>
                      <a:srgbClr val="0000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7516800" y="833436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E3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"/>
          <p:cNvSpPr/>
          <p:nvPr/>
        </p:nvSpPr>
        <p:spPr>
          <a:xfrm>
            <a:off x="449280" y="4222800"/>
            <a:ext cx="757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"/>
          <p:cNvSpPr/>
          <p:nvPr/>
        </p:nvSpPr>
        <p:spPr>
          <a:xfrm>
            <a:off x="2803680" y="4241880"/>
            <a:ext cx="41734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wap VPN</a:t>
            </a:r>
            <a:r>
              <a:rPr b="0" i="1" lang="en-US" sz="2500" spc="-1" strike="noStrike" baseline="-19000">
                <a:solidFill>
                  <a:srgbClr val="000000"/>
                </a:solidFill>
                <a:latin typeface="Arial"/>
                <a:ea typeface="Arial"/>
              </a:rPr>
              <a:t>PE2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with VPN</a:t>
            </a:r>
            <a:r>
              <a:rPr b="0" i="1" lang="en-US" sz="2500" spc="-1" strike="noStrike" baseline="-19000">
                <a:solidFill>
                  <a:srgbClr val="000000"/>
                </a:solidFill>
                <a:latin typeface="Arial"/>
                <a:ea typeface="Arial"/>
              </a:rPr>
              <a:t>PE3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ush LDP</a:t>
            </a:r>
            <a:r>
              <a:rPr b="0" i="1" lang="en-US" sz="2500" spc="-1" strike="noStrike" baseline="-19000">
                <a:solidFill>
                  <a:srgbClr val="000000"/>
                </a:solidFill>
                <a:latin typeface="Arial"/>
                <a:ea typeface="Arial"/>
              </a:rPr>
              <a:t>PE3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005680" y="2793960"/>
            <a:ext cx="586800" cy="2516760"/>
            <a:chOff x="8005680" y="2793960"/>
            <a:chExt cx="586800" cy="2516760"/>
          </a:xfrm>
        </p:grpSpPr>
        <p:sp>
          <p:nvSpPr>
            <p:cNvPr id="106" name=""/>
            <p:cNvSpPr/>
            <p:nvPr/>
          </p:nvSpPr>
          <p:spPr>
            <a:xfrm rot="5400000">
              <a:off x="7522920" y="3947760"/>
              <a:ext cx="1099080" cy="133920"/>
            </a:xfrm>
            <a:prstGeom prst="rightArrow">
              <a:avLst>
                <a:gd name="adj1" fmla="val 50000"/>
                <a:gd name="adj2" fmla="val 144268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8215200" y="3718080"/>
              <a:ext cx="377280" cy="883800"/>
              <a:chOff x="8215200" y="3718080"/>
              <a:chExt cx="377280" cy="883800"/>
            </a:xfrm>
          </p:grpSpPr>
          <p:sp>
            <p:nvSpPr>
              <p:cNvPr id="108" name=""/>
              <p:cNvSpPr/>
              <p:nvPr/>
            </p:nvSpPr>
            <p:spPr>
              <a:xfrm rot="5400000">
                <a:off x="8031240" y="3976920"/>
                <a:ext cx="744480" cy="35424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7961760" y="3971160"/>
                <a:ext cx="8838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VPN</a:t>
                </a:r>
                <a:r>
                  <a:rPr b="1" i="1" lang="en-US" sz="1400" spc="-1" strike="noStrike" baseline="-19000">
                    <a:solidFill>
                      <a:srgbClr val="ff3300"/>
                    </a:solidFill>
                    <a:latin typeface="Arial"/>
                    <a:ea typeface="Arial"/>
                  </a:rPr>
                  <a:t>PE3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8215200" y="4438440"/>
              <a:ext cx="377280" cy="872280"/>
              <a:chOff x="8215200" y="4438440"/>
              <a:chExt cx="377280" cy="872280"/>
            </a:xfrm>
          </p:grpSpPr>
          <p:sp>
            <p:nvSpPr>
              <p:cNvPr id="111" name=""/>
              <p:cNvSpPr/>
              <p:nvPr/>
            </p:nvSpPr>
            <p:spPr>
              <a:xfrm rot="5400000">
                <a:off x="8038080" y="4703040"/>
                <a:ext cx="730440" cy="35424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7967520" y="4685760"/>
                <a:ext cx="8722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LDP</a:t>
                </a:r>
                <a:r>
                  <a:rPr b="1" i="1" lang="en-US" sz="1400" spc="-1" strike="noStrike" baseline="-19000">
                    <a:solidFill>
                      <a:srgbClr val="ff3300"/>
                    </a:solidFill>
                    <a:latin typeface="Arial"/>
                    <a:ea typeface="Arial"/>
                  </a:rPr>
                  <a:t>PE3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8226000" y="2793960"/>
              <a:ext cx="355320" cy="1010520"/>
              <a:chOff x="8226000" y="2793960"/>
              <a:chExt cx="355320" cy="1010520"/>
            </a:xfrm>
          </p:grpSpPr>
          <p:sp>
            <p:nvSpPr>
              <p:cNvPr id="114" name=""/>
              <p:cNvSpPr/>
              <p:nvPr/>
            </p:nvSpPr>
            <p:spPr>
              <a:xfrm rot="5400000">
                <a:off x="7891200" y="3128760"/>
                <a:ext cx="1010520" cy="3409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400000">
                <a:off x="7917120" y="3114000"/>
                <a:ext cx="9730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9109080" y="3530520"/>
            <a:ext cx="876240" cy="1036800"/>
          </a:xfrm>
          <a:prstGeom prst="pie">
            <a:avLst/>
          </a:prstGeom>
          <a:solidFill>
            <a:srgbClr val="b21a1a">
              <a:alpha val="90000"/>
            </a:srgbClr>
          </a:solidFill>
          <a:ln w="0">
            <a:noFill/>
          </a:ln>
          <a:effectLst>
            <a:outerShdw dist="17819" dir="18900000" blurRad="0" rotWithShape="0">
              <a:srgbClr val="8e8e9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7" name="image.pdf" descr=""/>
          <p:cNvPicPr/>
          <p:nvPr/>
        </p:nvPicPr>
        <p:blipFill>
          <a:blip r:embed="rId9"/>
          <a:stretch/>
        </p:blipFill>
        <p:spPr>
          <a:xfrm>
            <a:off x="10102680" y="5195880"/>
            <a:ext cx="819360" cy="550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150560" y="5718240"/>
            <a:ext cx="758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2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464400" y="6273360"/>
            <a:ext cx="1375200" cy="1392840"/>
            <a:chOff x="9464400" y="6273360"/>
            <a:chExt cx="1375200" cy="1392840"/>
          </a:xfrm>
        </p:grpSpPr>
        <p:grpSp>
          <p:nvGrpSpPr>
            <p:cNvPr id="120" name=""/>
            <p:cNvGrpSpPr/>
            <p:nvPr/>
          </p:nvGrpSpPr>
          <p:grpSpPr>
            <a:xfrm>
              <a:off x="9464400" y="6273360"/>
              <a:ext cx="1375200" cy="1364400"/>
              <a:chOff x="9464400" y="6273360"/>
              <a:chExt cx="1375200" cy="1364400"/>
            </a:xfrm>
          </p:grpSpPr>
          <p:sp>
            <p:nvSpPr>
              <p:cNvPr id="121" name=""/>
              <p:cNvSpPr/>
              <p:nvPr/>
            </p:nvSpPr>
            <p:spPr>
              <a:xfrm rot="18158400">
                <a:off x="9652680" y="6486840"/>
                <a:ext cx="999000" cy="9338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8158400">
                <a:off x="9665280" y="6450480"/>
                <a:ext cx="973440" cy="10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8031200">
              <a:off x="9972720" y="7097400"/>
              <a:ext cx="1048680" cy="155160"/>
            </a:xfrm>
            <a:prstGeom prst="rightArrow">
              <a:avLst>
                <a:gd name="adj1" fmla="val 50000"/>
                <a:gd name="adj2" fmla="val 118809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9659880" y="3462840"/>
            <a:ext cx="1407600" cy="1359720"/>
            <a:chOff x="9659880" y="3462840"/>
            <a:chExt cx="1407600" cy="1359720"/>
          </a:xfrm>
        </p:grpSpPr>
        <p:grpSp>
          <p:nvGrpSpPr>
            <p:cNvPr id="125" name=""/>
            <p:cNvGrpSpPr/>
            <p:nvPr/>
          </p:nvGrpSpPr>
          <p:grpSpPr>
            <a:xfrm>
              <a:off x="9659880" y="3462840"/>
              <a:ext cx="1377720" cy="1359720"/>
              <a:chOff x="9659880" y="3462840"/>
              <a:chExt cx="1377720" cy="1359720"/>
            </a:xfrm>
          </p:grpSpPr>
          <p:sp>
            <p:nvSpPr>
              <p:cNvPr id="126" name=""/>
              <p:cNvSpPr/>
              <p:nvPr/>
            </p:nvSpPr>
            <p:spPr>
              <a:xfrm rot="3523800">
                <a:off x="9848160" y="3656520"/>
                <a:ext cx="1000440" cy="9720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3523800">
                <a:off x="9873360" y="3625200"/>
                <a:ext cx="950040" cy="10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rot="3523800">
              <a:off x="10207800" y="3938040"/>
              <a:ext cx="1041480" cy="159840"/>
            </a:xfrm>
            <a:prstGeom prst="rightArrow">
              <a:avLst>
                <a:gd name="adj1" fmla="val 50000"/>
                <a:gd name="adj2" fmla="val 114539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pic>
        <p:nvPicPr>
          <p:cNvPr id="129" name="image.pdf" descr=""/>
          <p:cNvPicPr/>
          <p:nvPr/>
        </p:nvPicPr>
        <p:blipFill>
          <a:blip r:embed="rId12"/>
          <a:stretch/>
        </p:blipFill>
        <p:spPr>
          <a:xfrm>
            <a:off x="7904160" y="2308320"/>
            <a:ext cx="819000" cy="550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19004400">
            <a:off x="274680" y="2762280"/>
            <a:ext cx="1084320" cy="115920"/>
          </a:xfrm>
          <a:prstGeom prst="rightArrow">
            <a:avLst>
              <a:gd name="adj1" fmla="val 50000"/>
              <a:gd name="adj2" fmla="val 164432"/>
            </a:avLst>
          </a:prstGeom>
          <a:solidFill>
            <a:srgbClr val="efb525"/>
          </a:solidFill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13004640" cy="2523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"/>
          <p:cNvSpPr/>
          <p:nvPr/>
        </p:nvSpPr>
        <p:spPr>
          <a:xfrm>
            <a:off x="274680" y="95104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900" spc="-1" strike="noStrike">
                <a:solidFill>
                  <a:srgbClr val="d3d3d3"/>
                </a:solidFill>
                <a:latin typeface="Arial"/>
                <a:ea typeface="Arial"/>
              </a:rPr>
              <a:t>EDCS-875479</a:t>
            </a:r>
            <a:endParaRPr b="0" lang="en-US" sz="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3" name=""/>
          <p:cNvSpPr/>
          <p:nvPr/>
        </p:nvSpPr>
        <p:spPr>
          <a:xfrm>
            <a:off x="12457080" y="291960"/>
            <a:ext cx="54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4" name=""/>
          <p:cNvSpPr/>
          <p:nvPr/>
        </p:nvSpPr>
        <p:spPr>
          <a:xfrm>
            <a:off x="8994600" y="9431280"/>
            <a:ext cx="368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TF 81, Jul/2011, Quebec City, Canada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5" name=""/>
          <p:cNvSpPr/>
          <p:nvPr/>
        </p:nvSpPr>
        <p:spPr>
          <a:xfrm>
            <a:off x="268200" y="9431280"/>
            <a:ext cx="348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ft-bashandy-idr-bgp-repair-label-02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6520" y="433440"/>
            <a:ext cx="11583720" cy="690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3900" spc="-1" strike="noStrike">
                <a:solidFill>
                  <a:srgbClr val="0183b7"/>
                </a:solidFill>
                <a:latin typeface="Arial"/>
                <a:ea typeface="Arial"/>
              </a:rPr>
              <a:t>Problem: If CE fails 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0680480" y="5521320"/>
            <a:ext cx="1320840" cy="1440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540640" y="5643720"/>
            <a:ext cx="1704960" cy="2865240"/>
          </a:xfrm>
          <a:prstGeom prst="line">
            <a:avLst/>
          </a:prstGeom>
          <a:ln w="81360">
            <a:solidFill>
              <a:srgbClr val="0183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14200" y="2584440"/>
            <a:ext cx="1299960" cy="137304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044440" y="2366640"/>
            <a:ext cx="6073560" cy="18396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41" name="image.pdf" descr=""/>
          <p:cNvPicPr/>
          <p:nvPr/>
        </p:nvPicPr>
        <p:blipFill>
          <a:blip r:embed="rId1"/>
          <a:stretch/>
        </p:blipFill>
        <p:spPr>
          <a:xfrm>
            <a:off x="2119320" y="2182680"/>
            <a:ext cx="819000" cy="551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44720" y="182412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E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3" name=""/>
          <p:cNvSpPr/>
          <p:nvPr/>
        </p:nvSpPr>
        <p:spPr>
          <a:xfrm>
            <a:off x="7765920" y="1995480"/>
            <a:ext cx="744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E2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878200" y="2085840"/>
            <a:ext cx="2514960" cy="502920"/>
            <a:chOff x="2878200" y="2085840"/>
            <a:chExt cx="2514960" cy="502920"/>
          </a:xfrm>
        </p:grpSpPr>
        <p:sp>
          <p:nvSpPr>
            <p:cNvPr id="145" name=""/>
            <p:cNvSpPr/>
            <p:nvPr/>
          </p:nvSpPr>
          <p:spPr>
            <a:xfrm>
              <a:off x="3623760" y="2085840"/>
              <a:ext cx="1086840" cy="122760"/>
            </a:xfrm>
            <a:prstGeom prst="rightArrow">
              <a:avLst>
                <a:gd name="adj1" fmla="val 50000"/>
                <a:gd name="adj2" fmla="val 155631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801600" y="2233800"/>
              <a:ext cx="883080" cy="340920"/>
              <a:chOff x="3801600" y="2233800"/>
              <a:chExt cx="883080" cy="340920"/>
            </a:xfrm>
          </p:grpSpPr>
          <p:sp>
            <p:nvSpPr>
              <p:cNvPr id="147" name=""/>
              <p:cNvSpPr/>
              <p:nvPr/>
            </p:nvSpPr>
            <p:spPr>
              <a:xfrm>
                <a:off x="3865320" y="2233800"/>
                <a:ext cx="743760" cy="34092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801600" y="2233800"/>
                <a:ext cx="88308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PN</a:t>
                </a:r>
                <a:r>
                  <a:rPr b="1" lang="en-US" sz="1400" spc="-1" strike="noStrike" baseline="-19000">
                    <a:solidFill>
                      <a:srgbClr val="0000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521600" y="2233800"/>
              <a:ext cx="871560" cy="340920"/>
              <a:chOff x="4521600" y="2233800"/>
              <a:chExt cx="871560" cy="340920"/>
            </a:xfrm>
          </p:grpSpPr>
          <p:sp>
            <p:nvSpPr>
              <p:cNvPr id="150" name=""/>
              <p:cNvSpPr/>
              <p:nvPr/>
            </p:nvSpPr>
            <p:spPr>
              <a:xfrm>
                <a:off x="4596840" y="2233800"/>
                <a:ext cx="717840" cy="34092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21600" y="2233800"/>
                <a:ext cx="87156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DP</a:t>
                </a:r>
                <a:r>
                  <a:rPr b="1" lang="en-US" sz="1400" spc="-1" strike="noStrike" baseline="-19000">
                    <a:solidFill>
                      <a:srgbClr val="0000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878200" y="2222640"/>
              <a:ext cx="1009800" cy="366120"/>
              <a:chOff x="2878200" y="2222640"/>
              <a:chExt cx="1009800" cy="366120"/>
            </a:xfrm>
          </p:grpSpPr>
          <p:sp>
            <p:nvSpPr>
              <p:cNvPr id="153" name=""/>
              <p:cNvSpPr/>
              <p:nvPr/>
            </p:nvSpPr>
            <p:spPr>
              <a:xfrm>
                <a:off x="2878200" y="2222640"/>
                <a:ext cx="1009800" cy="351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89360" y="2222640"/>
                <a:ext cx="983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 flipH="1" flipV="1">
            <a:off x="8373960" y="2739600"/>
            <a:ext cx="1922400" cy="248148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56" name="image.pdf" descr=""/>
          <p:cNvPicPr/>
          <p:nvPr/>
        </p:nvPicPr>
        <p:blipFill>
          <a:blip r:embed="rId3"/>
          <a:stretch/>
        </p:blipFill>
        <p:spPr>
          <a:xfrm>
            <a:off x="895320" y="3740040"/>
            <a:ext cx="819360" cy="55080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1379240" y="4659480"/>
            <a:ext cx="1622880" cy="1546560"/>
            <a:chOff x="11379240" y="4659480"/>
            <a:chExt cx="1622880" cy="1546560"/>
          </a:xfrm>
        </p:grpSpPr>
        <p:pic>
          <p:nvPicPr>
            <p:cNvPr id="158" name="cloud.png" descr=""/>
            <p:cNvPicPr/>
            <p:nvPr/>
          </p:nvPicPr>
          <p:blipFill>
            <a:blip r:embed="rId4"/>
            <a:stretch/>
          </p:blipFill>
          <p:spPr>
            <a:xfrm>
              <a:off x="11379240" y="4659480"/>
              <a:ext cx="1622880" cy="15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1416320" y="5242680"/>
              <a:ext cx="15220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85920"/>
                  <a:tab algn="l" pos="2571840"/>
                  <a:tab algn="l" pos="3857760"/>
                  <a:tab algn="l" pos="5143680"/>
                  <a:tab algn="l" pos="6429240"/>
                  <a:tab algn="l" pos="7715160"/>
                  <a:tab algn="l" pos="9001080"/>
                  <a:tab algn="l" pos="102870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X</a:t>
              </a:r>
              <a:endParaRPr b="0" lang="en-US" sz="19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73000" y="2423520"/>
            <a:ext cx="1351440" cy="1351080"/>
            <a:chOff x="873000" y="2423520"/>
            <a:chExt cx="1351440" cy="1351080"/>
          </a:xfrm>
        </p:grpSpPr>
        <p:sp>
          <p:nvSpPr>
            <p:cNvPr id="161" name=""/>
            <p:cNvSpPr/>
            <p:nvPr/>
          </p:nvSpPr>
          <p:spPr>
            <a:xfrm rot="18943800">
              <a:off x="1066320" y="2625480"/>
              <a:ext cx="964440" cy="946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36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c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943800">
              <a:off x="1080000" y="2625480"/>
              <a:ext cx="93996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54360" bIns="54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</a:t>
              </a:r>
              <a:endParaRPr b="0" lang="en-US" sz="17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48200" y="2198520"/>
            <a:ext cx="1793520" cy="501120"/>
            <a:chOff x="5848200" y="2198520"/>
            <a:chExt cx="1793520" cy="501120"/>
          </a:xfrm>
        </p:grpSpPr>
        <p:grpSp>
          <p:nvGrpSpPr>
            <p:cNvPr id="164" name=""/>
            <p:cNvGrpSpPr/>
            <p:nvPr/>
          </p:nvGrpSpPr>
          <p:grpSpPr>
            <a:xfrm>
              <a:off x="5848200" y="2338560"/>
              <a:ext cx="1010160" cy="361080"/>
              <a:chOff x="5848200" y="2338560"/>
              <a:chExt cx="1010160" cy="361080"/>
            </a:xfrm>
          </p:grpSpPr>
          <p:sp>
            <p:nvSpPr>
              <p:cNvPr id="165" name=""/>
              <p:cNvSpPr/>
              <p:nvPr/>
            </p:nvSpPr>
            <p:spPr>
              <a:xfrm>
                <a:off x="5848200" y="2338560"/>
                <a:ext cx="1010160" cy="346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59360" y="2338560"/>
                <a:ext cx="9842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341760" y="2198520"/>
              <a:ext cx="1087560" cy="126000"/>
            </a:xfrm>
            <a:prstGeom prst="rightArrow">
              <a:avLst>
                <a:gd name="adj1" fmla="val 50000"/>
                <a:gd name="adj2" fmla="val 151729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771960" y="2350080"/>
              <a:ext cx="869760" cy="349560"/>
              <a:chOff x="6771960" y="2350080"/>
              <a:chExt cx="869760" cy="349560"/>
            </a:xfrm>
          </p:grpSpPr>
          <p:sp>
            <p:nvSpPr>
              <p:cNvPr id="169" name=""/>
              <p:cNvSpPr/>
              <p:nvPr/>
            </p:nvSpPr>
            <p:spPr>
              <a:xfrm>
                <a:off x="6846120" y="2350080"/>
                <a:ext cx="720720" cy="34956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71960" y="2350080"/>
                <a:ext cx="8697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PN</a:t>
                </a:r>
                <a:r>
                  <a:rPr b="1" lang="en-US" sz="1400" spc="-1" strike="noStrike" baseline="-19000">
                    <a:solidFill>
                      <a:srgbClr val="0000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8062920" y="865512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E3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2" name=""/>
          <p:cNvSpPr/>
          <p:nvPr/>
        </p:nvSpPr>
        <p:spPr>
          <a:xfrm>
            <a:off x="812880" y="4195800"/>
            <a:ext cx="757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73" name="image.pdf" descr=""/>
          <p:cNvPicPr/>
          <p:nvPr/>
        </p:nvPicPr>
        <p:blipFill>
          <a:blip r:embed="rId7"/>
          <a:stretch/>
        </p:blipFill>
        <p:spPr>
          <a:xfrm>
            <a:off x="10102680" y="5183280"/>
            <a:ext cx="819360" cy="550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150560" y="5703840"/>
            <a:ext cx="758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2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5" name=""/>
          <p:cNvSpPr/>
          <p:nvPr/>
        </p:nvSpPr>
        <p:spPr>
          <a:xfrm>
            <a:off x="10163160" y="4905360"/>
            <a:ext cx="876240" cy="1036800"/>
          </a:xfrm>
          <a:prstGeom prst="pie">
            <a:avLst/>
          </a:prstGeom>
          <a:solidFill>
            <a:srgbClr val="b21a1a">
              <a:alpha val="90000"/>
            </a:srgbClr>
          </a:solidFill>
          <a:ln w="0">
            <a:noFill/>
          </a:ln>
          <a:effectLst>
            <a:outerShdw dist="17819" dir="18900000" blurRad="0" rotWithShape="0">
              <a:srgbClr val="8e8e9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76" name="image.png" descr=""/>
          <p:cNvPicPr/>
          <p:nvPr/>
        </p:nvPicPr>
        <p:blipFill>
          <a:blip r:embed="rId8"/>
          <a:stretch/>
        </p:blipFill>
        <p:spPr>
          <a:xfrm>
            <a:off x="5686560" y="2478240"/>
            <a:ext cx="2427120" cy="585288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5045040" y="5798160"/>
            <a:ext cx="2397240" cy="2396160"/>
            <a:chOff x="5045040" y="5798160"/>
            <a:chExt cx="2397240" cy="2396160"/>
          </a:xfrm>
        </p:grpSpPr>
        <p:sp>
          <p:nvSpPr>
            <p:cNvPr id="178" name=""/>
            <p:cNvSpPr/>
            <p:nvPr/>
          </p:nvSpPr>
          <p:spPr>
            <a:xfrm rot="13516800">
              <a:off x="5452560" y="7138080"/>
              <a:ext cx="1085400" cy="125280"/>
            </a:xfrm>
            <a:prstGeom prst="rightArrow">
              <a:avLst>
                <a:gd name="adj1" fmla="val 50000"/>
                <a:gd name="adj2" fmla="val 152298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544000" y="6299280"/>
              <a:ext cx="1257480" cy="1257480"/>
              <a:chOff x="5544000" y="6299280"/>
              <a:chExt cx="1257480" cy="1257480"/>
            </a:xfrm>
          </p:grpSpPr>
          <p:sp>
            <p:nvSpPr>
              <p:cNvPr id="180" name=""/>
              <p:cNvSpPr/>
              <p:nvPr/>
            </p:nvSpPr>
            <p:spPr>
              <a:xfrm rot="13516800">
                <a:off x="5812560" y="6532920"/>
                <a:ext cx="752400" cy="80028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3516800">
                <a:off x="5725800" y="6485400"/>
                <a:ext cx="893520" cy="88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VPN</a:t>
                </a:r>
                <a:r>
                  <a:rPr b="1" i="1" lang="en-US" sz="1400" spc="-1" strike="noStrike" baseline="-19000">
                    <a:solidFill>
                      <a:srgbClr val="ff33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045040" y="5798160"/>
              <a:ext cx="1239480" cy="1239840"/>
              <a:chOff x="5045040" y="5798160"/>
              <a:chExt cx="1239480" cy="1239840"/>
            </a:xfrm>
          </p:grpSpPr>
          <p:sp>
            <p:nvSpPr>
              <p:cNvPr id="183" name=""/>
              <p:cNvSpPr/>
              <p:nvPr/>
            </p:nvSpPr>
            <p:spPr>
              <a:xfrm rot="13516800">
                <a:off x="5313240" y="6007680"/>
                <a:ext cx="702360" cy="81972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3516800">
                <a:off x="5223600" y="5982480"/>
                <a:ext cx="882000" cy="87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LDP</a:t>
                </a:r>
                <a:r>
                  <a:rPr b="1" i="1" lang="en-US" sz="1400" spc="-1" strike="noStrike" baseline="-19000">
                    <a:solidFill>
                      <a:srgbClr val="ff33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122520" y="6874920"/>
              <a:ext cx="1319760" cy="1319400"/>
              <a:chOff x="6122520" y="6874920"/>
              <a:chExt cx="1319760" cy="1319400"/>
            </a:xfrm>
          </p:grpSpPr>
          <p:sp>
            <p:nvSpPr>
              <p:cNvPr id="186" name=""/>
              <p:cNvSpPr/>
              <p:nvPr/>
            </p:nvSpPr>
            <p:spPr>
              <a:xfrm rot="13516800">
                <a:off x="6297840" y="7090200"/>
                <a:ext cx="968400" cy="8895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3516800">
                <a:off x="6322680" y="7060680"/>
                <a:ext cx="9190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5240520" y="2915640"/>
            <a:ext cx="1798920" cy="1954080"/>
            <a:chOff x="5240520" y="2915640"/>
            <a:chExt cx="1798920" cy="1954080"/>
          </a:xfrm>
        </p:grpSpPr>
        <p:grpSp>
          <p:nvGrpSpPr>
            <p:cNvPr id="189" name=""/>
            <p:cNvGrpSpPr/>
            <p:nvPr/>
          </p:nvGrpSpPr>
          <p:grpSpPr>
            <a:xfrm>
              <a:off x="5240520" y="3535560"/>
              <a:ext cx="1319400" cy="1334160"/>
              <a:chOff x="5240520" y="3535560"/>
              <a:chExt cx="1319400" cy="1334160"/>
            </a:xfrm>
          </p:grpSpPr>
          <p:sp>
            <p:nvSpPr>
              <p:cNvPr id="190" name=""/>
              <p:cNvSpPr/>
              <p:nvPr/>
            </p:nvSpPr>
            <p:spPr>
              <a:xfrm rot="18480000">
                <a:off x="5384160" y="3772080"/>
                <a:ext cx="1018080" cy="8618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8480000">
                <a:off x="5416920" y="3750840"/>
                <a:ext cx="98064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rot="18480000">
              <a:off x="5293080" y="3737880"/>
              <a:ext cx="1095480" cy="126000"/>
            </a:xfrm>
            <a:prstGeom prst="rightArrow">
              <a:avLst>
                <a:gd name="adj1" fmla="val 50000"/>
                <a:gd name="adj2" fmla="val 152834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813280" y="2915640"/>
              <a:ext cx="1226160" cy="1239480"/>
              <a:chOff x="5813280" y="2915640"/>
              <a:chExt cx="1226160" cy="1239480"/>
            </a:xfrm>
          </p:grpSpPr>
          <p:sp>
            <p:nvSpPr>
              <p:cNvPr id="194" name=""/>
              <p:cNvSpPr/>
              <p:nvPr/>
            </p:nvSpPr>
            <p:spPr>
              <a:xfrm rot="18480000">
                <a:off x="6037920" y="3149280"/>
                <a:ext cx="745560" cy="75924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8480000">
                <a:off x="5967360" y="3115800"/>
                <a:ext cx="91800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VPN</a:t>
                </a:r>
                <a:r>
                  <a:rPr b="1" i="1" lang="en-US" sz="1400" spc="-1" strike="noStrike" baseline="-19000">
                    <a:solidFill>
                      <a:srgbClr val="ff33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 flipH="1" flipV="1">
            <a:off x="8187840" y="2797200"/>
            <a:ext cx="142920" cy="5237280"/>
          </a:xfrm>
          <a:prstGeom prst="line">
            <a:avLst/>
          </a:prstGeom>
          <a:ln w="81360">
            <a:solidFill>
              <a:srgbClr val="0183b7"/>
            </a:solidFill>
            <a:prstDash val="sysDot"/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073720" y="2887560"/>
            <a:ext cx="571680" cy="2515320"/>
            <a:chOff x="8073720" y="2887560"/>
            <a:chExt cx="571680" cy="2515320"/>
          </a:xfrm>
        </p:grpSpPr>
        <p:sp>
          <p:nvSpPr>
            <p:cNvPr id="198" name=""/>
            <p:cNvSpPr/>
            <p:nvPr/>
          </p:nvSpPr>
          <p:spPr>
            <a:xfrm rot="5400000">
              <a:off x="8041320" y="4130280"/>
              <a:ext cx="1086840" cy="121320"/>
            </a:xfrm>
            <a:prstGeom prst="rightArrow">
              <a:avLst>
                <a:gd name="adj1" fmla="val 50000"/>
                <a:gd name="adj2" fmla="val 157478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8073720" y="3810960"/>
              <a:ext cx="373320" cy="883440"/>
              <a:chOff x="8073720" y="3810960"/>
              <a:chExt cx="373320" cy="883440"/>
            </a:xfrm>
          </p:grpSpPr>
          <p:sp>
            <p:nvSpPr>
              <p:cNvPr id="200" name=""/>
              <p:cNvSpPr/>
              <p:nvPr/>
            </p:nvSpPr>
            <p:spPr>
              <a:xfrm rot="5400000">
                <a:off x="7888320" y="4071240"/>
                <a:ext cx="744120" cy="35064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818480" y="4065840"/>
                <a:ext cx="88344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VPN</a:t>
                </a:r>
                <a:r>
                  <a:rPr b="1" i="1" lang="en-US" sz="1400" spc="-1" strike="noStrike" baseline="-19000">
                    <a:solidFill>
                      <a:srgbClr val="ff3300"/>
                    </a:solidFill>
                    <a:latin typeface="Arial"/>
                    <a:ea typeface="Arial"/>
                  </a:rPr>
                  <a:t>PE3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8073720" y="4530960"/>
              <a:ext cx="373320" cy="871920"/>
              <a:chOff x="8073720" y="4530960"/>
              <a:chExt cx="373320" cy="871920"/>
            </a:xfrm>
          </p:grpSpPr>
          <p:sp>
            <p:nvSpPr>
              <p:cNvPr id="203" name=""/>
              <p:cNvSpPr/>
              <p:nvPr/>
            </p:nvSpPr>
            <p:spPr>
              <a:xfrm rot="5400000">
                <a:off x="7895520" y="4797360"/>
                <a:ext cx="730080" cy="35064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400000">
                <a:off x="7824240" y="4780080"/>
                <a:ext cx="87192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LDP</a:t>
                </a:r>
                <a:r>
                  <a:rPr b="1" i="1" lang="en-US" sz="1400" spc="-1" strike="noStrike" baseline="-19000">
                    <a:solidFill>
                      <a:srgbClr val="ff3300"/>
                    </a:solidFill>
                    <a:latin typeface="Arial"/>
                    <a:ea typeface="Arial"/>
                  </a:rPr>
                  <a:t>PE3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084520" y="2887560"/>
              <a:ext cx="351000" cy="1009800"/>
              <a:chOff x="8084520" y="2887560"/>
              <a:chExt cx="351000" cy="100980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7748280" y="3223800"/>
                <a:ext cx="1009800" cy="337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5400000">
                <a:off x="7773840" y="3209400"/>
                <a:ext cx="9723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8098920" y="6354720"/>
            <a:ext cx="537480" cy="1793160"/>
            <a:chOff x="8098920" y="6354720"/>
            <a:chExt cx="537480" cy="1793160"/>
          </a:xfrm>
        </p:grpSpPr>
        <p:grpSp>
          <p:nvGrpSpPr>
            <p:cNvPr id="209" name=""/>
            <p:cNvGrpSpPr/>
            <p:nvPr/>
          </p:nvGrpSpPr>
          <p:grpSpPr>
            <a:xfrm>
              <a:off x="8109720" y="6354720"/>
              <a:ext cx="363240" cy="1010160"/>
              <a:chOff x="8109720" y="6354720"/>
              <a:chExt cx="363240" cy="1010160"/>
            </a:xfrm>
          </p:grpSpPr>
          <p:sp>
            <p:nvSpPr>
              <p:cNvPr id="210" name=""/>
              <p:cNvSpPr/>
              <p:nvPr/>
            </p:nvSpPr>
            <p:spPr>
              <a:xfrm rot="5400000">
                <a:off x="7778880" y="6685200"/>
                <a:ext cx="1010160" cy="3488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400000">
                <a:off x="7804800" y="6670440"/>
                <a:ext cx="972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rot="5400000">
              <a:off x="8030520" y="7065360"/>
              <a:ext cx="1090080" cy="121680"/>
            </a:xfrm>
            <a:prstGeom prst="rightArrow">
              <a:avLst>
                <a:gd name="adj1" fmla="val 50000"/>
                <a:gd name="adj2" fmla="val 157480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098920" y="7278480"/>
              <a:ext cx="374040" cy="869400"/>
              <a:chOff x="8098920" y="7278480"/>
              <a:chExt cx="374040" cy="869400"/>
            </a:xfrm>
          </p:grpSpPr>
          <p:sp>
            <p:nvSpPr>
              <p:cNvPr id="214" name=""/>
              <p:cNvSpPr/>
              <p:nvPr/>
            </p:nvSpPr>
            <p:spPr>
              <a:xfrm rot="5400000">
                <a:off x="7932960" y="7530120"/>
                <a:ext cx="706320" cy="35136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7851240" y="7526160"/>
                <a:ext cx="86940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VPN</a:t>
                </a:r>
                <a:r>
                  <a:rPr b="1" i="1" lang="en-US" sz="1400" spc="-1" strike="noStrike" baseline="-19000">
                    <a:solidFill>
                      <a:srgbClr val="ff3300"/>
                    </a:solidFill>
                    <a:latin typeface="Arial"/>
                    <a:ea typeface="Arial"/>
                  </a:rPr>
                  <a:t>PE3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pic>
        <p:nvPicPr>
          <p:cNvPr id="216" name="image.pdf" descr=""/>
          <p:cNvPicPr/>
          <p:nvPr/>
        </p:nvPicPr>
        <p:blipFill>
          <a:blip r:embed="rId13"/>
          <a:stretch/>
        </p:blipFill>
        <p:spPr>
          <a:xfrm>
            <a:off x="7691400" y="2365200"/>
            <a:ext cx="819360" cy="55116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9214920" y="3249000"/>
            <a:ext cx="1455840" cy="1404720"/>
            <a:chOff x="9214920" y="3249000"/>
            <a:chExt cx="1455840" cy="1404720"/>
          </a:xfrm>
        </p:grpSpPr>
        <p:grpSp>
          <p:nvGrpSpPr>
            <p:cNvPr id="218" name=""/>
            <p:cNvGrpSpPr/>
            <p:nvPr/>
          </p:nvGrpSpPr>
          <p:grpSpPr>
            <a:xfrm>
              <a:off x="9214920" y="3249000"/>
              <a:ext cx="1436040" cy="1404720"/>
              <a:chOff x="9214920" y="3249000"/>
              <a:chExt cx="1436040" cy="1404720"/>
            </a:xfrm>
          </p:grpSpPr>
          <p:sp>
            <p:nvSpPr>
              <p:cNvPr id="219" name=""/>
              <p:cNvSpPr/>
              <p:nvPr/>
            </p:nvSpPr>
            <p:spPr>
              <a:xfrm rot="3171600">
                <a:off x="9457920" y="3442680"/>
                <a:ext cx="957240" cy="102060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3171600">
                <a:off x="9466560" y="3403800"/>
                <a:ext cx="9327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rot="3171600">
              <a:off x="9792000" y="3728880"/>
              <a:ext cx="1018800" cy="154800"/>
            </a:xfrm>
            <a:prstGeom prst="rightArrow">
              <a:avLst>
                <a:gd name="adj1" fmla="val 50000"/>
                <a:gd name="adj2" fmla="val 115692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22" name=""/>
          <p:cNvSpPr/>
          <p:nvPr/>
        </p:nvSpPr>
        <p:spPr>
          <a:xfrm rot="19004400">
            <a:off x="755280" y="2787120"/>
            <a:ext cx="1084320" cy="114480"/>
          </a:xfrm>
          <a:prstGeom prst="rightArrow">
            <a:avLst>
              <a:gd name="adj1" fmla="val 50000"/>
              <a:gd name="adj2" fmla="val 166500"/>
            </a:avLst>
          </a:prstGeom>
          <a:solidFill>
            <a:srgbClr val="efb525"/>
          </a:solidFill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3" name=""/>
          <p:cNvSpPr/>
          <p:nvPr/>
        </p:nvSpPr>
        <p:spPr>
          <a:xfrm>
            <a:off x="8908920" y="1195560"/>
            <a:ext cx="379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If the CE fails, we have a </a:t>
            </a:r>
            <a:r>
              <a:rPr b="1" i="1" lang="en-US" sz="6200" spc="-1" strike="noStrike">
                <a:solidFill>
                  <a:srgbClr val="ff0000"/>
                </a:solidFill>
                <a:latin typeface="Arial"/>
                <a:ea typeface="Arial"/>
              </a:rPr>
              <a:t>loop</a:t>
            </a:r>
            <a:r>
              <a:rPr b="1" i="1" lang="en-US" sz="5100" spc="-1" strike="noStrike">
                <a:solidFill>
                  <a:srgbClr val="ff0000"/>
                </a:solidFill>
                <a:latin typeface="Arial"/>
                <a:ea typeface="Arial"/>
              </a:rPr>
              <a:t> !!!</a:t>
            </a:r>
            <a:endParaRPr b="0" lang="en-US" sz="51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24" name="image.pdf" descr=""/>
          <p:cNvPicPr/>
          <p:nvPr/>
        </p:nvPicPr>
        <p:blipFill>
          <a:blip r:embed="rId15"/>
          <a:stretch/>
        </p:blipFill>
        <p:spPr>
          <a:xfrm>
            <a:off x="7937640" y="8104320"/>
            <a:ext cx="819000" cy="55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13004640" cy="2523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6" name=""/>
          <p:cNvSpPr/>
          <p:nvPr/>
        </p:nvSpPr>
        <p:spPr>
          <a:xfrm>
            <a:off x="274680" y="95104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900" spc="-1" strike="noStrike">
                <a:solidFill>
                  <a:srgbClr val="d3d3d3"/>
                </a:solidFill>
                <a:latin typeface="Arial"/>
                <a:ea typeface="Arial"/>
              </a:rPr>
              <a:t>EDCS-875479</a:t>
            </a:r>
            <a:endParaRPr b="0" lang="en-US" sz="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7" name=""/>
          <p:cNvSpPr/>
          <p:nvPr/>
        </p:nvSpPr>
        <p:spPr>
          <a:xfrm>
            <a:off x="12457080" y="291960"/>
            <a:ext cx="54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8" name=""/>
          <p:cNvSpPr/>
          <p:nvPr/>
        </p:nvSpPr>
        <p:spPr>
          <a:xfrm>
            <a:off x="8994600" y="9431280"/>
            <a:ext cx="368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TF 81, Jul/2011, Quebec City, Canada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9" name=""/>
          <p:cNvSpPr/>
          <p:nvPr/>
        </p:nvSpPr>
        <p:spPr>
          <a:xfrm>
            <a:off x="268200" y="9431280"/>
            <a:ext cx="348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ft-bashandy-idr-bgp-repair-label-02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66520" y="433080"/>
            <a:ext cx="11583720" cy="11905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4500" spc="-1" strike="noStrike">
                <a:solidFill>
                  <a:srgbClr val="0183b7"/>
                </a:solidFill>
                <a:latin typeface="Arial"/>
                <a:ea typeface="Arial"/>
              </a:rPr>
              <a:t>Proposed Solution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3880" y="1755360"/>
            <a:ext cx="11293200" cy="6442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t">
            <a:normAutofit/>
          </a:bodyPr>
          <a:p>
            <a:pPr marL="485640" indent="-485640">
              <a:lnSpc>
                <a:spcPct val="75000"/>
              </a:lnSpc>
              <a:spcBef>
                <a:spcPts val="1400"/>
              </a:spcBef>
              <a:buClr>
                <a:srgbClr val="0183b7"/>
              </a:buClr>
              <a:buFont typeface="Arial"/>
              <a:buAutoNum type="arabicPeriod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PE having an external path advertises a “</a:t>
            </a:r>
            <a:r>
              <a:rPr b="1" i="1" lang="en-US" sz="3400" spc="-1" strike="noStrike">
                <a:solidFill>
                  <a:srgbClr val="ff3300"/>
                </a:solidFill>
                <a:latin typeface="Arial"/>
                <a:ea typeface="Arial"/>
              </a:rPr>
              <a:t>repai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” label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marL="492120" indent="-130320">
              <a:lnSpc>
                <a:spcPct val="75000"/>
              </a:lnSpc>
              <a:spcBef>
                <a:spcPts val="799"/>
              </a:spcBef>
              <a:buClr>
                <a:srgbClr val="ff3300"/>
              </a:buClr>
              <a:buFont typeface="ArialMT"/>
              <a:buChar char="•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Optional non-transitive attribute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1" marL="49212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485640" indent="-485640">
              <a:lnSpc>
                <a:spcPct val="75000"/>
              </a:lnSpc>
              <a:spcBef>
                <a:spcPts val="1400"/>
              </a:spcBef>
              <a:buClr>
                <a:srgbClr val="0183b7"/>
              </a:buClr>
              <a:buFont typeface="Arial"/>
              <a:buAutoNum type="arabicPeriod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en repairing a failed NH, the repairing router uses the </a:t>
            </a:r>
            <a:r>
              <a:rPr b="1" i="1" lang="en-US" sz="3400" spc="-1" strike="noStrike">
                <a:solidFill>
                  <a:srgbClr val="ff3300"/>
                </a:solidFill>
                <a:latin typeface="Arial"/>
                <a:ea typeface="Arial"/>
              </a:rPr>
              <a:t>repair labe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instead of the primary label advertised by the repair PE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485640"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485640" indent="-485640">
              <a:lnSpc>
                <a:spcPct val="75000"/>
              </a:lnSpc>
              <a:spcBef>
                <a:spcPts val="1400"/>
              </a:spcBef>
              <a:buClr>
                <a:srgbClr val="0183b7"/>
              </a:buClr>
              <a:buFont typeface="Arial"/>
              <a:buAutoNum type="arabicPeriod" startAt="3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he repair PE </a:t>
            </a:r>
            <a:r>
              <a:rPr b="1" i="1" lang="en-US" sz="3400" spc="-1" strike="noStrike">
                <a:solidFill>
                  <a:srgbClr val="ff0000"/>
                </a:solidFill>
                <a:latin typeface="Arial"/>
                <a:ea typeface="Arial"/>
              </a:rPr>
              <a:t>nev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epairs repaired traffic: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marL="49212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liver the packet to the external next hop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1" marL="49212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1" marL="49212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op it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13004640" cy="2523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3" name=""/>
          <p:cNvSpPr/>
          <p:nvPr/>
        </p:nvSpPr>
        <p:spPr>
          <a:xfrm>
            <a:off x="274680" y="95104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900" spc="-1" strike="noStrike">
                <a:solidFill>
                  <a:srgbClr val="d3d3d3"/>
                </a:solidFill>
                <a:latin typeface="Arial"/>
                <a:ea typeface="Arial"/>
              </a:rPr>
              <a:t>EDCS-875479</a:t>
            </a:r>
            <a:endParaRPr b="0" lang="en-US" sz="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4" name=""/>
          <p:cNvSpPr/>
          <p:nvPr/>
        </p:nvSpPr>
        <p:spPr>
          <a:xfrm>
            <a:off x="12457080" y="291960"/>
            <a:ext cx="54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5" name=""/>
          <p:cNvSpPr/>
          <p:nvPr/>
        </p:nvSpPr>
        <p:spPr>
          <a:xfrm>
            <a:off x="8994600" y="9431280"/>
            <a:ext cx="368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TF 81, Jul/2011, Quebec City, Canada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6" name=""/>
          <p:cNvSpPr/>
          <p:nvPr/>
        </p:nvSpPr>
        <p:spPr>
          <a:xfrm>
            <a:off x="268200" y="9431280"/>
            <a:ext cx="348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ft-bashandy-idr-bgp-repair-label-02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0680480" y="5338800"/>
            <a:ext cx="1320840" cy="1440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540640" y="5460840"/>
            <a:ext cx="1704960" cy="2865600"/>
          </a:xfrm>
          <a:prstGeom prst="line">
            <a:avLst/>
          </a:prstGeom>
          <a:ln w="81360">
            <a:solidFill>
              <a:srgbClr val="0183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1800" y="316080"/>
            <a:ext cx="11584080" cy="690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3900" spc="-1" strike="noStrike">
                <a:solidFill>
                  <a:srgbClr val="0183b7"/>
                </a:solidFill>
                <a:latin typeface="Arial"/>
                <a:ea typeface="Arial"/>
              </a:rPr>
              <a:t>Proposed Solution 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50600" y="2452680"/>
            <a:ext cx="1299960" cy="137304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044440" y="2184120"/>
            <a:ext cx="6073560" cy="18252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42" name="image.pdf" descr=""/>
          <p:cNvPicPr/>
          <p:nvPr/>
        </p:nvPicPr>
        <p:blipFill>
          <a:blip r:embed="rId1"/>
          <a:stretch/>
        </p:blipFill>
        <p:spPr>
          <a:xfrm>
            <a:off x="1755720" y="2050920"/>
            <a:ext cx="819360" cy="551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81120" y="169236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E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4" name=""/>
          <p:cNvSpPr/>
          <p:nvPr/>
        </p:nvSpPr>
        <p:spPr>
          <a:xfrm>
            <a:off x="7765920" y="1812960"/>
            <a:ext cx="744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E2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45" name="image.pdf" descr=""/>
          <p:cNvPicPr/>
          <p:nvPr/>
        </p:nvPicPr>
        <p:blipFill>
          <a:blip r:embed="rId2"/>
          <a:stretch/>
        </p:blipFill>
        <p:spPr>
          <a:xfrm>
            <a:off x="7691400" y="2182680"/>
            <a:ext cx="819360" cy="55116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2514600" y="1954080"/>
            <a:ext cx="2515320" cy="504360"/>
            <a:chOff x="2514600" y="1954080"/>
            <a:chExt cx="2515320" cy="504360"/>
          </a:xfrm>
        </p:grpSpPr>
        <p:sp>
          <p:nvSpPr>
            <p:cNvPr id="247" name=""/>
            <p:cNvSpPr/>
            <p:nvPr/>
          </p:nvSpPr>
          <p:spPr>
            <a:xfrm>
              <a:off x="3260160" y="1954080"/>
              <a:ext cx="1086840" cy="123120"/>
            </a:xfrm>
            <a:prstGeom prst="rightArrow">
              <a:avLst>
                <a:gd name="adj1" fmla="val 50000"/>
                <a:gd name="adj2" fmla="val 155176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438000" y="2102400"/>
              <a:ext cx="883440" cy="342000"/>
              <a:chOff x="3438000" y="2102400"/>
              <a:chExt cx="883440" cy="342000"/>
            </a:xfrm>
          </p:grpSpPr>
          <p:sp>
            <p:nvSpPr>
              <p:cNvPr id="249" name=""/>
              <p:cNvSpPr/>
              <p:nvPr/>
            </p:nvSpPr>
            <p:spPr>
              <a:xfrm>
                <a:off x="3501720" y="2102400"/>
                <a:ext cx="744120" cy="34200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38000" y="2102400"/>
                <a:ext cx="88344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PN</a:t>
                </a:r>
                <a:r>
                  <a:rPr b="1" lang="en-US" sz="1400" spc="-1" strike="noStrike" baseline="-19000">
                    <a:solidFill>
                      <a:srgbClr val="0000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158000" y="2102400"/>
              <a:ext cx="871920" cy="342000"/>
              <a:chOff x="4158000" y="2102400"/>
              <a:chExt cx="871920" cy="342000"/>
            </a:xfrm>
          </p:grpSpPr>
          <p:sp>
            <p:nvSpPr>
              <p:cNvPr id="252" name=""/>
              <p:cNvSpPr/>
              <p:nvPr/>
            </p:nvSpPr>
            <p:spPr>
              <a:xfrm>
                <a:off x="4233240" y="2102400"/>
                <a:ext cx="717840" cy="34200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58000" y="2102400"/>
                <a:ext cx="87192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DP</a:t>
                </a:r>
                <a:r>
                  <a:rPr b="1" lang="en-US" sz="1400" spc="-1" strike="noStrike" baseline="-19000">
                    <a:solidFill>
                      <a:srgbClr val="0000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2514600" y="2091240"/>
              <a:ext cx="1009800" cy="367200"/>
              <a:chOff x="2514600" y="2091240"/>
              <a:chExt cx="1009800" cy="367200"/>
            </a:xfrm>
          </p:grpSpPr>
          <p:sp>
            <p:nvSpPr>
              <p:cNvPr id="255" name=""/>
              <p:cNvSpPr/>
              <p:nvPr/>
            </p:nvSpPr>
            <p:spPr>
              <a:xfrm>
                <a:off x="2514600" y="2091240"/>
                <a:ext cx="1009800" cy="352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25760" y="2091240"/>
                <a:ext cx="9838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 flipH="1" flipV="1">
            <a:off x="8373960" y="2557440"/>
            <a:ext cx="1922400" cy="2481120"/>
          </a:xfrm>
          <a:prstGeom prst="line">
            <a:avLst/>
          </a:prstGeom>
          <a:ln w="81360">
            <a:solidFill>
              <a:srgbClr val="efb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58" name="image.pdf" descr=""/>
          <p:cNvPicPr/>
          <p:nvPr/>
        </p:nvPicPr>
        <p:blipFill>
          <a:blip r:embed="rId4"/>
          <a:stretch/>
        </p:blipFill>
        <p:spPr>
          <a:xfrm>
            <a:off x="401760" y="3543480"/>
            <a:ext cx="819000" cy="55080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11379240" y="4476600"/>
            <a:ext cx="1622880" cy="1545480"/>
            <a:chOff x="11379240" y="4476600"/>
            <a:chExt cx="1622880" cy="1545480"/>
          </a:xfrm>
        </p:grpSpPr>
        <p:pic>
          <p:nvPicPr>
            <p:cNvPr id="260" name="cloud.png" descr=""/>
            <p:cNvPicPr/>
            <p:nvPr/>
          </p:nvPicPr>
          <p:blipFill>
            <a:blip r:embed="rId5"/>
            <a:stretch/>
          </p:blipFill>
          <p:spPr>
            <a:xfrm>
              <a:off x="11379240" y="4476600"/>
              <a:ext cx="1622880" cy="154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416320" y="5059440"/>
              <a:ext cx="15220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85920"/>
                  <a:tab algn="l" pos="2571840"/>
                  <a:tab algn="l" pos="3857760"/>
                  <a:tab algn="l" pos="5143680"/>
                  <a:tab algn="l" pos="6429240"/>
                  <a:tab algn="l" pos="7715160"/>
                  <a:tab algn="l" pos="9001080"/>
                  <a:tab algn="l" pos="102870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X</a:t>
              </a:r>
              <a:endParaRPr b="0" lang="en-US" sz="19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94560" y="2241360"/>
            <a:ext cx="1348920" cy="1348920"/>
            <a:chOff x="394560" y="2241360"/>
            <a:chExt cx="1348920" cy="1348920"/>
          </a:xfrm>
        </p:grpSpPr>
        <p:sp>
          <p:nvSpPr>
            <p:cNvPr id="263" name=""/>
            <p:cNvSpPr/>
            <p:nvPr/>
          </p:nvSpPr>
          <p:spPr>
            <a:xfrm rot="18943800">
              <a:off x="587520" y="2443320"/>
              <a:ext cx="962640" cy="945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36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c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43800">
              <a:off x="600840" y="2442960"/>
              <a:ext cx="9381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54360" bIns="54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</a:t>
              </a:r>
              <a:endParaRPr b="0" lang="en-US" sz="17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848200" y="2016000"/>
            <a:ext cx="1793520" cy="501120"/>
            <a:chOff x="5848200" y="2016000"/>
            <a:chExt cx="1793520" cy="501120"/>
          </a:xfrm>
        </p:grpSpPr>
        <p:grpSp>
          <p:nvGrpSpPr>
            <p:cNvPr id="266" name=""/>
            <p:cNvGrpSpPr/>
            <p:nvPr/>
          </p:nvGrpSpPr>
          <p:grpSpPr>
            <a:xfrm>
              <a:off x="5848200" y="2156040"/>
              <a:ext cx="1010160" cy="361080"/>
              <a:chOff x="5848200" y="2156040"/>
              <a:chExt cx="1010160" cy="3610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48200" y="2156040"/>
                <a:ext cx="1010160" cy="3466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59360" y="2156040"/>
                <a:ext cx="9842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6341760" y="2016000"/>
              <a:ext cx="1087560" cy="126000"/>
            </a:xfrm>
            <a:prstGeom prst="rightArrow">
              <a:avLst>
                <a:gd name="adj1" fmla="val 50000"/>
                <a:gd name="adj2" fmla="val 151729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6771960" y="2167560"/>
              <a:ext cx="869760" cy="349560"/>
              <a:chOff x="6771960" y="2167560"/>
              <a:chExt cx="869760" cy="349560"/>
            </a:xfrm>
          </p:grpSpPr>
          <p:sp>
            <p:nvSpPr>
              <p:cNvPr id="271" name=""/>
              <p:cNvSpPr/>
              <p:nvPr/>
            </p:nvSpPr>
            <p:spPr>
              <a:xfrm>
                <a:off x="6846120" y="2167560"/>
                <a:ext cx="720720" cy="34956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71960" y="2167560"/>
                <a:ext cx="8697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PN</a:t>
                </a:r>
                <a:r>
                  <a:rPr b="1" lang="en-US" sz="1400" spc="-1" strike="noStrike" baseline="-19000">
                    <a:solidFill>
                      <a:srgbClr val="000000"/>
                    </a:solidFill>
                    <a:latin typeface="Arial"/>
                    <a:ea typeface="Arial"/>
                  </a:rPr>
                  <a:t>PE2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8062920" y="847260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E3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4" name=""/>
          <p:cNvSpPr/>
          <p:nvPr/>
        </p:nvSpPr>
        <p:spPr>
          <a:xfrm>
            <a:off x="449280" y="4065480"/>
            <a:ext cx="757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1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75" name="image.pdf" descr=""/>
          <p:cNvPicPr/>
          <p:nvPr/>
        </p:nvPicPr>
        <p:blipFill>
          <a:blip r:embed="rId8"/>
          <a:stretch/>
        </p:blipFill>
        <p:spPr>
          <a:xfrm>
            <a:off x="10102680" y="5000760"/>
            <a:ext cx="819360" cy="550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0150560" y="5521320"/>
            <a:ext cx="758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2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7" name=""/>
          <p:cNvSpPr/>
          <p:nvPr/>
        </p:nvSpPr>
        <p:spPr>
          <a:xfrm>
            <a:off x="10163160" y="4722840"/>
            <a:ext cx="876240" cy="1036440"/>
          </a:xfrm>
          <a:prstGeom prst="pie">
            <a:avLst/>
          </a:prstGeom>
          <a:solidFill>
            <a:srgbClr val="b21a1a">
              <a:alpha val="90000"/>
            </a:srgbClr>
          </a:solidFill>
          <a:ln w="0">
            <a:noFill/>
          </a:ln>
          <a:effectLst>
            <a:outerShdw dist="17819" dir="18900000" blurRad="0" rotWithShape="0">
              <a:srgbClr val="8e8e9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8188200" y="2612520"/>
            <a:ext cx="69840" cy="5326200"/>
          </a:xfrm>
          <a:prstGeom prst="line">
            <a:avLst/>
          </a:prstGeom>
          <a:ln w="81360">
            <a:solidFill>
              <a:srgbClr val="0183b7"/>
            </a:solidFill>
            <a:prstDash val="sysDot"/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080200" y="6208560"/>
            <a:ext cx="538200" cy="1793520"/>
            <a:chOff x="8080200" y="6208560"/>
            <a:chExt cx="538200" cy="1793520"/>
          </a:xfrm>
        </p:grpSpPr>
        <p:grpSp>
          <p:nvGrpSpPr>
            <p:cNvPr id="280" name=""/>
            <p:cNvGrpSpPr/>
            <p:nvPr/>
          </p:nvGrpSpPr>
          <p:grpSpPr>
            <a:xfrm>
              <a:off x="8090640" y="6208560"/>
              <a:ext cx="363960" cy="1010160"/>
              <a:chOff x="8090640" y="6208560"/>
              <a:chExt cx="363960" cy="1010160"/>
            </a:xfrm>
          </p:grpSpPr>
          <p:sp>
            <p:nvSpPr>
              <p:cNvPr id="281" name=""/>
              <p:cNvSpPr/>
              <p:nvPr/>
            </p:nvSpPr>
            <p:spPr>
              <a:xfrm rot="5400000">
                <a:off x="7760160" y="6538680"/>
                <a:ext cx="1010160" cy="3495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5400000">
                <a:off x="7786080" y="6523920"/>
                <a:ext cx="972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rot="5400000">
              <a:off x="8012160" y="6919200"/>
              <a:ext cx="1090440" cy="122040"/>
            </a:xfrm>
            <a:prstGeom prst="rightArrow">
              <a:avLst>
                <a:gd name="adj1" fmla="val 50000"/>
                <a:gd name="adj2" fmla="val 157067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8080200" y="7132320"/>
              <a:ext cx="375120" cy="869760"/>
              <a:chOff x="8080200" y="7132320"/>
              <a:chExt cx="375120" cy="869760"/>
            </a:xfrm>
          </p:grpSpPr>
          <p:sp>
            <p:nvSpPr>
              <p:cNvPr id="285" name=""/>
              <p:cNvSpPr/>
              <p:nvPr/>
            </p:nvSpPr>
            <p:spPr>
              <a:xfrm rot="5400000">
                <a:off x="7913880" y="7383600"/>
                <a:ext cx="706680" cy="352080"/>
              </a:xfrm>
              <a:prstGeom prst="rect">
                <a:avLst/>
              </a:prstGeom>
              <a:solidFill>
                <a:srgbClr val="00642d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5400000">
                <a:off x="7832880" y="7379640"/>
                <a:ext cx="869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P</a:t>
                </a:r>
                <a:r>
                  <a:rPr b="1" i="1" lang="en-US" sz="1400" spc="-1" strike="noStrike" baseline="-19000">
                    <a:solidFill>
                      <a:srgbClr val="ffffff"/>
                    </a:solidFill>
                    <a:latin typeface="Arial"/>
                    <a:ea typeface="Arial"/>
                  </a:rPr>
                  <a:t>PE3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8003880" y="2722680"/>
            <a:ext cx="571680" cy="2514960"/>
            <a:chOff x="8003880" y="2722680"/>
            <a:chExt cx="571680" cy="2514960"/>
          </a:xfrm>
        </p:grpSpPr>
        <p:sp>
          <p:nvSpPr>
            <p:cNvPr id="288" name=""/>
            <p:cNvSpPr/>
            <p:nvPr/>
          </p:nvSpPr>
          <p:spPr>
            <a:xfrm rot="5400000">
              <a:off x="7971480" y="3965400"/>
              <a:ext cx="1086840" cy="121320"/>
            </a:xfrm>
            <a:prstGeom prst="rightArrow">
              <a:avLst>
                <a:gd name="adj1" fmla="val 50000"/>
                <a:gd name="adj2" fmla="val 157478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8003880" y="3646080"/>
              <a:ext cx="373320" cy="883080"/>
              <a:chOff x="8003880" y="3646080"/>
              <a:chExt cx="373320" cy="883080"/>
            </a:xfrm>
          </p:grpSpPr>
          <p:sp>
            <p:nvSpPr>
              <p:cNvPr id="290" name=""/>
              <p:cNvSpPr/>
              <p:nvPr/>
            </p:nvSpPr>
            <p:spPr>
              <a:xfrm rot="5400000">
                <a:off x="7818840" y="3906360"/>
                <a:ext cx="743760" cy="350640"/>
              </a:xfrm>
              <a:prstGeom prst="rect">
                <a:avLst/>
              </a:prstGeom>
              <a:solidFill>
                <a:srgbClr val="00642d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5400000">
                <a:off x="7749000" y="3900960"/>
                <a:ext cx="88308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P</a:t>
                </a:r>
                <a:r>
                  <a:rPr b="1" i="1" lang="en-US" sz="1400" spc="-1" strike="noStrike" baseline="-19000">
                    <a:solidFill>
                      <a:srgbClr val="ffffff"/>
                    </a:solidFill>
                    <a:latin typeface="Arial"/>
                    <a:ea typeface="Arial"/>
                  </a:rPr>
                  <a:t>PE3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8003880" y="4366080"/>
              <a:ext cx="373320" cy="871560"/>
              <a:chOff x="8003880" y="4366080"/>
              <a:chExt cx="373320" cy="871560"/>
            </a:xfrm>
          </p:grpSpPr>
          <p:sp>
            <p:nvSpPr>
              <p:cNvPr id="293" name=""/>
              <p:cNvSpPr/>
              <p:nvPr/>
            </p:nvSpPr>
            <p:spPr>
              <a:xfrm rot="5400000">
                <a:off x="7825680" y="4632120"/>
                <a:ext cx="729720" cy="350640"/>
              </a:xfrm>
              <a:prstGeom prst="rect">
                <a:avLst/>
              </a:prstGeom>
              <a:solidFill>
                <a:srgbClr val="efb525"/>
              </a:solid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7754760" y="4615200"/>
                <a:ext cx="8715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LDP</a:t>
                </a:r>
                <a:r>
                  <a:rPr b="1" i="1" lang="en-US" sz="1400" spc="-1" strike="noStrike" baseline="-19000">
                    <a:solidFill>
                      <a:srgbClr val="ff3300"/>
                    </a:solidFill>
                    <a:latin typeface="Arial"/>
                    <a:ea typeface="Arial"/>
                  </a:rPr>
                  <a:t>PE3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8014680" y="2722680"/>
              <a:ext cx="351000" cy="1009800"/>
              <a:chOff x="8014680" y="2722680"/>
              <a:chExt cx="351000" cy="1009800"/>
            </a:xfrm>
          </p:grpSpPr>
          <p:sp>
            <p:nvSpPr>
              <p:cNvPr id="296" name=""/>
              <p:cNvSpPr/>
              <p:nvPr/>
            </p:nvSpPr>
            <p:spPr>
              <a:xfrm rot="5400000">
                <a:off x="7678440" y="3058920"/>
                <a:ext cx="1009800" cy="3373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400000">
                <a:off x="7704000" y="3044520"/>
                <a:ext cx="9723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9214920" y="3066480"/>
            <a:ext cx="1455840" cy="1404720"/>
            <a:chOff x="9214920" y="3066480"/>
            <a:chExt cx="1455840" cy="1404720"/>
          </a:xfrm>
        </p:grpSpPr>
        <p:grpSp>
          <p:nvGrpSpPr>
            <p:cNvPr id="299" name=""/>
            <p:cNvGrpSpPr/>
            <p:nvPr/>
          </p:nvGrpSpPr>
          <p:grpSpPr>
            <a:xfrm>
              <a:off x="9214920" y="3066480"/>
              <a:ext cx="1436040" cy="1404720"/>
              <a:chOff x="9214920" y="3066480"/>
              <a:chExt cx="1436040" cy="1404720"/>
            </a:xfrm>
          </p:grpSpPr>
          <p:sp>
            <p:nvSpPr>
              <p:cNvPr id="300" name=""/>
              <p:cNvSpPr/>
              <p:nvPr/>
            </p:nvSpPr>
            <p:spPr>
              <a:xfrm rot="3171600">
                <a:off x="9457920" y="3260160"/>
                <a:ext cx="957240" cy="10206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36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cccc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3171600">
                <a:off x="9466560" y="3221280"/>
                <a:ext cx="9327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54360" bIns="543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157400"/>
                    <a:tab algn="l" pos="2314440"/>
                    <a:tab algn="l" pos="3471840"/>
                    <a:tab algn="l" pos="4629240"/>
                    <a:tab algn="l" pos="5786280"/>
                    <a:tab algn="l" pos="6943680"/>
                    <a:tab algn="l" pos="8101080"/>
                    <a:tab algn="l" pos="9258480"/>
                    <a:tab algn="l" pos="104155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t</a:t>
                </a:r>
                <a:endParaRPr b="0" lang="en-US" sz="17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 rot="3171600">
              <a:off x="9792000" y="3546360"/>
              <a:ext cx="1018800" cy="154800"/>
            </a:xfrm>
            <a:prstGeom prst="rightArrow">
              <a:avLst>
                <a:gd name="adj1" fmla="val 50000"/>
                <a:gd name="adj2" fmla="val 115692"/>
              </a:avLst>
            </a:prstGeom>
            <a:solidFill>
              <a:srgbClr val="efb525"/>
            </a:solidFill>
            <a:ln w="13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303" name=""/>
          <p:cNvSpPr/>
          <p:nvPr/>
        </p:nvSpPr>
        <p:spPr>
          <a:xfrm rot="19004400">
            <a:off x="274320" y="2604600"/>
            <a:ext cx="1084320" cy="114480"/>
          </a:xfrm>
          <a:prstGeom prst="rightArrow">
            <a:avLst>
              <a:gd name="adj1" fmla="val 50000"/>
              <a:gd name="adj2" fmla="val 166500"/>
            </a:avLst>
          </a:prstGeom>
          <a:solidFill>
            <a:srgbClr val="efb525"/>
          </a:solidFill>
          <a:ln w="13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04" name="image.png" descr=""/>
          <p:cNvPicPr/>
          <p:nvPr/>
        </p:nvPicPr>
        <p:blipFill>
          <a:blip r:embed="rId12"/>
          <a:stretch/>
        </p:blipFill>
        <p:spPr>
          <a:xfrm>
            <a:off x="8616960" y="8045280"/>
            <a:ext cx="1984320" cy="1256040"/>
          </a:xfrm>
          <a:prstGeom prst="rect">
            <a:avLst/>
          </a:prstGeom>
          <a:ln w="0">
            <a:noFill/>
          </a:ln>
        </p:spPr>
      </p:pic>
      <p:pic>
        <p:nvPicPr>
          <p:cNvPr id="305" name="image.pdf" descr=""/>
          <p:cNvPicPr/>
          <p:nvPr/>
        </p:nvPicPr>
        <p:blipFill>
          <a:blip r:embed="rId13"/>
          <a:stretch/>
        </p:blipFill>
        <p:spPr>
          <a:xfrm>
            <a:off x="7937640" y="7921800"/>
            <a:ext cx="819000" cy="550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9987120" y="8933040"/>
            <a:ext cx="636480" cy="0"/>
          </a:xfrm>
          <a:prstGeom prst="line">
            <a:avLst/>
          </a:prstGeom>
          <a:ln w="54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7" name=""/>
          <p:cNvSpPr/>
          <p:nvPr/>
        </p:nvSpPr>
        <p:spPr>
          <a:xfrm>
            <a:off x="10091880" y="9050400"/>
            <a:ext cx="428400" cy="0"/>
          </a:xfrm>
          <a:prstGeom prst="line">
            <a:avLst/>
          </a:prstGeom>
          <a:ln w="54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8" name=""/>
          <p:cNvSpPr/>
          <p:nvPr/>
        </p:nvSpPr>
        <p:spPr>
          <a:xfrm>
            <a:off x="10167840" y="9167760"/>
            <a:ext cx="262080" cy="0"/>
          </a:xfrm>
          <a:prstGeom prst="line">
            <a:avLst/>
          </a:prstGeom>
          <a:ln w="54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9" name=""/>
          <p:cNvSpPr/>
          <p:nvPr/>
        </p:nvSpPr>
        <p:spPr>
          <a:xfrm>
            <a:off x="8451720" y="1077840"/>
            <a:ext cx="37972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i="1" lang="en-US" sz="5600" spc="-1" strike="noStrike">
                <a:solidFill>
                  <a:srgbClr val="007e39"/>
                </a:solidFill>
                <a:latin typeface="Arial"/>
                <a:ea typeface="Arial"/>
              </a:rPr>
              <a:t>No Loop 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2028320" y="1417680"/>
            <a:ext cx="699480" cy="426240"/>
            <a:chOff x="12028320" y="1417680"/>
            <a:chExt cx="699480" cy="426240"/>
          </a:xfrm>
        </p:grpSpPr>
        <p:sp>
          <p:nvSpPr>
            <p:cNvPr id="311" name=""/>
            <p:cNvSpPr/>
            <p:nvPr/>
          </p:nvSpPr>
          <p:spPr>
            <a:xfrm>
              <a:off x="12028320" y="1417680"/>
              <a:ext cx="699480" cy="426240"/>
            </a:xfrm>
            <a:prstGeom prst="pie">
              <a:avLst/>
            </a:prstGeom>
            <a:noFill/>
            <a:ln w="67680">
              <a:solidFill>
                <a:srgbClr val="007e3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178080" y="1542600"/>
              <a:ext cx="387720" cy="224280"/>
            </a:xfrm>
            <a:prstGeom prst="pie">
              <a:avLst/>
            </a:prstGeom>
            <a:noFill/>
            <a:ln w="67680">
              <a:solidFill>
                <a:srgbClr val="007e3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13004640" cy="2523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4" name=""/>
          <p:cNvSpPr/>
          <p:nvPr/>
        </p:nvSpPr>
        <p:spPr>
          <a:xfrm>
            <a:off x="274680" y="95104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900" spc="-1" strike="noStrike">
                <a:solidFill>
                  <a:srgbClr val="d3d3d3"/>
                </a:solidFill>
                <a:latin typeface="Arial"/>
                <a:ea typeface="Arial"/>
              </a:rPr>
              <a:t>EDCS-875479</a:t>
            </a:r>
            <a:endParaRPr b="0" lang="en-US" sz="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5" name=""/>
          <p:cNvSpPr/>
          <p:nvPr/>
        </p:nvSpPr>
        <p:spPr>
          <a:xfrm>
            <a:off x="12457080" y="291960"/>
            <a:ext cx="54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6" name=""/>
          <p:cNvSpPr/>
          <p:nvPr/>
        </p:nvSpPr>
        <p:spPr>
          <a:xfrm>
            <a:off x="8994600" y="9431280"/>
            <a:ext cx="368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TF 81, Jul/2011, Quebec City, Canada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7" name=""/>
          <p:cNvSpPr/>
          <p:nvPr/>
        </p:nvSpPr>
        <p:spPr>
          <a:xfrm>
            <a:off x="268200" y="9431280"/>
            <a:ext cx="348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ft-bashandy-idr-bgp-repair-label-02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66520" y="433080"/>
            <a:ext cx="11583720" cy="879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4500" spc="-1" strike="noStrike">
                <a:solidFill>
                  <a:srgbClr val="0183b7"/>
                </a:solidFill>
                <a:latin typeface="Arial"/>
                <a:ea typeface="Arial"/>
              </a:rPr>
              <a:t>Changes from Previous Version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01800" y="1750680"/>
            <a:ext cx="11763360" cy="68216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114480" bIns="114480" anchor="t">
            <a:normAutofit/>
          </a:bodyPr>
          <a:p>
            <a:pPr marL="658800" indent="-658800">
              <a:lnSpc>
                <a:spcPct val="75000"/>
              </a:lnSpc>
              <a:spcBef>
                <a:spcPts val="1400"/>
              </a:spcBef>
              <a:buSzPct val="102825"/>
              <a:buBlip>
                <a:blip r:embed="rId1"/>
              </a:buBlip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Specify forwarding behavior for edge node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658800" indent="-658800">
              <a:lnSpc>
                <a:spcPct val="75000"/>
              </a:lnSpc>
              <a:spcBef>
                <a:spcPts val="1400"/>
              </a:spcBef>
              <a:buSzPct val="102825"/>
              <a:buBlip>
                <a:blip r:embed="rId2"/>
              </a:buBlip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A packet arrives from the core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lvl="1" marL="1025640" indent="-451080">
              <a:lnSpc>
                <a:spcPct val="75000"/>
              </a:lnSpc>
              <a:spcBef>
                <a:spcPts val="799"/>
              </a:spcBef>
              <a:buSzPct val="102886"/>
              <a:buBlip>
                <a:blip r:embed="rId3"/>
              </a:buBlip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If there is an external path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lvl="2" marL="1243080" indent="-44280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ArialMT"/>
              <a:buChar char="•"/>
              <a:tabLst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Deliver to external path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lvl="1" marL="1025640" indent="-451080">
              <a:lnSpc>
                <a:spcPct val="75000"/>
              </a:lnSpc>
              <a:spcBef>
                <a:spcPts val="799"/>
              </a:spcBef>
              <a:buSzPct val="102886"/>
              <a:buBlip>
                <a:blip r:embed="rId4"/>
              </a:buBlip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If there is no external path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lvl="2" marL="1243080" indent="-44280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ArialMT"/>
              <a:buChar char="•"/>
              <a:tabLst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If there is a repair PE, forward to repair PE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lvl="2" marL="1243080" indent="-44280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ArialMT"/>
              <a:buChar char="•"/>
              <a:tabLst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Else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lvl="3" marL="1724040" indent="-46980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ArialMT"/>
              <a:buChar char="–"/>
              <a:tabLst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Drop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658800" indent="-658800">
              <a:lnSpc>
                <a:spcPct val="75000"/>
              </a:lnSpc>
              <a:spcBef>
                <a:spcPts val="1400"/>
              </a:spcBef>
              <a:buSzPct val="102825"/>
              <a:buBlip>
                <a:blip r:embed="rId5"/>
              </a:buBlip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A packet arrives NOT from the core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lvl="2" marL="1243080" indent="-442800">
              <a:lnSpc>
                <a:spcPct val="75000"/>
              </a:lnSpc>
              <a:spcBef>
                <a:spcPts val="799"/>
              </a:spcBef>
              <a:buSzPct val="102825"/>
              <a:buBlip>
                <a:blip r:embed="rId6"/>
              </a:buBlip>
              <a:tabLst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Forward with the regular label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13004640" cy="2523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1" name=""/>
          <p:cNvSpPr/>
          <p:nvPr/>
        </p:nvSpPr>
        <p:spPr>
          <a:xfrm>
            <a:off x="274680" y="95104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900" spc="-1" strike="noStrike">
                <a:solidFill>
                  <a:srgbClr val="d3d3d3"/>
                </a:solidFill>
                <a:latin typeface="Arial"/>
                <a:ea typeface="Arial"/>
              </a:rPr>
              <a:t>EDCS-875479</a:t>
            </a:r>
            <a:endParaRPr b="0" lang="en-US" sz="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2" name=""/>
          <p:cNvSpPr/>
          <p:nvPr/>
        </p:nvSpPr>
        <p:spPr>
          <a:xfrm>
            <a:off x="12457080" y="291960"/>
            <a:ext cx="54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3" name=""/>
          <p:cNvSpPr/>
          <p:nvPr/>
        </p:nvSpPr>
        <p:spPr>
          <a:xfrm>
            <a:off x="8994600" y="9431280"/>
            <a:ext cx="368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TF 81, Jul/2011, Quebec City, Canada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4" name=""/>
          <p:cNvSpPr/>
          <p:nvPr/>
        </p:nvSpPr>
        <p:spPr>
          <a:xfrm>
            <a:off x="268200" y="9431280"/>
            <a:ext cx="348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54360" bIns="54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ft-bashandy-idr-bgp-repair-label-02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25" name="image.jpg" descr=""/>
          <p:cNvPicPr/>
          <p:nvPr/>
        </p:nvPicPr>
        <p:blipFill>
          <a:blip r:embed="rId1"/>
          <a:stretch/>
        </p:blipFill>
        <p:spPr>
          <a:xfrm>
            <a:off x="3900600" y="3019320"/>
            <a:ext cx="5202000" cy="37134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66520" y="433080"/>
            <a:ext cx="11583720" cy="11905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54360" bIns="543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4500" spc="-1" strike="noStrike">
                <a:solidFill>
                  <a:srgbClr val="0183b7"/>
                </a:solidFill>
                <a:latin typeface="Arial"/>
                <a:ea typeface="Arial"/>
              </a:rPr>
              <a:t>Q &amp; A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