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90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87000" y="684000"/>
            <a:ext cx="4513320" cy="338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tial-topology LSA option of OSPF-MDR is called min-cost LSAs and is described in Appendix C of RFC 5614.  Note that this makes sense for single-hop networks only if multiple interfaces are considered.  Some simplification of this method may be possible for single-hop netwo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first property on this slide is similar to both OSPF and draft-nsheth-ospf-hybrid-bcast-and-p2mp, but differs significantly from draft-retana-ospf-manet-single-hop, which results in a more random selection of adjacenc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99760" y="171360"/>
            <a:ext cx="791532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3360" y="1036800"/>
            <a:ext cx="5486400" cy="74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62160" y="654516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PF-MDR - </a:t>
            </a:r>
            <a:fld id="{090BD23C-F840-43B6-823E-33B76C3901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Use of OSPF-MDR in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ngle-Hop Broadcast Networks</a:t>
            </a:r>
            <a:br>
              <a:rPr sz="24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aft-ogier-ospf-manet-single-hop-00</a:t>
            </a:r>
            <a:endParaRPr b="1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8468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ard Og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Tom Hend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8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5640" y="55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Procedure for Selecting Neighbors to Advertise in LSA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0444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full LSAs, OSPF-MDR includes in its router-LSA point-to-point links for all fully adjacent neighbors, and all bidirectional neighbors tha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is routable if the SPT calculation has produced a route to the neighbor.  (A flexible quality condition may also be requ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gle-hop networks, the following alternative procedure may be used, which avoids having to update the set of routable neighb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includes in its router-LSA a point-to-point (type 1) link for each fully adjacent neighbor.  (Note that the MDR becomes adjacent with all of its neighb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includes in its router-LSA a point-to-point link for each fully adjacent neighbor, and, if the router is fully adjacent with the MDR, for each bidirectional neighbor j such that the MDR's router-LSA includes a link to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scussion of Alternative LSA Procedur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15520"/>
            <a:ext cx="623556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implies that router i advertises a link to neighbor j only if router i is fully adjacent with the MDR, and the MDR is fully adjacent with router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router j will advertise a link to router i only if it is fully adjacent with the MDR and the MDR is fully adjacent with router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since the SPT calculation allows routers i and j to use each other as next hops only if they both advertise links to each other, the new procedure ensures that routers i and j are fully synchronized before they use each other as next 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corresponds to LSAFullness = 5, and is interoperable with the other LSA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(but not equivalent) procedure wa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55000" y="2722680"/>
            <a:ext cx="382320" cy="39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56440" y="38448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a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3040" y="3035160"/>
            <a:ext cx="71100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65960" y="311112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43800" y="3822840"/>
            <a:ext cx="647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72360" y="35766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MDR Selection Algorithm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1776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selection algorithm of OSPF-MDR becomes much simpler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ing algorithm is similar to the DR election algorithm of OSPF, but not exactly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ngle MDR is selected, but two BMDRs are selected so that the MDR/BMDR backbone is biconn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in an OSPF broadcast network, the number of resulting adjacencies is O(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ingle-hop network, the simplified algorithm described in the draft is equivalent to (and interoperable with) the full MDR selectio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DR election algorithm of OSPF can instead be used in single-hop networks if agreed by all routers. This would require a separate interface type for single-hop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clusions and Discuss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is an extension of OSPF that provides scalable routing in MANETs.  In particular, it can be applied to single-hop broadcast networks in which different costs are assigned to different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configuration settings are specified, and properties of OSPF-MDR are described when used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mplified procedures are specified when OSPF-MDR is used in a single-hop network.  These procedures are optional, and are interoperable with unmodified OSPF-M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twork includes both (multihop) MANET interfaces and single-hop broadcast interfaces, then OSPF-MDR can be used for both interfa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f the network includes only single-hop broadcast interfaces, a simpler solution is possible, e.g.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ial-topology LSA option of OSPF-MDR may be useful in single-hop networks, to reduce LSA size and improve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blem Statement and Background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support single-hop broadcast networks in which different costs are associated with different neighbors on the sam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example is when the underlying radio system performs layer-2 routing, but has a different number of (layer-2) hops to (layer-3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-to-multipoint interface uses a point-to-point (Type 1) link to describe each fully adjacent neighbor, but is not scalable since every neighbor must become fully adja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PF-MANET extensions already solve this problem, since a single-hop broadcast network is a special case of a M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solution for solving this problem i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ummary of Presentat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(RFC 5614) extends OSPF to support MANET interfaces in a scalable manner, and therefore provides an efficient solution for single-hop broadcast networks without any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optional simplifications are possible in single-hop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procedure for originating router-LSA that avoids checking whether a neighbor is rou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MDR selection algorithm, which is similar to the DR election algorithm of OS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above simplifications and recommended configuration, OSPF-MDR provides a solution similar to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OSPF-MDR Approach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9600"/>
            <a:ext cx="797544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uses the Designated Router (DR) and Backup DR to achieve scalability in broadcast networks, by requiring each non-DR/BDR router to form only two adjacencies (with the DR and BD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generalizes the DR and BDR to multihop wireless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 is generalized by selecting a small subset of routers,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NET Designated Rou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form a connected dominating set (C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MDRs (B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also selected so that the MDRs and BMDRs together form a biconnected dominating 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chieve scalability in MANETs similar to the way DRs achieve scalability in broadcast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have primary responsibility for flooding LSAs.  Backup MDRs provide backup flooding when MDRs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jacency red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y be used, in which adjacencies are formed only between MDR/BMDR routers and their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asic Idea – Generalize Designated Router to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ANET Designated Routers (MDRs)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377720"/>
            <a:ext cx="4648320" cy="16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single DR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outer becomes adjacent with the DR, forming a tree with n-1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" y="3441600"/>
            <a:ext cx="453384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the DR generalizes to multip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which form a connected dominating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select themselves based on 2-hop neighbor information obtained from modified hello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cies are formed between MDRs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n-MDR becomes adjacent with an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322596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lso Generalize Backup Designated Router for Biconnected Redundanc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390680"/>
            <a:ext cx="4648320" cy="15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Backup DR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dded for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R Other becomes adjacent with the DR and the Backup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3543480"/>
            <a:ext cx="4533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up 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e added to form a biconnected dominating s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MDRs perform backup flooding for improved robust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tion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dditional adjacencies may be added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each MDR Other may become adjacent with a second (Backup)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321300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eatures of OSPF-MDR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nd BMDRs are elected based on 2-hop neighbor information obtained from modified Hello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is used (the default), adjacencies are formed between MDRs so a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n option (AdjConnectivity = 2) allows for additional adjacencies to be formed between MDRs/BMDR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becomes adjacent with an MDR called i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optionally (if AdjConnectivity = 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adjacent with another MDR or BMDR called 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router advertises connections to its neighbor routers as point-to-point links in its router-LS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-LSAs are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full-topology LSA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ial-topology L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used to reduce the size of router-LSAs.  Such LSAs are formatted as standard LSAs, but advertise links to only a subset of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ial Hel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, which reduce overhead by reporting only changes in neighbor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perties of OSPF-MDR in a Single-Hop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720" y="14155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and full-topology LSAs are used, OSPF-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n a single-hop broadcast network has the following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DR is selected, which becomes adjacent with every other rout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Connectivity = 2 (biconnected), every non-MDR/BMDR router becomes adjacent with a BMDR in addition to the MD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MDRs are selected.  This occurs because the MDR selection algorithm ensures that the MDR/BMDR backbone is bi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adjacencies are in Full state, the router-LSA for each router includes point-to-point (type 1) links to all bidirectional neighbors (in state 2-Way or gre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figuration in a Single-Hop Broadcast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428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SPF-MDR is used in a single-hop broadcast network,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settings and options (defined in RFC 5614) should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jConne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2 (biconnected), MAY be equal to 1 (uniconnected), and SHOULD NOT be equal to 0 (full topolog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djacency SHOULD be eliminated if neither the router nor the neighbor is an MDR or BMDR (see Section 7.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4 or 5 so that full-topology LSAs are originated. (The value 5 is a new option for single-hop network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equal to 1 (min-cost LSAs) if full-topology LSAs are not required.  This option reduces the number of advertised links while still providing shortest paths. (See Appendix C of RFC 56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02:02Z</dcterms:created>
  <dc:creator>Richard Ogier</dc:creator>
  <dc:description/>
  <dc:language>en-US</dc:language>
  <cp:lastModifiedBy> Richard Ogier</cp:lastModifiedBy>
  <cp:lastPrinted>2001-12-09T17:36:31Z</cp:lastPrinted>
  <dcterms:modified xsi:type="dcterms:W3CDTF">2011-07-27T00:48:57Z</dcterms:modified>
  <cp:revision>906</cp:revision>
  <dc:subject/>
  <dc:title>MANET Extension of OSPF</dc:title>
</cp:coreProperties>
</file>