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806F-D2F4-4623-AE26-9E64F162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09C5-8922-45A4-B4A4-0E639ABB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78F1-0451-4245-893D-DE4956CD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C216-C354-4D79-983F-63C72EDC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24E9-0AE1-4346-8388-FE8A0567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EBD9-739F-4152-953C-4B583DB1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5CC5-3160-4702-90B6-1395AEAF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7194-C05F-4388-8ECA-BB5ED2C9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FA31-EE3A-4B30-B7C2-7118DC85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684D-23B5-4511-81F5-3B164946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4FC3-BE52-47FC-A351-B4105EC9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F50B-33CD-4D9A-82BB-FBA841FB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AF59-D298-41C6-BA23-CB3579408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SPF Hybrid Broadcast and P2MP Interface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320" y="38095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schal Sheth, Lili Wang, Jeffrey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ipe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th IETF, Quebec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ly presented in Beij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olls on mailing list for WG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explicit support on the applicability an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bjection in the first poll, citing M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ved offline at 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ague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and solution are independent of MA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bjection in the second p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Broadcast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metric for different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M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rtising per-nbr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using broadcast network procedure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/BDR based adjacency &amp; flo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ing for WG bl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plug one hole pointed out by Richard in the next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enhance on three aspects (which were already pointed out in 7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ET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part of WG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ments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Link Local Signaling to sig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vents adjacency with a non-supporting neigh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 traffic may not traverse certain pairs of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real/big problem if not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sistent loop/black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ments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LLS to signal information for neighbors to derive 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nother way to get per-nbr metric other than v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layer protocol, e.g. RFC 55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routers connecting to a switch at 100M, 1G, 10G sp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dvertising their speed via 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A (100M) derives metric 100 for all rou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routers derive metric 100 for route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B (1G) derive 10 for router C/D (10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C/D (10G) derives 10 for router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C/D (10G) derives metric 1 for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ments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rtising default metric, and additionally “odd” metrics that are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. per-neighbor (reduce from O(N^2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all routers to change S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20:44:11Z</dcterms:created>
  <dc:creator>zzhang</dc:creator>
  <dc:description/>
  <dc:language>en-US</dc:language>
  <cp:lastModifiedBy>zzhang</cp:lastModifiedBy>
  <dcterms:modified xsi:type="dcterms:W3CDTF">2011-07-27T02:57:47Z</dcterms:modified>
  <cp:revision>56</cp:revision>
  <dc:subject/>
  <dc:title>OSPF Hybrid Broadcast and P2MP Interface Type</dc:title>
</cp:coreProperties>
</file>