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690-8163-4EE3-8B5B-481C5F1A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477-6BFE-4093-87FA-3BE1CCD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6B0-B5EA-4034-85ED-C8CED3C0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CBD-6F52-449F-9A62-F7C7D41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50A-F8D8-4120-B3A0-13A5E17E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8E8-266F-45EC-A277-91D0230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139-EC64-4554-8CF8-DB9C73FA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55F-29D4-4B3D-9799-BF3EC63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0EF-CBAC-4F93-BB06-1F9932B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5E4-F43E-49A5-A749-3977CF0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F47-7E4F-46A7-A760-17E7139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12C-61B4-4748-AA74-7667204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AB2-DB5B-413F-9F0A-5F6923D7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PF Hybrid Broadcast and P2MP Interfa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chal Sheth, Lili Wang, 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resented in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lls on mailing list for WG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xplicit support on the applicability an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ion in the first poll, citing M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d offline at 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gu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and solution are independent of M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ion in the second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Broadcas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ric for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M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per-nb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sing broadcast network procedur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based adjacency &amp;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WG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lug one hole pointed out by Richard in the nex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nhance on three aspects (which were already pointed out in 7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W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nk Local Signaling to sig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vents adjacency with a non-supporting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raffic may not traverse certain pairs of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real/big problem if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istent loop/black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LS to signal information for neighbors to deriv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other way to get per-nbr metric other than 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ayer protocol, e.g. RFC 5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rs connecting to a switch at 100M, 1G, 10G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vertising their speed via 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 (100M) derives metric 100 for all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uters derive metric 100 for rout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B (1G) derive 10 for router C/D (10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10 for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metric 1 for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default metric, and additionally “odd” metrics that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per-neighbor (reduce from O(N^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ll routers to change 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0:44:11Z</dcterms:created>
  <dc:creator>zzhang</dc:creator>
  <dc:description/>
  <dc:language>en-US</dc:language>
  <cp:lastModifiedBy>zzhang</cp:lastModifiedBy>
  <dcterms:modified xsi:type="dcterms:W3CDTF">2011-07-27T02:57:47Z</dcterms:modified>
  <cp:revision>56</cp:revision>
  <dc:subject/>
  <dc:title>OSPF Hybrid Broadcast and P2MP Interface Type</dc:title>
</cp:coreProperties>
</file>