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2D35-058C-4CC0-B499-02803C2350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923B-9FED-447E-9808-8AA3B9FCFB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9DE8-FADB-422A-B4F1-EDA3F61A78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6C24-A81D-43F4-BEC0-F612D83F9B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CDC4-7B48-418C-9863-F7C8FF0ED6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D4D7-C1DF-4EA7-81EA-92AE8E983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147B-C0F4-40F0-BEF9-1D56E15DCE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7EBE-82D9-4ABB-A368-B34A73ACE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2491-AE2E-46DD-ADF0-D2803BC6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94D1-EA72-4220-AC14-060F69B9C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4F83-D947-430D-9BE2-D200E8EE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822C-DE66-446E-A873-5D3DD05B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298A-19D7-4564-8DA7-1A51E892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BFC8-7324-4BD0-982A-3ADDE49B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CF94-26EE-4618-AA91-934EC2A3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85B4-F9F0-4FCC-82F4-A54916AE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43D2-30CA-40C9-81F3-C84ADD93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0515-CBF7-4174-B423-0C670645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CE76-3263-4939-961D-A9DE7644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325B-92E4-496F-904C-B89A6045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7FBF-21E6-41EB-9CC2-4E034A9B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F443-519F-4A8A-B50C-AE5E23B5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1F41-1EDF-4308-B15A-E5EB8A1DC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E8FE-F183-44A3-A4A0-D3E7DBD41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2E4986-743A-48BA-ABE4-6B43A2B7EAD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A83F14-8CB2-4763-A18B-99B46BFF8F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5B40ED-FF73-49BE-BC0A-42E4B0FF411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4A1A85-3FB7-41C8-A262-78BA727BB4E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6F5144-FAC9-440B-8DC2-89BD58744D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5AD4-421B-4DC3-845C-4114DBD4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B53806-74E8-4B42-BB9D-6E2B4333E2E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255CDF-0A57-4B71-9288-EC4F6C104F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8199F7-8475-4D12-87A2-22A11A8CE74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3258C0-FF34-440C-BFF3-959CF5C527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1572B5-F04C-443A-99DA-C70131095C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A846A7-47EE-4450-82A0-D3C4D980FC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B16B13-BF82-4B92-9FDC-584EA2DD4C2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ABC0B3-C871-4B43-9BAD-DC16CBC1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E64C30-0A52-4F44-8C47-F4F5ACE4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A6CF55-8981-4F2D-ACB0-6793D90D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487B-40C3-4065-AC75-74E350A1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5000B4-A576-47FD-979B-59E85036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E8C193-C39A-4C22-9CBE-5C882C9F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C02E1E-4B7F-40C7-8EDE-D8D30C22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54E0BD-8332-4194-B4A9-607B1659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403F4B-3A14-4CF1-B258-F5A806CA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2C2140-2474-4D2A-9FB4-481C63D8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7A1827-8AB6-4387-BFC0-1FF18F40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0B21BE-37E9-462F-958B-DE768F4F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A148B2-E792-44C5-B79B-D671826C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0A7C15-5573-4C05-BBAF-8A9FFD040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3247-F720-4327-8346-1F1E9F44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E2874C-2624-4443-8905-B8D383CC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A1EF5D-BBB8-4506-9727-7DC58421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333B2C-04F0-492C-9596-38A654C1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9817A7-A674-4208-9406-C15A008A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72A78D-7CFD-4BD9-B4E6-EABBB1F2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4FAF6F-9219-4F32-9E54-81CADCB6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D76718-F8AD-42A3-B2B3-2F936B69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1BD622-026E-4C7A-A9B9-488024C7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7895F6-E84F-48E5-AF0F-DBBF2D15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FC7490-E9EF-442F-943D-8B2B2D72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CD44-4162-4D3F-BBF9-CAAFFBF6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2216ED-F191-423B-B0BE-6C7D9DC6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29FBD3-7A3A-4DCD-9B19-E850A9F4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4E824E-C123-4EE9-BAC4-963BF723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452A36-4DE6-4A97-A9EA-3B177D40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11ED18-258F-4BF7-965C-A8D744DE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EBA2F4-AEBB-40BF-91D9-AB1A4048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DF80E9-49DC-48CD-B291-FDC90F9E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197565-9FE9-45C5-AA7D-66F1FE0E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94E1C9-ADEC-486F-B5E3-37906D0F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8C0DF1-A9FD-4AB2-93C4-0E9E85E9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8AD5-54B4-4540-80F1-BE32FEDD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56D56A-3F05-42DE-9DD4-58D1E450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7F72F6-E9ED-4B54-80DF-BF9429F5F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A6016B-4324-4C55-8F38-E9101B9A3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CE19-B59F-4EEA-B63A-B832BF0E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F54F-1449-44F0-B2A0-69746D32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4B7C-33BB-4002-B043-787A0644F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E0C1-8863-40AA-98F4-84E51BB90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4"/>
          <p:cNvSpPr/>
          <p:nvPr/>
        </p:nvSpPr>
        <p:spPr>
          <a:xfrm>
            <a:off x="304920" y="6324480"/>
            <a:ext cx="2819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draft-giacalone-ospf-te-express-path-01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3A31-0089-4048-AB35-656089CBF062}" type="slidenum">
              <a:rPr b="0" lang="en-US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0B80-50B2-4405-AB4C-9A8E7B269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E7DA-C86F-4911-9518-1516AC10DD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117A-179C-4FF5-B03B-F0A33CC625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SPF Traffic Engineering (TE) Express Path Updates</a:t>
            </a:r>
            <a:br>
              <a:rPr sz="4000"/>
            </a:br>
            <a:br>
              <a:rPr sz="4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aft-giacalone-ospf-te-express-path-01.txt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85800" y="5105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98989"/>
                </a:solidFill>
                <a:latin typeface="Arial"/>
              </a:rPr>
              <a:t>Spencer Giacalone, Alia Atlas, John Drake, Stefano Previdi, Dave 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294920"/>
            <a:ext cx="5029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SPF TE Express Path Automatically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distribu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network performance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from measurement protocols  and “application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at IETF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d to version 01 on May 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6" descr="IETF_Stack_Diagram.gif"/>
          <p:cNvPicPr/>
          <p:nvPr/>
        </p:nvPicPr>
        <p:blipFill>
          <a:blip r:embed="rId1"/>
          <a:stretch/>
        </p:blipFill>
        <p:spPr>
          <a:xfrm>
            <a:off x="5273640" y="1981080"/>
            <a:ext cx="3537000" cy="3210120"/>
          </a:xfrm>
          <a:prstGeom prst="rect">
            <a:avLst/>
          </a:prstGeom>
          <a:ln w="0">
            <a:noFill/>
          </a:ln>
        </p:spPr>
      </p:pic>
      <p:sp>
        <p:nvSpPr>
          <p:cNvPr id="2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32E7-3472-4AE1-99C2-79F216618403}" type="slidenum">
              <a:rPr b="0" lang="en-US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fficiency Upd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olidated some sub-TLVs for effici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nger have nominal and anomalous sub-TLV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 and abnormal state data carried in two sub-TLVs (where we used to have fou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malous (A) bit added to consolidated sub-TL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s whether the update pertains to normal or abnormal network performance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it is set when configured threshold(s) exc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bit clear, sub-TLV represents steady state link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82BA-FEF3-43E9-9852-7B29820BE79F}" type="slidenum">
              <a:rPr b="0" lang="en-US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ncoding Upd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d encodings of the variables in delay and jitter  sub-TLVs from floating point to integ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reserved bit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space for A bit (when necessa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s common TLV structure across most sub-TLVs in the d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fied how values are to be interpreted and added detail on units of measurement to address concerns about granularity and 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11E0-A58D-4474-BFCB-98351D08697F}" type="slidenum">
              <a:rPr b="0" lang="en-US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tructural Upd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sub-TLVs for Residual Bandwidth and Available Bandwid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al bandwidth is the Maximum Bandwidth [RFC3630] minus the bandwidth currently allocated to RSVP-TE LS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 bandwidth is the residual bandwidth (above) minu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asu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ndwidth used for forwarding non-RSVP-TE LSP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1974-DE08-4BBC-B2FE-232242C7FD8E}" type="slidenum">
              <a:rPr b="0" lang="en-US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ther Upd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various clarifications across the d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around thresholds and aver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a section on network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ed minimum inter-update t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d with CCAMP working group that OSPF encodings will remain in OSPF Express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d to review CCAMP draft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8889-17D0-4E85-8670-B325D4928B4D}" type="slidenum">
              <a:rPr b="0" lang="en-US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8CAE-1827-4132-B729-BF75B65CEF53}" type="slidenum">
              <a:rPr b="0" lang="en-US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295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 OSPF WG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e d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cations based on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IS-IS TE Express Path dra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application drafts (e.g. weighted EC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8" descr="Stack.jpg"/>
          <p:cNvPicPr/>
          <p:nvPr/>
        </p:nvPicPr>
        <p:blipFill>
          <a:blip r:embed="rId1"/>
          <a:stretch/>
        </p:blipFill>
        <p:spPr>
          <a:xfrm>
            <a:off x="2438280" y="3733920"/>
            <a:ext cx="41864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0880" y="23623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0865-61A3-4057-8DFC-A8715899D01F}" type="slidenum">
              <a:rPr b="0" lang="en-US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0:11:10Z</dcterms:created>
  <dc:creator>spencer.giacalone</dc:creator>
  <dc:description/>
  <dc:language>en-US</dc:language>
  <cp:lastModifiedBy>spencer.giacalone</cp:lastModifiedBy>
  <dcterms:modified xsi:type="dcterms:W3CDTF">2011-07-20T20:09:54Z</dcterms:modified>
  <cp:revision>84</cp:revision>
  <dc:subject/>
  <dc:title>OSPF Traffic Engineering (TE) Express Path  draft-giacalone-ospf-te-express-path-00.txt</dc:title>
</cp:coreProperties>
</file>