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A607-5F57-47D5-99D7-9B6A3E389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2AE4-DE66-4041-8F4D-CEB205E89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57B2-DE85-41DD-9B04-CE8E5FD20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B217-8F4B-46F7-AF67-FC3568FE4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FAD-32AC-4DAE-9632-F3763966F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BA4-8282-4598-B156-6BF676D2A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0BEC-4435-4BFC-95D6-8C99F84C2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412-4FAA-4B4C-98F7-886DA644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10E-4BDD-49D6-81BB-FC9F594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262-5D27-46DF-8F2F-9E44E295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B60-F0BF-4ED4-AE25-094E1119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B86F-34F9-480D-9A25-09A79796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B7D6-B9E6-4723-8736-7D88298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2D69-A4D7-4882-B684-FC743D6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4E22-98D7-4F5C-BDF5-7CBD59CD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5486-A0E5-4BE9-8056-AD4D851D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CEDA-73B7-4A66-BCCA-BBDC5DE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BF0-6449-48A5-B59B-6A8D9485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56B-CCF5-4962-8DFF-F31A9182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91A6-AE3E-48B2-AB2B-B1B3F95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F7C1-5FCA-467A-B8BB-764C04B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48B0-1A5E-4943-B7F2-A888341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D63-CED6-48E1-97CE-86993647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E00-A478-4F07-83A9-1390D870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C4443-0B34-4C03-A58D-56FAEE74B0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52304-779C-43A9-98D9-9A88B9C8F6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ADB03-A969-4719-B52F-060E47A1D3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9A74C-A91A-4EC9-87D2-3FCC9D2F31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72F3E-D50F-4A95-8DF5-082904E5D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9BC-FBF3-407F-8F51-D05D4BD0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BA2BE-AF0E-47E2-B9A5-8F0032DE66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4A8E7-6932-4BC7-AB59-F5B2CDAF47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0E88A-ECD0-44F3-AD84-9AA03D07DB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230E1-B3A0-4B12-A8C0-AF57411B95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20F78-C094-438E-B0CE-508BA64308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6CCBE-CA67-4A46-B122-2559BEA816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06D38-E9C4-49DF-8904-817E936A26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B34EB-236B-4B51-ACAB-EB62A45B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D017D-64D6-4C9C-A6B6-92FBDA02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C5F0F-AF38-486F-9C5A-7FD0CA1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67D-22B4-4717-AF06-817DBEE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CEAA9-261F-45EA-8582-184A803B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24B08-8A39-4AF2-9789-BCB5FB84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B8370-9612-42D3-833D-5D19F655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E3F3B-DD31-42F6-9E0B-C10FA7E6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6B94E-3D46-4BFB-99B3-8B22974F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13C23-037C-489B-B140-B8215ED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9FDD6-C605-41E1-890C-3975CB2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DB87C-4A4C-4B6C-B7CC-D3A8E878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2BCB5-C638-4227-885B-69FC85BB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8721A-7C65-4082-8B49-1DCA05E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0CC-4E95-4C9F-8518-528D563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A3292-7A98-420B-BD4B-D59F9442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E96FF-4717-458A-BC27-56C10FE7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E6DFD-14F6-4B6E-ABA5-81AA0099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0F128-8D00-4BAE-89A8-AF0CA04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89DE2-E26B-4C7C-9C3D-C9765F7D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12CF4-8913-4F6C-91BF-71054A6F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E0EEC-2363-4CCF-BD37-5B01521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BD5DD-0DA0-48AC-B612-D7BCB00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A056C-2BE9-4BA8-B5E3-116D83B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C73D1-7037-4517-9CCA-8E5B0844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A98-7A82-4576-B84D-3F0C47CC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9A955-4B29-4BBF-8F5F-53D9602F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1A1B5-AF5C-4726-9BF5-3F6C55EF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BE404-1F2B-40BC-A369-B3E29E4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D8DA7-EB9C-4CB8-94AE-ACADB065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51022-1074-4D56-8798-89BA38D1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A4A41-753B-4074-AD0A-A6BCB56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3B374-7EA1-470B-BAE8-0D6D084D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570A5-A533-4148-89E4-EEB0F12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6FF6B-8EF5-4F0A-9807-AF3C6F7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31569-4839-4BA3-AD63-43BBA59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0EA-8E10-4543-95A4-90402CC0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1049F-C49C-4007-8403-915734F3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798C2-9FDF-4F69-80A5-75D99F0C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42B51-AB5A-4A16-A5B3-EE74A2FE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2B1-A3B4-468E-A401-D652A144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DC9-6CCE-4F72-8E6D-9750995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1F92-BCA6-46EE-8E2F-D6AB79FCC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2E76-F022-49EA-8746-CD4205B6E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04920" y="6324480"/>
            <a:ext cx="2819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draft-giacalone-ospf-te-express-path-01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280-F6D6-4517-B8FE-3A034F22316B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406-7CD6-4A16-A20F-4D73F4533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D07-6BC4-48B5-A7CB-DFDE19D81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39DF-672F-4F48-9F0C-A7EBF0B31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PF Traffic Engineering (TE) Express Path Updates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ft-giacalone-ospf-te-express-path-01.tx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Arial"/>
              </a:rPr>
              <a:t>Spencer Giacalone, Alia Atlas, John Drake, Stefano Previdi, Dave 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2949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PF TE Express Path Automatical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stribu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twork performanc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from measurement protocols  and “applic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at IETF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to version 01 on May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IETF_Stack_Diagram.gif"/>
          <p:cNvPicPr/>
          <p:nvPr/>
        </p:nvPicPr>
        <p:blipFill>
          <a:blip r:embed="rId1"/>
          <a:stretch/>
        </p:blipFill>
        <p:spPr>
          <a:xfrm>
            <a:off x="5273640" y="1981080"/>
            <a:ext cx="3537000" cy="321012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1658-6181-4D4C-9DAB-92A7E1577568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fficiency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some sub-TLVs for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have nominal and anomalous sub-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and abnormal state data carried in two sub-TLVs (where we used to have fo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malous (A) bit added to consolidated sub-TL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s whether the update pertains to normal or abnormal network performanc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t is set when configured threshold(s) exc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bit clear, sub-TLV represents steady state lin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0B0-445B-4574-932D-273FE0416154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coding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encodings of the variables in delay and jitter  sub-TLVs from floating point to inte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reserved bit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pace for A bit (when 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common TLV structure across most sub-TLVs in the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ed how values are to be interpreted and added detail on units of measurement to address concerns about granularity and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2475-6684-410B-AE89-F815D401A49B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ructural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sub-TLVs for Residual Bandwidth and Available Band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 bandwidth is the Maximum Bandwidth [RFC3630] minus the bandwidth currently allocated to RSVP-TE L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bandwidth is the residual bandwidth (above) minu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ndwidth used for forwarding non-RSVP-TE LS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3181-B54F-4D0D-BDAA-167ABF85A42C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various clarifications across th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around thresholds and aver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section on network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minimum inter-update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with CCAMP working group that OSPF encodings will remain in OSPF Expres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to review CCAMP draf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F05-9B66-4713-8683-D4FB30DBE28F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0F8-68D1-40B6-9EEE-8657654BBA1A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OSPF WG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based on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IS-IS TE Express Path d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pplication drafts (e.g. weighted E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Stack.jpg"/>
          <p:cNvPicPr/>
          <p:nvPr/>
        </p:nvPicPr>
        <p:blipFill>
          <a:blip r:embed="rId1"/>
          <a:stretch/>
        </p:blipFill>
        <p:spPr>
          <a:xfrm>
            <a:off x="2438280" y="3733920"/>
            <a:ext cx="4186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088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AFC7-FFFF-4374-9A3F-51D58CF64FDA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11:10Z</dcterms:created>
  <dc:creator>spencer.giacalone</dc:creator>
  <dc:description/>
  <dc:language>en-US</dc:language>
  <cp:lastModifiedBy>spencer.giacalone</cp:lastModifiedBy>
  <dcterms:modified xsi:type="dcterms:W3CDTF">2011-07-20T20:09:54Z</dcterms:modified>
  <cp:revision>84</cp:revision>
  <dc:subject/>
  <dc:title>OSPF Traffic Engineering (TE) Express Path  draft-giacalone-ospf-te-express-path-00.txt</dc:title>
</cp:coreProperties>
</file>