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8683-94C7-441D-840D-0CE12B504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82FC-493F-47F9-866E-5C28F1117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55DF-F6A7-49DE-896D-FC8B9EC97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9835-08DE-40AE-88DB-727325E13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DEB1-2192-4E9F-A3FB-9ACF633AB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41E8-C31F-4F36-82E3-C5C0228A5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7C28-7230-4C1B-BB2E-97EB84AEA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CEE5-5171-4095-A73F-A638FE85A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B77F-FEBB-490D-ABEB-E8FBF57CE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7C79-B77F-4B38-A4BC-9B8E2E462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FE9-C089-4C52-9977-F9BE5D73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4CF-7435-495F-9DD5-3B6D20E5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C16-9741-4B8E-BA00-5D537F42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E3B-1EF5-4245-B46F-AE0A974A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E29F-7139-49A1-A827-D2C3B824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6617-F898-4338-9208-FC9F00CF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D21C-FEBE-4791-B0A1-DBB93507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1D6F-412B-475E-A939-48A550E0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FB69-8171-4ACB-B600-08494F04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9390-9EB5-40E5-AAD4-F001D054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2BA3-560C-4AFF-92E8-E7B3D62E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7E3-8B8C-41C8-8A74-199C4B0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7E64-3941-4823-9AFE-98C6751E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A838-D774-458C-B503-4F1CFB74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9983-DDF9-4E27-A202-76C84511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C5F3-352B-49EB-8E73-64A451A1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6870-081B-4888-BF15-244D97E6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65C-E13E-4C86-8F08-56992316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E0E-67C8-42F5-8070-B7CB0262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6C2-C42C-4F87-9027-7031A2D0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9EF-2478-4F5A-87FD-6ED242C8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0DB-FE34-48DA-BD4F-E39D5FB4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3BC-6DD5-468C-BD4C-52919562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9BE-A0A7-4124-A9A9-CAEA3944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D4CC-05EF-4001-9D0B-36CAD9C608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AA66-EDA0-48D6-ABDA-FBD2E8BBDF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ecurity Extension for OSPFv2 Using Manual Key Managemen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v Bhatia, Alcatel Lu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 Hartman, Painless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cheng Zhang, Huawei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new OSPFv2 AuthType for backward compatibility – Value of 3 suggested to IAN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s OSPFv2 sequence number from 32 bits to 64 bits and partitions the sequence number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keys selection rules with respect to draft-ietf-karp-crypto-key-table-00.t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s IP source address with cryptographic ha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quence Number Extension (1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8600" y="13716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equence number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tonically in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32 bits – no provision for router re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uthType Sequenc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ly in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bits – 32 bits of boot count and 32 bits of sequenc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out of OSPFv2 header auth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 Co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ed in non-volatile storage for the life of the deployed rou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ed each time OSPF router loses its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be incremented if low order sequence number wr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Number is incremented for every OSPFv2 packet s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quence Number Extension (2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drops packet if received packet’s sequence number is not greater than previously received OSPF packet of same type – handles prioritization of hellos and ac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bit sequence number follows OSPF packet but before authentic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fit in OSPFv2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n OSPFv2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d in IP packet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quence Number Extension (3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to Database of Long-Lived Symmetric Cryptographic Keys &lt;draft-ietf-karp-crypto-key-table-01.tx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apping for Unicast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problem with virtual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apping for Multicast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apping for Re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usefulness of this section or normative reference to key database dra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y Selection Rules Mapping Key Databas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unprotected – Source IP address used by OSPFv2 for OSPF router identification on broadcast and NBMA 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Source Address replaces Apad in cryptographic authentication as described in RFC 5709, section 3.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d is a hexadecimal constant value 0x878FE1F3 repeated (L/4) times, where L is the length of the hash in by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P Source Address Prot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on Forth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Key Selection useful in the context of this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and discussion on the OSPF l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ew of Proposed Ch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066680" y="1523880"/>
            <a:ext cx="769644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Version #  |     Type        |         Packet length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Router ID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Area ID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Checksum            |             AuType (3)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0               | Auth Data Len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Key ID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OSPF Protocol Packet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~                                                               ~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Sequence Number (Boot Count)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Sequence Number (Strictly Increasing Packet Counter)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~                     Authentication Data                       ~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9:59:58Z</dcterms:created>
  <dc:creator>Vishwas Manral</dc:creator>
  <dc:description/>
  <cp:keywords>Crypto</cp:keywords>
  <dc:language>en-US</dc:language>
  <cp:lastModifiedBy>Acee Lindem</cp:lastModifiedBy>
  <dcterms:modified xsi:type="dcterms:W3CDTF">2011-07-15T20:30:45Z</dcterms:modified>
  <cp:revision>164</cp:revision>
  <dc:subject>Crypto Auth for ISIS</dc:subject>
  <dc:title>IS-IS WG</dc:title>
</cp:coreProperties>
</file>