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CA3-CE26-4C4F-87FA-61D76C59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9B6B-D877-4B3A-95BB-449F2F79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EA09-50BE-4DFF-8638-CBF67452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CE4B-5BDD-4E29-A68D-8925F670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63A-687E-4152-B726-C28A72EC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3F05-6568-40DF-991A-75B24D82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7774-3904-4426-B3BB-2A1F36B7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0AB-997F-4DD3-B13C-5FFE8B335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16D9-BC54-4B8E-BA41-90B83A60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C0BB-8E77-4FF7-8685-2CF955F1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994-93D4-4987-8302-16E3B2CE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CA3-189E-4DA4-A7B1-C3FC1B9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55D-1195-4451-9468-987CE449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ACD-5D52-4BFB-8871-86738431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06B4-096C-4A35-9D67-C41F549E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52C6-E5A9-4897-BD4C-DA5188F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F33F-9ECA-4DB6-A6A9-D056B4BF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B555-9742-408C-8750-FC7D4C64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8B98-F9D8-4989-BA87-8A7750E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16E4-E6D0-444A-BC69-81B0672D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F8D-B335-4473-9779-E5FD435F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04E-F15B-49B2-8A11-8CFD65D2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B779-1CE8-48C3-B512-EE9BFD5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D287-923F-4C56-8AC1-1B449C7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5C4-A991-419F-8C39-3C1FD23E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DC10-4798-417A-AD2D-FE808AAD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C0DA-D3AA-4F5C-85F8-0FA8E41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175-20A1-4BAF-8EFC-3998C80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8DD-F3BC-4351-B6BE-33A05362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98A-8FCD-4A19-8A27-97C8BE3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F15-59EC-4E28-B597-BBDB07A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450-4700-4472-8A8A-D486732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903-5C9E-4CC5-A88D-2C82ED3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717-0327-4908-AB4A-63DD5DB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EDB3-6872-495C-8520-D7457237E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076-D90E-40F1-8CB9-1CEBA7FC25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curity Extension for OSPFv2 Using Manual Key Managem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v Bhatia, Alcatel Lu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 Hartman, Painless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cheng Zhang, Huawei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new OSPFv2 AuthType for backward compatibility – Value of 3 suggested to IA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OSPFv2 sequence number from 32 bits to 64 bits and partitions the sequence numbe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keys selection rules with respect to draft-ietf-karp-crypto-key-table-00.t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IP source address with cryptographic ha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3716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equence numbe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onical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32 bits – no provision for router re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uthType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s – 32 bits of boot count and 32 bits of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out of OSPFv2 header aut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 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in non-volatile storage for the life of the deployed rou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ed each time OSPF router loses its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cremented if low order sequence number wr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 is incremented for every OSPFv2 packet s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drops packet if received packet’s sequence number is not greater than previously received OSPF packet of same type – handles prioritization of hellos and a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 sequence number follows OSPF packet but before authentic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fit in OSPFv2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OSPFv2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in IP packet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to Database of Long-Lived Symmetric Cryptographic Keys &lt;draft-ietf-karp-crypto-key-table-01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Un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roblem with virtual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Mult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usefulness of this section or normative reference to key database dra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 Selection Rules Mapping Key Databa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unprotected – Source IP address used by OSPFv2 for OSPF router identification on broadcast and NBMA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Source Address replaces Apad in cryptographic authentication as described in RFC 5709, section 3.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d is a hexadecimal constant value 0x878FE1F3 repeated (L/4) times, where L is the length of the hash in by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P Source Address Pro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Forth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Key Selection useful in the context of this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discussion on the OSPF 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ew of Proposed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66680" y="1523880"/>
            <a:ext cx="7696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Version #  |     Type        |         Packet length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Router ID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Area ID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Checksum            |             AuType (3)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0               | Auth Data Len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Key ID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OSPF Protocol Packet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                   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Boot Count)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Strictly Increasing Packet Counter)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Authentication Data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9:59:58Z</dcterms:created>
  <dc:creator>Vishwas Manral</dc:creator>
  <dc:description/>
  <cp:keywords>Crypto</cp:keywords>
  <dc:language>en-US</dc:language>
  <cp:lastModifiedBy>Acee Lindem</cp:lastModifiedBy>
  <dcterms:modified xsi:type="dcterms:W3CDTF">2011-07-15T20:30:45Z</dcterms:modified>
  <cp:revision>164</cp:revision>
  <dc:subject>Crypto Auth for ISIS</dc:subject>
  <dc:title>IS-IS WG</dc:title>
</cp:coreProperties>
</file>