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F946-1B39-4D5E-AC75-022349765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614E-30B1-40C6-A006-A689337EF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8BD2-145E-42F8-8ECD-3B36BCBE5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3D1D-9677-464E-BC2B-4512553DD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E243-3D40-42B3-BB74-D71C0B3C2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0397-B51C-4F43-9925-9BDD36422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3D8A-6498-4879-B88A-D6111D157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64ED-F581-45E6-93D4-1ABBDF9A0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1006-03E6-4E52-B54A-3700FDD45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1E01-F96E-4778-A939-A1EE63F03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024A-0EA7-4EE1-AE39-ABB2DB215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114C-5E13-4657-8E3C-F1EDCDF1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5558-0B2C-4C7A-A145-4EBAC25A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CFD1-2B82-481F-AAFE-87A561EF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AC08-2BB5-4A89-9D00-55A29EF7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CD32-CF50-40A1-8B4C-1B144F3D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78E6-2FC2-4FD3-9F31-AFB21824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5A1B-03B7-465D-ABB7-89524518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0455-1D60-467B-84B2-C5066660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F087-1836-4B67-AD9C-83C3FDF0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FD04-CE12-4123-802F-3DF00FDE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1697-12F8-4598-866B-302FA9FA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959C-EB88-4723-B094-48C52FB3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CAE3-DED0-48C6-BAA0-C6C1D75D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150B-DE80-4C28-84EB-F82C1C6F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2F33-CE6F-43EF-B5B7-5EA59313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BE43-9639-4FB0-8492-4ECD59B1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9EC0-8B50-4CD0-B8B3-6D5B1BD8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B58C-10A2-483D-A005-FEF048E5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0182-8F3A-49DE-AD4B-37F4A851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1F37-276C-489F-B4B8-AD1B9106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063A-9E49-45A0-9C24-1270646B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E8A9-91AB-4B54-AFBB-C3A8ED92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E837-9F3D-4364-AF1F-263393C9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A3E9-76D8-4A08-B18E-24288246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BE3C-C952-49F1-BDC4-BB8B39DEF7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40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1" descr="ietflogo"/>
          <p:cNvPicPr/>
          <p:nvPr/>
        </p:nvPicPr>
        <p:blipFill>
          <a:blip r:embed="rId2"/>
          <a:stretch/>
        </p:blipFill>
        <p:spPr>
          <a:xfrm>
            <a:off x="7391520" y="29718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BA1F-8DC0-433B-9393-0272C4F496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OSPF WG Status</a:t>
            </a:r>
            <a:br>
              <a:rPr sz="4800"/>
            </a:b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IETF 81, Quebec City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-228600" y="29714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hay Roy, Cisc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ee Lindem, Erics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PF Traffic Engineering (TE) Express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giacalone-ospf-te-express-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 network performance metrics using TE LSAs (Link Attribu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80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Potential WG Documents (2/2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FCs Since Pragu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80880" y="1447920"/>
            <a:ext cx="82296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 IETF Last Cal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PFv3 Authentication Trai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ospf-auth-trailer-ospfv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tive Draf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PFv2 Multi-Instance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ospf-multi-in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s multi-instance support on single interface support to OSPFv2 (always in OSPFv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PFv2/v3 Transport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ospf-transport-in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Transport Instance to advertise “non-routing”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s essential routing information from non-rou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multi-hop neighbors (Sparse Topolog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w WG Documents (1/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80880" y="1447920"/>
            <a:ext cx="83059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FC 3137B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retana-ospf-rfc3137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OSPFv3 stub router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ing for IPv4-embedded IPv6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ospf-ipv4-embedded-ipv6-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al draft to document use of multiple address families in support of IPv4&lt;-&gt;IPv6 transl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ransit-only Networks in OSP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ospf-prefix-hi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e transit-only networks for faster network convergence and minimize remote at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w WG Documents (2/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8088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Extension for OSPFv2 when using Manual Key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ospf-security-extension-manual-ke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draft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ft-ietf-karp-ospf-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3VP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l3vpn-ospfv3-pece-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PFv3 equivalent of RFC 45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 Last Call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A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malis-ccamp-rfc5787bis-03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up of RFC 5787 (OSPFv2 extensions for ASON routing – Experimental) to bring to standards tra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G document with early IANA allocation reques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rafts in Other WGs (1/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AMP – Multiple OTN and WSON draf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rafts in Other WGs (2/2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3808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Broadcast/P2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nsheth-ospf-hybrid-bcast-and-p2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presented in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erred solution for Fixed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OSPF-MDR in Single-Hop Broadcast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ogier-ospf-manet-single-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R recommendations for Single-Hop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the OSPF-MANET Interface in Single-Hop Broadcast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retana-ospf-manet-single-h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recommendation for Single-Hop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800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Potential WG Documents (1/2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5:18:54Z</dcterms:created>
  <dc:creator>Vishwas Manral</dc:creator>
  <dc:description/>
  <cp:keywords>Crypto</cp:keywords>
  <dc:language>en-US</dc:language>
  <cp:lastModifiedBy>Abhay Roy</cp:lastModifiedBy>
  <dcterms:modified xsi:type="dcterms:W3CDTF">2011-07-28T15:48:48Z</dcterms:modified>
  <cp:revision>167</cp:revision>
  <dc:subject>Crypto Auth for ISIS</dc:subject>
  <dc:title>IS-IS WG</dc:title>
</cp:coreProperties>
</file>