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2AA4-7F11-4B1A-91A9-51D99B2E6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8993-42F4-4920-9FAB-DBAD36FDA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2B5D-97CD-4CB7-A8DD-AE9667A78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53D9-0E66-4518-A5EE-BFD85A53B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9599-C515-4587-8E39-46C145038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FF87-42E2-40CB-BC76-B50F1D195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D12D-6805-4FDA-A6FF-782F18703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6A96-DCBA-4081-A44E-885B35B9F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F610-36A0-4116-997C-AF58373F8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B1BA-8365-482F-AD21-2918B7944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2E82-6025-4D41-98CF-B82E494E2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372-E360-414B-8662-CC71DD81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F7E-DBCB-4683-9AC0-F580C8AE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41B-9A82-477B-B15D-049BF083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6A6-6CD5-4EE9-9108-22BB43D7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8306-0F9D-4573-A351-0D2EFD30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FED9-7543-44CF-89B3-2BABB9F7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2580-5EB8-4197-96F2-BA8614EC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D75E-9DC0-435B-8FC2-E57E42DC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1163-9B7A-479B-9C15-84DFBAAF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72B2-2AB3-4F82-98CA-12A7B25A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10FC-741C-4623-8270-EABBF8C6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96B8-1879-4896-8AB4-9300204B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01D4-C203-4C01-9BB4-9128DEAC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CB05-0801-48C5-B00F-7378D3CE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660E-C5E8-4827-82A7-FF0144A9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86B8-8CB1-40C4-9830-249D7789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01F7-A6D7-4122-8C8B-1E139CC4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20F6-1AAF-4D45-A775-F6F750FA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B29-58A9-4A53-B061-FA53CB61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3A0D-38D6-40FC-8F2B-61C0D29E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6CDA-A4B8-447B-A25C-D8D2F819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225-C96A-44F8-8321-48575FE3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512-057B-4535-B923-E75B3083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ED4B-7E2D-431D-B34C-E45FF431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214A-8F64-43F3-A776-F5FF73FBA4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EC8F-3751-4E1E-94E8-9B92DA1840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OSPF WG Status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ETF 81, Quebec City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-228600" y="29714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hay Roy, Cisc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ee Lindem, Erics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 Traffic Engineering (TE) Express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giacalone-ospf-te-express-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 network performance metrics using TE LSAs (Link Attrib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80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otential WG Documents (2/2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FCs Since Pragu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80880" y="144792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 IETF Last Ca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v3 Authentication Tra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auth-trailer-ospfv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tive Draf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v2 Multi-Instanc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multi-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multi-instance support on single interface support to OSPFv2 (always in OSPFv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v2/v3 Transport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transport-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Transport Instance to advertise “non-routing”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s essential routing information from non-rou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multi-hop neighbors (Sparse Topolo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WG Documents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80880" y="1447920"/>
            <a:ext cx="8305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 3137B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retana-ospf-rfc3137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OSPFv3 stub router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g for IPv4-embedded IPv6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ipv4-embedded-ipv6-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al draft to document use of multiple address families in support of IPv4&lt;-&gt;IPv6 trans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ransit-only Networks in OS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prefix-hi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e transit-only networks for faster network convergence and minimize remote at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WG Documents (2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8088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Extension for OSPFv2 when using Manual Key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ospf-security-extension-manual-ke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draft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-ietf-karp-ospf-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3VP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l3vpn-ospfv3-pece-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v3 equivalent of RFC 45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Last Call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malis-ccamp-rfc5787bis-03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up of RFC 5787 (OSPFv2 extensions for ASON routing – Experimental) to bring to standards tra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G document with early IANA allocation reques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fts in Other WGs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AMP – Multiple OTN and WSON draf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fts in Other WGs (2/2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Broadcast/P2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nsheth-ospf-hybrid-bcast-and-p2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resented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rred solution for Fixed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OSPF-MDR in Single-Hop Broadcast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ogier-ospf-manet-single-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R recommendations for Single-Hop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the OSPF-MANET Interface in Single-Hop Broadcast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retana-ospf-manet-single-h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recommendation for Single-Hop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80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otential WG Documents (1/2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5:18:54Z</dcterms:created>
  <dc:creator>Vishwas Manral</dc:creator>
  <dc:description/>
  <cp:keywords>Crypto</cp:keywords>
  <dc:language>en-US</dc:language>
  <cp:lastModifiedBy>Abhay Roy</cp:lastModifiedBy>
  <dcterms:modified xsi:type="dcterms:W3CDTF">2011-07-28T15:48:48Z</dcterms:modified>
  <cp:revision>167</cp:revision>
  <dc:subject>Crypto Auth for ISIS</dc:subject>
  <dc:title>IS-IS WG</dc:title>
</cp:coreProperties>
</file>