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625A-5ADE-417C-81DB-5A106D593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01E-02FD-4F4A-84A1-BE060CE07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F71A-E654-4C3D-88EC-25014D9DC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76F-F09F-43D0-9D64-BA7C82E6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2A4-94F6-4117-8C25-3B9D170D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376-91AF-4C20-83B9-3F7D5CD2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1BE-4B4A-4403-8993-F96ADE48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EE9-9095-47B7-A78F-145B4497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AD1-3AE5-40B1-897F-736A37E7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7FC-D188-4F0F-947E-CD36DAE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6E1-E104-4FE6-B79A-C74D6320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1D6-F9AC-440F-A59F-B5D8191C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C6C-84CE-4565-950A-E4F9840F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2BC-5F4E-4C6C-887D-5C569F5C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5AF-AA98-4577-AA10-18AC4D4D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7DE2-2B01-46C3-9DE7-CEF18624EB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158-1A5B-43EF-9F9F-F916FA48C4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136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ats in Content-Centric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tthias Wählisch, Thomas Schmidt, Markus Vahlenkamp</a:t>
            </a:r>
            <a:br>
              <a:rPr sz="24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{waehlisch, t.schmidt}@ieee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HAW-logo-hq"/>
          <p:cNvPicPr/>
          <p:nvPr/>
        </p:nvPicPr>
        <p:blipFill>
          <a:blip r:embed="rId1"/>
          <a:stretch/>
        </p:blipFill>
        <p:spPr>
          <a:xfrm>
            <a:off x="4906800" y="6019920"/>
            <a:ext cx="2257560" cy="68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Logo_RGB_300dpi"/>
          <p:cNvPicPr/>
          <p:nvPr/>
        </p:nvPicPr>
        <p:blipFill>
          <a:blip r:embed="rId2"/>
          <a:stretch/>
        </p:blipFill>
        <p:spPr>
          <a:xfrm>
            <a:off x="2009880" y="6093000"/>
            <a:ext cx="2311200" cy="610920"/>
          </a:xfrm>
          <a:prstGeom prst="rect">
            <a:avLst/>
          </a:prstGeom>
          <a:ln w="0">
            <a:noFill/>
          </a:ln>
        </p:spPr>
      </p:pic>
      <p:sp>
        <p:nvSpPr>
          <p:cNvPr id="5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5889-5722-487E-B3F0-E83D0E9677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-driven states ma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of a distributed system very compl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astructure easily vulnerable to threats and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easy solution to overcom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ook: Should we go for a detailed problem statement draft on threat and security iss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09CC-71BE-4609-81E8-87FA518A94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Thr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dicated event or a set of events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 th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ecessarily by in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threat, you must be […] *capable*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teve K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focuses on threatening the content centric inform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9AC2-014F-4A4A-AA35-1CE151FB1E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: Content Centric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960" y="5135040"/>
            <a:ext cx="8128080" cy="93996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 1: Data-driven s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 2: End-users affect backbone s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E571-07FF-4329-8205-218881FF9D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11280" y="3000240"/>
            <a:ext cx="704880" cy="93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4140360" y="3068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6084720" y="3068640"/>
            <a:ext cx="79092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7667640" y="3000240"/>
            <a:ext cx="70488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Textfeld 12"/>
          <p:cNvSpPr/>
          <p:nvPr/>
        </p:nvSpPr>
        <p:spPr>
          <a:xfrm>
            <a:off x="474840" y="400536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13"/>
          <p:cNvSpPr/>
          <p:nvPr/>
        </p:nvSpPr>
        <p:spPr>
          <a:xfrm>
            <a:off x="7602840" y="4005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6"/>
          <a:stretch/>
        </p:blipFill>
        <p:spPr>
          <a:xfrm>
            <a:off x="4211640" y="1700280"/>
            <a:ext cx="604800" cy="833400"/>
          </a:xfrm>
          <a:prstGeom prst="rect">
            <a:avLst/>
          </a:prstGeom>
          <a:ln w="0">
            <a:noFill/>
          </a:ln>
        </p:spPr>
      </p:pic>
      <p:sp>
        <p:nvSpPr>
          <p:cNvPr id="67" name="Gerade Verbindung 22"/>
          <p:cNvSpPr/>
          <p:nvPr/>
        </p:nvSpPr>
        <p:spPr>
          <a:xfrm>
            <a:off x="2843280" y="3465360"/>
            <a:ext cx="129708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Gerade Verbindung 24"/>
          <p:cNvSpPr/>
          <p:nvPr/>
        </p:nvSpPr>
        <p:spPr>
          <a:xfrm>
            <a:off x="4932360" y="3465360"/>
            <a:ext cx="115236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Gerade Verbindung 26"/>
          <p:cNvSpPr/>
          <p:nvPr/>
        </p:nvSpPr>
        <p:spPr>
          <a:xfrm flipV="1">
            <a:off x="1316160" y="3465000"/>
            <a:ext cx="734760" cy="18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Gerade Verbindung 28"/>
          <p:cNvSpPr/>
          <p:nvPr/>
        </p:nvSpPr>
        <p:spPr>
          <a:xfrm>
            <a:off x="6875640" y="3465360"/>
            <a:ext cx="792000" cy="18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Gerade Verbindung 32"/>
          <p:cNvSpPr/>
          <p:nvPr/>
        </p:nvSpPr>
        <p:spPr>
          <a:xfrm>
            <a:off x="4514760" y="2533680"/>
            <a:ext cx="20880" cy="5349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uppieren 44"/>
          <p:cNvGrpSpPr/>
          <p:nvPr/>
        </p:nvGrpSpPr>
        <p:grpSpPr>
          <a:xfrm>
            <a:off x="1042920" y="2627280"/>
            <a:ext cx="1297080" cy="812880"/>
            <a:chOff x="1042920" y="2627280"/>
            <a:chExt cx="1297080" cy="812880"/>
          </a:xfrm>
        </p:grpSpPr>
        <p:grpSp>
          <p:nvGrpSpPr>
            <p:cNvPr id="73" name="Gruppieren 39"/>
            <p:cNvGrpSpPr/>
            <p:nvPr/>
          </p:nvGrpSpPr>
          <p:grpSpPr>
            <a:xfrm>
              <a:off x="1330920" y="2852640"/>
              <a:ext cx="617040" cy="587520"/>
              <a:chOff x="1330920" y="2852640"/>
              <a:chExt cx="617040" cy="587520"/>
            </a:xfrm>
          </p:grpSpPr>
          <p:pic>
            <p:nvPicPr>
              <p:cNvPr id="74" name="Picture 6" descr="D:\user\mw\Zeichnung1.png"/>
              <p:cNvPicPr/>
              <p:nvPr/>
            </p:nvPicPr>
            <p:blipFill>
              <a:blip r:embed="rId7"/>
              <a:stretch/>
            </p:blipFill>
            <p:spPr>
              <a:xfrm>
                <a:off x="1330920" y="285264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Textfeld 38"/>
              <p:cNvSpPr/>
              <p:nvPr/>
            </p:nvSpPr>
            <p:spPr>
              <a:xfrm>
                <a:off x="1440000" y="296712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Textfeld 43"/>
            <p:cNvSpPr/>
            <p:nvPr/>
          </p:nvSpPr>
          <p:spPr>
            <a:xfrm>
              <a:off x="1042920" y="262728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uppieren 47"/>
          <p:cNvGrpSpPr/>
          <p:nvPr/>
        </p:nvGrpSpPr>
        <p:grpSpPr>
          <a:xfrm>
            <a:off x="1835280" y="4356000"/>
            <a:ext cx="1296720" cy="642600"/>
            <a:chOff x="1835280" y="4356000"/>
            <a:chExt cx="1296720" cy="642600"/>
          </a:xfrm>
        </p:grpSpPr>
        <p:sp>
          <p:nvSpPr>
            <p:cNvPr id="78" name="Legende mit Linie 1 45"/>
            <p:cNvSpPr/>
            <p:nvPr/>
          </p:nvSpPr>
          <p:spPr>
            <a:xfrm>
              <a:off x="1835280" y="4365000"/>
              <a:ext cx="1224720" cy="3592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feld 46"/>
            <p:cNvSpPr/>
            <p:nvPr/>
          </p:nvSpPr>
          <p:spPr>
            <a:xfrm>
              <a:off x="1835280" y="435600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uppieren 48"/>
          <p:cNvGrpSpPr/>
          <p:nvPr/>
        </p:nvGrpSpPr>
        <p:grpSpPr>
          <a:xfrm>
            <a:off x="3924360" y="4356000"/>
            <a:ext cx="1295280" cy="642600"/>
            <a:chOff x="3924360" y="4356000"/>
            <a:chExt cx="1295280" cy="642600"/>
          </a:xfrm>
        </p:grpSpPr>
        <p:sp>
          <p:nvSpPr>
            <p:cNvPr id="81" name="Legende mit Linie 1 49"/>
            <p:cNvSpPr/>
            <p:nvPr/>
          </p:nvSpPr>
          <p:spPr>
            <a:xfrm>
              <a:off x="3924360" y="436500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feld 50"/>
            <p:cNvSpPr/>
            <p:nvPr/>
          </p:nvSpPr>
          <p:spPr>
            <a:xfrm>
              <a:off x="3924360" y="4356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Gruppieren 59"/>
          <p:cNvGrpSpPr/>
          <p:nvPr/>
        </p:nvGrpSpPr>
        <p:grpSpPr>
          <a:xfrm>
            <a:off x="2195640" y="2349360"/>
            <a:ext cx="1296720" cy="879480"/>
            <a:chOff x="2195640" y="2349360"/>
            <a:chExt cx="1296720" cy="879480"/>
          </a:xfrm>
        </p:grpSpPr>
        <p:pic>
          <p:nvPicPr>
            <p:cNvPr id="84" name="Picture 9" descr="D:\user\mw\Desktop\Zeichnung1.png"/>
            <p:cNvPicPr/>
            <p:nvPr/>
          </p:nvPicPr>
          <p:blipFill>
            <a:blip r:embed="rId8"/>
            <a:stretch/>
          </p:blipFill>
          <p:spPr>
            <a:xfrm>
              <a:off x="2483640" y="2781360"/>
              <a:ext cx="57636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feld 58"/>
            <p:cNvSpPr/>
            <p:nvPr/>
          </p:nvSpPr>
          <p:spPr>
            <a:xfrm>
              <a:off x="2195640" y="234936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uppieren 69"/>
          <p:cNvGrpSpPr/>
          <p:nvPr/>
        </p:nvGrpSpPr>
        <p:grpSpPr>
          <a:xfrm>
            <a:off x="2916360" y="3789360"/>
            <a:ext cx="1295280" cy="368280"/>
            <a:chOff x="2916360" y="3789360"/>
            <a:chExt cx="1295280" cy="368280"/>
          </a:xfrm>
        </p:grpSpPr>
        <p:sp>
          <p:nvSpPr>
            <p:cNvPr id="87" name="Legende mit Linie 1 67"/>
            <p:cNvSpPr/>
            <p:nvPr/>
          </p:nvSpPr>
          <p:spPr>
            <a:xfrm>
              <a:off x="2916360" y="379836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feld 68"/>
            <p:cNvSpPr/>
            <p:nvPr/>
          </p:nvSpPr>
          <p:spPr>
            <a:xfrm>
              <a:off x="2916360" y="3789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uppieren 70"/>
          <p:cNvGrpSpPr/>
          <p:nvPr/>
        </p:nvGrpSpPr>
        <p:grpSpPr>
          <a:xfrm>
            <a:off x="4859280" y="3789360"/>
            <a:ext cx="1297080" cy="368280"/>
            <a:chOff x="4859280" y="3789360"/>
            <a:chExt cx="1297080" cy="368280"/>
          </a:xfrm>
        </p:grpSpPr>
        <p:sp>
          <p:nvSpPr>
            <p:cNvPr id="90" name="Legende mit Linie 1 71"/>
            <p:cNvSpPr/>
            <p:nvPr/>
          </p:nvSpPr>
          <p:spPr>
            <a:xfrm>
              <a:off x="4859280" y="3798360"/>
              <a:ext cx="122508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feld 72"/>
            <p:cNvSpPr/>
            <p:nvPr/>
          </p:nvSpPr>
          <p:spPr>
            <a:xfrm>
              <a:off x="4859280" y="3789360"/>
              <a:ext cx="1297080" cy="368280"/>
            </a:xfrm>
            <a:prstGeom prst="rect">
              <a:avLst/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uppieren 76"/>
          <p:cNvGrpSpPr/>
          <p:nvPr/>
        </p:nvGrpSpPr>
        <p:grpSpPr>
          <a:xfrm>
            <a:off x="4356000" y="2133720"/>
            <a:ext cx="1295640" cy="879480"/>
            <a:chOff x="4356000" y="2133720"/>
            <a:chExt cx="1295640" cy="879480"/>
          </a:xfrm>
        </p:grpSpPr>
        <p:pic>
          <p:nvPicPr>
            <p:cNvPr id="93" name="Picture 9" descr="D:\user\mw\Desktop\Zeichnung1.png"/>
            <p:cNvPicPr/>
            <p:nvPr/>
          </p:nvPicPr>
          <p:blipFill>
            <a:blip r:embed="rId9"/>
            <a:stretch/>
          </p:blipFill>
          <p:spPr>
            <a:xfrm>
              <a:off x="4643640" y="2565720"/>
              <a:ext cx="57600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feld 78"/>
            <p:cNvSpPr/>
            <p:nvPr/>
          </p:nvSpPr>
          <p:spPr>
            <a:xfrm>
              <a:off x="4356000" y="213372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uppieren 42"/>
          <p:cNvGrpSpPr/>
          <p:nvPr/>
        </p:nvGrpSpPr>
        <p:grpSpPr>
          <a:xfrm>
            <a:off x="6732720" y="2492280"/>
            <a:ext cx="1295280" cy="879480"/>
            <a:chOff x="6732720" y="2492280"/>
            <a:chExt cx="1295280" cy="879480"/>
          </a:xfrm>
        </p:grpSpPr>
        <p:pic>
          <p:nvPicPr>
            <p:cNvPr id="96" name="Picture 9" descr="D:\user\mw\Desktop\Zeichnung1.png"/>
            <p:cNvPicPr/>
            <p:nvPr/>
          </p:nvPicPr>
          <p:blipFill>
            <a:blip r:embed="rId10"/>
            <a:stretch/>
          </p:blipFill>
          <p:spPr>
            <a:xfrm>
              <a:off x="7020360" y="2924280"/>
              <a:ext cx="5756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feld 41"/>
            <p:cNvSpPr/>
            <p:nvPr/>
          </p:nvSpPr>
          <p:spPr>
            <a:xfrm>
              <a:off x="6732720" y="2492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833 C -0.10643 0.01527 -0.21268 0.02222 -0.25608 0.0118 C -0.29931 0.00139 -0.27986 -0.02616 -0.26024 -0.05348 E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09461 -0.00347 E">
                                      <p:cBhvr>
                                        <p:cTn id="1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1 -0.00347 L 0.29149 -0.00532 E">
                                      <p:cBhvr>
                                        <p:cTn id="2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24 -0.05348 C -0.25799 -0.01621 -0.25538 0.02129 -0.31997 0.03634 C -0.3842 0.05139 -0.51511 0.04375 -0.64566 0.03634 E">
                                      <p:cBhvr>
                                        <p:cTn id="3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Threat 1: Resource Exhaus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580000" y="16002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nsum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itiates many inter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 need not ex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uppli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ploads cont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ght be micro-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this for an ‘unlimited’ number of i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fects routing or content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5090-1F6C-4E1E-81BB-E331E53872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79092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826920" y="2208240"/>
            <a:ext cx="704880" cy="93348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6"/>
          <p:cNvSpPr/>
          <p:nvPr/>
        </p:nvSpPr>
        <p:spPr>
          <a:xfrm>
            <a:off x="690840" y="321300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Gerade Verbindung 7"/>
          <p:cNvSpPr/>
          <p:nvPr/>
        </p:nvSpPr>
        <p:spPr>
          <a:xfrm>
            <a:off x="3059280" y="2673360"/>
            <a:ext cx="12967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Gerade Verbindung 8"/>
          <p:cNvSpPr/>
          <p:nvPr/>
        </p:nvSpPr>
        <p:spPr>
          <a:xfrm flipV="1">
            <a:off x="1531800" y="2673360"/>
            <a:ext cx="73656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pieren 14"/>
          <p:cNvGrpSpPr/>
          <p:nvPr/>
        </p:nvGrpSpPr>
        <p:grpSpPr>
          <a:xfrm>
            <a:off x="1908000" y="3500280"/>
            <a:ext cx="1584360" cy="3106800"/>
            <a:chOff x="1908000" y="3500280"/>
            <a:chExt cx="1584360" cy="3106800"/>
          </a:xfrm>
        </p:grpSpPr>
        <p:sp>
          <p:nvSpPr>
            <p:cNvPr id="107" name="Legende mit Linie 1 15"/>
            <p:cNvSpPr/>
            <p:nvPr/>
          </p:nvSpPr>
          <p:spPr>
            <a:xfrm>
              <a:off x="1908000" y="3578400"/>
              <a:ext cx="1505160" cy="3028680"/>
            </a:xfrm>
            <a:prstGeom prst="borderCallout1">
              <a:avLst>
                <a:gd name="adj1" fmla="val 18750"/>
                <a:gd name="adj2" fmla="val -8333"/>
                <a:gd name="adj3" fmla="val -22925"/>
                <a:gd name="adj4" fmla="val 53009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feld 16"/>
            <p:cNvSpPr/>
            <p:nvPr/>
          </p:nvSpPr>
          <p:spPr>
            <a:xfrm>
              <a:off x="1908000" y="350028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2952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uppieren 20"/>
          <p:cNvGrpSpPr/>
          <p:nvPr/>
        </p:nvGrpSpPr>
        <p:grpSpPr>
          <a:xfrm>
            <a:off x="3132000" y="2997360"/>
            <a:ext cx="1295640" cy="368280"/>
            <a:chOff x="3132000" y="2997360"/>
            <a:chExt cx="1295640" cy="368280"/>
          </a:xfrm>
        </p:grpSpPr>
        <p:sp>
          <p:nvSpPr>
            <p:cNvPr id="111" name="Legende mit Linie 1 21"/>
            <p:cNvSpPr/>
            <p:nvPr/>
          </p:nvSpPr>
          <p:spPr>
            <a:xfrm>
              <a:off x="3132000" y="300636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feld 22"/>
            <p:cNvSpPr/>
            <p:nvPr/>
          </p:nvSpPr>
          <p:spPr>
            <a:xfrm>
              <a:off x="3132000" y="29973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uppieren 9"/>
          <p:cNvGrpSpPr/>
          <p:nvPr/>
        </p:nvGrpSpPr>
        <p:grpSpPr>
          <a:xfrm>
            <a:off x="1258920" y="1835280"/>
            <a:ext cx="1297080" cy="812520"/>
            <a:chOff x="1258920" y="1835280"/>
            <a:chExt cx="1297080" cy="812520"/>
          </a:xfrm>
        </p:grpSpPr>
        <p:grpSp>
          <p:nvGrpSpPr>
            <p:cNvPr id="114" name="Gruppieren 39"/>
            <p:cNvGrpSpPr/>
            <p:nvPr/>
          </p:nvGrpSpPr>
          <p:grpSpPr>
            <a:xfrm>
              <a:off x="1546920" y="2060640"/>
              <a:ext cx="617040" cy="587160"/>
              <a:chOff x="1546920" y="2060640"/>
              <a:chExt cx="617040" cy="587160"/>
            </a:xfrm>
          </p:grpSpPr>
          <p:pic>
            <p:nvPicPr>
              <p:cNvPr id="115" name="Picture 6" descr="D:\user\mw\Zeichnung1.png"/>
              <p:cNvPicPr/>
              <p:nvPr/>
            </p:nvPicPr>
            <p:blipFill>
              <a:blip r:embed="rId4"/>
              <a:stretch/>
            </p:blipFill>
            <p:spPr>
              <a:xfrm>
                <a:off x="1546920" y="2060640"/>
                <a:ext cx="617040" cy="5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feld 13"/>
              <p:cNvSpPr/>
              <p:nvPr/>
            </p:nvSpPr>
            <p:spPr>
              <a:xfrm>
                <a:off x="1656000" y="217512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Textfeld 11"/>
            <p:cNvSpPr/>
            <p:nvPr/>
          </p:nvSpPr>
          <p:spPr>
            <a:xfrm>
              <a:off x="1258920" y="183528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uppieren 25"/>
          <p:cNvGrpSpPr/>
          <p:nvPr/>
        </p:nvGrpSpPr>
        <p:grpSpPr>
          <a:xfrm>
            <a:off x="1258920" y="1825560"/>
            <a:ext cx="1441440" cy="811440"/>
            <a:chOff x="1258920" y="1825560"/>
            <a:chExt cx="1441440" cy="811440"/>
          </a:xfrm>
        </p:grpSpPr>
        <p:grpSp>
          <p:nvGrpSpPr>
            <p:cNvPr id="119" name="Gruppieren 39"/>
            <p:cNvGrpSpPr/>
            <p:nvPr/>
          </p:nvGrpSpPr>
          <p:grpSpPr>
            <a:xfrm>
              <a:off x="1547280" y="2050560"/>
              <a:ext cx="617040" cy="586440"/>
              <a:chOff x="1547280" y="2050560"/>
              <a:chExt cx="617040" cy="586440"/>
            </a:xfrm>
          </p:grpSpPr>
          <p:pic>
            <p:nvPicPr>
              <p:cNvPr id="120" name="Picture 6" descr="D:\user\mw\Zeichnung1.png"/>
              <p:cNvPicPr/>
              <p:nvPr/>
            </p:nvPicPr>
            <p:blipFill>
              <a:blip r:embed="rId5"/>
              <a:stretch/>
            </p:blipFill>
            <p:spPr>
              <a:xfrm>
                <a:off x="1547280" y="2050560"/>
                <a:ext cx="61704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feld 29"/>
              <p:cNvSpPr/>
              <p:nvPr/>
            </p:nvSpPr>
            <p:spPr>
              <a:xfrm>
                <a:off x="1656360" y="2164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Textfeld 27"/>
            <p:cNvSpPr/>
            <p:nvPr/>
          </p:nvSpPr>
          <p:spPr>
            <a:xfrm>
              <a:off x="1258920" y="182556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2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feld 30"/>
          <p:cNvSpPr/>
          <p:nvPr/>
        </p:nvSpPr>
        <p:spPr>
          <a:xfrm>
            <a:off x="1908000" y="3780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2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uppieren 31"/>
          <p:cNvGrpSpPr/>
          <p:nvPr/>
        </p:nvGrpSpPr>
        <p:grpSpPr>
          <a:xfrm>
            <a:off x="1258920" y="1844640"/>
            <a:ext cx="1441440" cy="812880"/>
            <a:chOff x="1258920" y="1844640"/>
            <a:chExt cx="1441440" cy="812880"/>
          </a:xfrm>
        </p:grpSpPr>
        <p:grpSp>
          <p:nvGrpSpPr>
            <p:cNvPr id="125" name="Gruppieren 39"/>
            <p:cNvGrpSpPr/>
            <p:nvPr/>
          </p:nvGrpSpPr>
          <p:grpSpPr>
            <a:xfrm>
              <a:off x="1547280" y="2070000"/>
              <a:ext cx="617040" cy="587520"/>
              <a:chOff x="1547280" y="2070000"/>
              <a:chExt cx="617040" cy="587520"/>
            </a:xfrm>
          </p:grpSpPr>
          <p:pic>
            <p:nvPicPr>
              <p:cNvPr id="126" name="Picture 6" descr="D:\user\mw\Zeichnung1.png"/>
              <p:cNvPicPr/>
              <p:nvPr/>
            </p:nvPicPr>
            <p:blipFill>
              <a:blip r:embed="rId6"/>
              <a:stretch/>
            </p:blipFill>
            <p:spPr>
              <a:xfrm>
                <a:off x="1547280" y="207000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Textfeld 35"/>
              <p:cNvSpPr/>
              <p:nvPr/>
            </p:nvSpPr>
            <p:spPr>
              <a:xfrm>
                <a:off x="1656360" y="21844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Textfeld 33"/>
            <p:cNvSpPr/>
            <p:nvPr/>
          </p:nvSpPr>
          <p:spPr>
            <a:xfrm>
              <a:off x="1258920" y="184464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3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Textfeld 41"/>
          <p:cNvSpPr/>
          <p:nvPr/>
        </p:nvSpPr>
        <p:spPr>
          <a:xfrm>
            <a:off x="1908000" y="3995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3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feld 42"/>
          <p:cNvSpPr/>
          <p:nvPr/>
        </p:nvSpPr>
        <p:spPr>
          <a:xfrm>
            <a:off x="1908000" y="4211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4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feld 43"/>
          <p:cNvSpPr/>
          <p:nvPr/>
        </p:nvSpPr>
        <p:spPr>
          <a:xfrm>
            <a:off x="1908000" y="4427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5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uppieren 45"/>
          <p:cNvGrpSpPr/>
          <p:nvPr/>
        </p:nvGrpSpPr>
        <p:grpSpPr>
          <a:xfrm>
            <a:off x="1258920" y="1996920"/>
            <a:ext cx="1441440" cy="812880"/>
            <a:chOff x="1258920" y="1996920"/>
            <a:chExt cx="1441440" cy="812880"/>
          </a:xfrm>
        </p:grpSpPr>
        <p:grpSp>
          <p:nvGrpSpPr>
            <p:cNvPr id="133" name="Gruppieren 39"/>
            <p:cNvGrpSpPr/>
            <p:nvPr/>
          </p:nvGrpSpPr>
          <p:grpSpPr>
            <a:xfrm>
              <a:off x="1547280" y="2222280"/>
              <a:ext cx="617040" cy="587520"/>
              <a:chOff x="1547280" y="2222280"/>
              <a:chExt cx="617040" cy="587520"/>
            </a:xfrm>
          </p:grpSpPr>
          <p:pic>
            <p:nvPicPr>
              <p:cNvPr id="134" name="Picture 6" descr="D:\user\mw\Zeichnung1.png"/>
              <p:cNvPicPr/>
              <p:nvPr/>
            </p:nvPicPr>
            <p:blipFill>
              <a:blip r:embed="rId7"/>
              <a:stretch/>
            </p:blipFill>
            <p:spPr>
              <a:xfrm>
                <a:off x="1547280" y="222228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feld 49"/>
              <p:cNvSpPr/>
              <p:nvPr/>
            </p:nvSpPr>
            <p:spPr>
              <a:xfrm>
                <a:off x="1656360" y="233676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Textfeld 47"/>
            <p:cNvSpPr/>
            <p:nvPr/>
          </p:nvSpPr>
          <p:spPr>
            <a:xfrm>
              <a:off x="1258920" y="199692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4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uppieren 50"/>
          <p:cNvGrpSpPr/>
          <p:nvPr/>
        </p:nvGrpSpPr>
        <p:grpSpPr>
          <a:xfrm>
            <a:off x="1187280" y="2195640"/>
            <a:ext cx="1440000" cy="801720"/>
            <a:chOff x="1187280" y="2195640"/>
            <a:chExt cx="1440000" cy="801720"/>
          </a:xfrm>
        </p:grpSpPr>
        <p:grpSp>
          <p:nvGrpSpPr>
            <p:cNvPr id="138" name="Gruppieren 39"/>
            <p:cNvGrpSpPr/>
            <p:nvPr/>
          </p:nvGrpSpPr>
          <p:grpSpPr>
            <a:xfrm>
              <a:off x="1475280" y="2410560"/>
              <a:ext cx="616680" cy="586800"/>
              <a:chOff x="1475280" y="2410560"/>
              <a:chExt cx="616680" cy="586800"/>
            </a:xfrm>
          </p:grpSpPr>
          <p:pic>
            <p:nvPicPr>
              <p:cNvPr id="139" name="Picture 6" descr="D:\user\mw\Zeichnung1.png"/>
              <p:cNvPicPr/>
              <p:nvPr/>
            </p:nvPicPr>
            <p:blipFill>
              <a:blip r:embed="rId8"/>
              <a:stretch/>
            </p:blipFill>
            <p:spPr>
              <a:xfrm>
                <a:off x="1475280" y="2410560"/>
                <a:ext cx="616680" cy="58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feld 54"/>
              <p:cNvSpPr/>
              <p:nvPr/>
            </p:nvSpPr>
            <p:spPr>
              <a:xfrm>
                <a:off x="1584000" y="252504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Textfeld 52"/>
            <p:cNvSpPr/>
            <p:nvPr/>
          </p:nvSpPr>
          <p:spPr>
            <a:xfrm>
              <a:off x="1187280" y="21956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5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Textfeld 58"/>
          <p:cNvSpPr/>
          <p:nvPr/>
        </p:nvSpPr>
        <p:spPr>
          <a:xfrm>
            <a:off x="190800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6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feld 59"/>
          <p:cNvSpPr/>
          <p:nvPr/>
        </p:nvSpPr>
        <p:spPr>
          <a:xfrm>
            <a:off x="1908000" y="486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7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feld 60"/>
          <p:cNvSpPr/>
          <p:nvPr/>
        </p:nvSpPr>
        <p:spPr>
          <a:xfrm>
            <a:off x="1908000" y="5075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8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feld 61"/>
          <p:cNvSpPr/>
          <p:nvPr/>
        </p:nvSpPr>
        <p:spPr>
          <a:xfrm>
            <a:off x="1908000" y="5291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9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feld 62"/>
          <p:cNvSpPr/>
          <p:nvPr/>
        </p:nvSpPr>
        <p:spPr>
          <a:xfrm>
            <a:off x="1908000" y="5508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0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feld 63"/>
          <p:cNvSpPr/>
          <p:nvPr/>
        </p:nvSpPr>
        <p:spPr>
          <a:xfrm>
            <a:off x="1908000" y="5724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1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feld 64"/>
          <p:cNvSpPr/>
          <p:nvPr/>
        </p:nvSpPr>
        <p:spPr>
          <a:xfrm>
            <a:off x="1908000" y="5940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2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feld 65"/>
          <p:cNvSpPr/>
          <p:nvPr/>
        </p:nvSpPr>
        <p:spPr>
          <a:xfrm>
            <a:off x="190800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…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feld 70"/>
          <p:cNvSpPr/>
          <p:nvPr/>
        </p:nvSpPr>
        <p:spPr>
          <a:xfrm>
            <a:off x="3931560" y="37893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PU 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bgerundetes Rechteck 73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bgerundetes Rechteck 74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bgerundetes Rechteck 75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6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64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7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8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Threat 2: System Overhea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ystem works intensively on state manag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s more and more complex in case of parallel downloa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137C-A698-491A-9E1D-8A5EE29E78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611280" y="2424240"/>
            <a:ext cx="70488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3419640" y="2492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4"/>
          <a:stretch/>
        </p:blipFill>
        <p:spPr>
          <a:xfrm>
            <a:off x="6875640" y="2492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61" name="Textfeld 9"/>
          <p:cNvSpPr/>
          <p:nvPr/>
        </p:nvSpPr>
        <p:spPr>
          <a:xfrm>
            <a:off x="474840" y="342900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5"/>
          <a:stretch/>
        </p:blipFill>
        <p:spPr>
          <a:xfrm>
            <a:off x="8172360" y="2451240"/>
            <a:ext cx="604800" cy="833400"/>
          </a:xfrm>
          <a:prstGeom prst="rect">
            <a:avLst/>
          </a:prstGeom>
          <a:ln w="0">
            <a:noFill/>
          </a:ln>
        </p:spPr>
      </p:pic>
      <p:sp>
        <p:nvSpPr>
          <p:cNvPr id="163" name="Gerade Verbindung 12"/>
          <p:cNvSpPr/>
          <p:nvPr/>
        </p:nvSpPr>
        <p:spPr>
          <a:xfrm>
            <a:off x="2843280" y="2889360"/>
            <a:ext cx="57636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Gerade Verbindung 14"/>
          <p:cNvSpPr/>
          <p:nvPr/>
        </p:nvSpPr>
        <p:spPr>
          <a:xfrm flipV="1">
            <a:off x="1316160" y="2889360"/>
            <a:ext cx="73476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Gerade Verbindung 15"/>
          <p:cNvSpPr/>
          <p:nvPr/>
        </p:nvSpPr>
        <p:spPr>
          <a:xfrm>
            <a:off x="7667640" y="2889360"/>
            <a:ext cx="5047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uppieren 22"/>
          <p:cNvGrpSpPr/>
          <p:nvPr/>
        </p:nvGrpSpPr>
        <p:grpSpPr>
          <a:xfrm>
            <a:off x="1835280" y="3780000"/>
            <a:ext cx="1296720" cy="655560"/>
            <a:chOff x="1835280" y="3780000"/>
            <a:chExt cx="1296720" cy="655560"/>
          </a:xfrm>
        </p:grpSpPr>
        <p:sp>
          <p:nvSpPr>
            <p:cNvPr id="167" name="Legende mit Linie 1 23"/>
            <p:cNvSpPr/>
            <p:nvPr/>
          </p:nvSpPr>
          <p:spPr>
            <a:xfrm>
              <a:off x="1835280" y="3796200"/>
              <a:ext cx="1224720" cy="63936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feld 24"/>
            <p:cNvSpPr/>
            <p:nvPr/>
          </p:nvSpPr>
          <p:spPr>
            <a:xfrm>
              <a:off x="1835280" y="378000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25"/>
          <p:cNvGrpSpPr/>
          <p:nvPr/>
        </p:nvGrpSpPr>
        <p:grpSpPr>
          <a:xfrm>
            <a:off x="3348000" y="3780000"/>
            <a:ext cx="1295280" cy="642600"/>
            <a:chOff x="3348000" y="3780000"/>
            <a:chExt cx="1295280" cy="642600"/>
          </a:xfrm>
        </p:grpSpPr>
        <p:sp>
          <p:nvSpPr>
            <p:cNvPr id="170" name="Legende mit Linie 1 26"/>
            <p:cNvSpPr/>
            <p:nvPr/>
          </p:nvSpPr>
          <p:spPr>
            <a:xfrm>
              <a:off x="3348000" y="3795480"/>
              <a:ext cx="1223640" cy="60660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feld 27"/>
            <p:cNvSpPr/>
            <p:nvPr/>
          </p:nvSpPr>
          <p:spPr>
            <a:xfrm>
              <a:off x="3348000" y="3780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2" name="Picture 3" descr=""/>
          <p:cNvPicPr/>
          <p:nvPr/>
        </p:nvPicPr>
        <p:blipFill>
          <a:blip r:embed="rId6"/>
          <a:stretch/>
        </p:blipFill>
        <p:spPr>
          <a:xfrm>
            <a:off x="5292720" y="2492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73" name="Gerade Verbindung 47"/>
          <p:cNvSpPr/>
          <p:nvPr/>
        </p:nvSpPr>
        <p:spPr>
          <a:xfrm>
            <a:off x="6084720" y="2889360"/>
            <a:ext cx="7909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Gerade Verbindung 50"/>
          <p:cNvSpPr/>
          <p:nvPr/>
        </p:nvSpPr>
        <p:spPr>
          <a:xfrm>
            <a:off x="4211640" y="2889360"/>
            <a:ext cx="1081080" cy="0"/>
          </a:xfrm>
          <a:prstGeom prst="line">
            <a:avLst/>
          </a:prstGeom>
          <a:ln cap="rnd" w="9360">
            <a:solidFill>
              <a:srgbClr val="4a7ebb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uppieren 53"/>
          <p:cNvGrpSpPr/>
          <p:nvPr/>
        </p:nvGrpSpPr>
        <p:grpSpPr>
          <a:xfrm>
            <a:off x="5003640" y="3789360"/>
            <a:ext cx="1297080" cy="642600"/>
            <a:chOff x="5003640" y="3789360"/>
            <a:chExt cx="1297080" cy="642600"/>
          </a:xfrm>
        </p:grpSpPr>
        <p:sp>
          <p:nvSpPr>
            <p:cNvPr id="176" name="Legende mit Linie 1 54"/>
            <p:cNvSpPr/>
            <p:nvPr/>
          </p:nvSpPr>
          <p:spPr>
            <a:xfrm>
              <a:off x="5003640" y="3804840"/>
              <a:ext cx="1225080" cy="60156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feld 55"/>
            <p:cNvSpPr/>
            <p:nvPr/>
          </p:nvSpPr>
          <p:spPr>
            <a:xfrm>
              <a:off x="5003640" y="378936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uppieren 56"/>
          <p:cNvGrpSpPr/>
          <p:nvPr/>
        </p:nvGrpSpPr>
        <p:grpSpPr>
          <a:xfrm>
            <a:off x="6588000" y="3789360"/>
            <a:ext cx="1297080" cy="658440"/>
            <a:chOff x="6588000" y="3789360"/>
            <a:chExt cx="1297080" cy="658440"/>
          </a:xfrm>
        </p:grpSpPr>
        <p:sp>
          <p:nvSpPr>
            <p:cNvPr id="179" name="Legende mit Linie 1 57"/>
            <p:cNvSpPr/>
            <p:nvPr/>
          </p:nvSpPr>
          <p:spPr>
            <a:xfrm>
              <a:off x="6588000" y="3805920"/>
              <a:ext cx="1225080" cy="6418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feld 58"/>
            <p:cNvSpPr/>
            <p:nvPr/>
          </p:nvSpPr>
          <p:spPr>
            <a:xfrm>
              <a:off x="6588000" y="378936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uppieren 70"/>
          <p:cNvGrpSpPr/>
          <p:nvPr/>
        </p:nvGrpSpPr>
        <p:grpSpPr>
          <a:xfrm>
            <a:off x="971640" y="2050920"/>
            <a:ext cx="2016000" cy="955800"/>
            <a:chOff x="971640" y="2050920"/>
            <a:chExt cx="2016000" cy="955800"/>
          </a:xfrm>
        </p:grpSpPr>
        <p:grpSp>
          <p:nvGrpSpPr>
            <p:cNvPr id="182" name="Gruppieren 17"/>
            <p:cNvGrpSpPr/>
            <p:nvPr/>
          </p:nvGrpSpPr>
          <p:grpSpPr>
            <a:xfrm>
              <a:off x="971640" y="2050920"/>
              <a:ext cx="2016000" cy="811800"/>
              <a:chOff x="971640" y="2050920"/>
              <a:chExt cx="2016000" cy="811800"/>
            </a:xfrm>
          </p:grpSpPr>
          <p:grpSp>
            <p:nvGrpSpPr>
              <p:cNvPr id="183" name="Gruppieren 39"/>
              <p:cNvGrpSpPr/>
              <p:nvPr/>
            </p:nvGrpSpPr>
            <p:grpSpPr>
              <a:xfrm>
                <a:off x="1259640" y="2276280"/>
                <a:ext cx="616680" cy="586440"/>
                <a:chOff x="1259640" y="2276280"/>
                <a:chExt cx="616680" cy="586440"/>
              </a:xfrm>
            </p:grpSpPr>
            <p:pic>
              <p:nvPicPr>
                <p:cNvPr id="184" name="Picture 6" descr="D:\user\mw\Zeichnung1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59640" y="2276280"/>
                  <a:ext cx="616680" cy="58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Textfeld 21"/>
                <p:cNvSpPr/>
                <p:nvPr/>
              </p:nvSpPr>
              <p:spPr>
                <a:xfrm>
                  <a:off x="1368360" y="2390400"/>
                  <a:ext cx="26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6" name="Textfeld 19"/>
              <p:cNvSpPr/>
              <p:nvPr/>
            </p:nvSpPr>
            <p:spPr>
              <a:xfrm>
                <a:off x="971640" y="20509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chunks.peanuts.or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Gruppieren 39"/>
            <p:cNvGrpSpPr/>
            <p:nvPr/>
          </p:nvGrpSpPr>
          <p:grpSpPr>
            <a:xfrm>
              <a:off x="1331640" y="2337480"/>
              <a:ext cx="616680" cy="586440"/>
              <a:chOff x="1331640" y="2337480"/>
              <a:chExt cx="616680" cy="586440"/>
            </a:xfrm>
          </p:grpSpPr>
          <p:pic>
            <p:nvPicPr>
              <p:cNvPr id="188" name="Picture 6" descr="D:\user\mw\Zeichnung1.png"/>
              <p:cNvPicPr/>
              <p:nvPr/>
            </p:nvPicPr>
            <p:blipFill>
              <a:blip r:embed="rId8"/>
              <a:stretch/>
            </p:blipFill>
            <p:spPr>
              <a:xfrm>
                <a:off x="1331640" y="23374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feld 63"/>
              <p:cNvSpPr/>
              <p:nvPr/>
            </p:nvSpPr>
            <p:spPr>
              <a:xfrm>
                <a:off x="1440360" y="24516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0" name="Gruppieren 39"/>
            <p:cNvGrpSpPr/>
            <p:nvPr/>
          </p:nvGrpSpPr>
          <p:grpSpPr>
            <a:xfrm>
              <a:off x="1434960" y="2348280"/>
              <a:ext cx="616680" cy="586440"/>
              <a:chOff x="1434960" y="2348280"/>
              <a:chExt cx="616680" cy="586440"/>
            </a:xfrm>
          </p:grpSpPr>
          <p:pic>
            <p:nvPicPr>
              <p:cNvPr id="191" name="Picture 6" descr="D:\user\mw\Zeichnung1.png"/>
              <p:cNvPicPr/>
              <p:nvPr/>
            </p:nvPicPr>
            <p:blipFill>
              <a:blip r:embed="rId9"/>
              <a:stretch/>
            </p:blipFill>
            <p:spPr>
              <a:xfrm>
                <a:off x="1434960" y="23482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feld 66"/>
              <p:cNvSpPr/>
              <p:nvPr/>
            </p:nvSpPr>
            <p:spPr>
              <a:xfrm>
                <a:off x="1543680" y="24624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Gruppieren 39"/>
            <p:cNvGrpSpPr/>
            <p:nvPr/>
          </p:nvGrpSpPr>
          <p:grpSpPr>
            <a:xfrm>
              <a:off x="1547640" y="2420280"/>
              <a:ext cx="616680" cy="586440"/>
              <a:chOff x="1547640" y="2420280"/>
              <a:chExt cx="616680" cy="586440"/>
            </a:xfrm>
          </p:grpSpPr>
          <p:pic>
            <p:nvPicPr>
              <p:cNvPr id="194" name="Picture 6" descr="D:\user\mw\Zeichnung1.png"/>
              <p:cNvPicPr/>
              <p:nvPr/>
            </p:nvPicPr>
            <p:blipFill>
              <a:blip r:embed="rId10"/>
              <a:stretch/>
            </p:blipFill>
            <p:spPr>
              <a:xfrm>
                <a:off x="1547640" y="24202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feld 69"/>
              <p:cNvSpPr/>
              <p:nvPr/>
            </p:nvSpPr>
            <p:spPr>
              <a:xfrm>
                <a:off x="1656360" y="25344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6" name="Gruppieren 74"/>
          <p:cNvGrpSpPr/>
          <p:nvPr/>
        </p:nvGrpSpPr>
        <p:grpSpPr>
          <a:xfrm>
            <a:off x="1042920" y="2060640"/>
            <a:ext cx="1297080" cy="812880"/>
            <a:chOff x="1042920" y="2060640"/>
            <a:chExt cx="1297080" cy="812880"/>
          </a:xfrm>
        </p:grpSpPr>
        <p:grpSp>
          <p:nvGrpSpPr>
            <p:cNvPr id="197" name="Gruppieren 39"/>
            <p:cNvGrpSpPr/>
            <p:nvPr/>
          </p:nvGrpSpPr>
          <p:grpSpPr>
            <a:xfrm>
              <a:off x="1330920" y="2286000"/>
              <a:ext cx="617040" cy="587520"/>
              <a:chOff x="1330920" y="2286000"/>
              <a:chExt cx="617040" cy="587520"/>
            </a:xfrm>
          </p:grpSpPr>
          <p:pic>
            <p:nvPicPr>
              <p:cNvPr id="198" name="Picture 6" descr="D:\user\mw\Zeichnung1.png"/>
              <p:cNvPicPr/>
              <p:nvPr/>
            </p:nvPicPr>
            <p:blipFill>
              <a:blip r:embed="rId11"/>
              <a:stretch/>
            </p:blipFill>
            <p:spPr>
              <a:xfrm>
                <a:off x="1330920" y="228600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Textfeld 78"/>
              <p:cNvSpPr/>
              <p:nvPr/>
            </p:nvSpPr>
            <p:spPr>
              <a:xfrm>
                <a:off x="1440000" y="24004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Textfeld 76"/>
            <p:cNvSpPr/>
            <p:nvPr/>
          </p:nvSpPr>
          <p:spPr>
            <a:xfrm>
              <a:off x="1042920" y="206064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uppieren 84"/>
          <p:cNvGrpSpPr/>
          <p:nvPr/>
        </p:nvGrpSpPr>
        <p:grpSpPr>
          <a:xfrm>
            <a:off x="1123920" y="2203560"/>
            <a:ext cx="2016000" cy="955440"/>
            <a:chOff x="1123920" y="2203560"/>
            <a:chExt cx="2016000" cy="955440"/>
          </a:xfrm>
        </p:grpSpPr>
        <p:grpSp>
          <p:nvGrpSpPr>
            <p:cNvPr id="202" name="Gruppieren 17"/>
            <p:cNvGrpSpPr/>
            <p:nvPr/>
          </p:nvGrpSpPr>
          <p:grpSpPr>
            <a:xfrm>
              <a:off x="1123920" y="2203560"/>
              <a:ext cx="2016000" cy="811800"/>
              <a:chOff x="1123920" y="2203560"/>
              <a:chExt cx="2016000" cy="811800"/>
            </a:xfrm>
          </p:grpSpPr>
          <p:grpSp>
            <p:nvGrpSpPr>
              <p:cNvPr id="203" name="Gruppieren 39"/>
              <p:cNvGrpSpPr/>
              <p:nvPr/>
            </p:nvGrpSpPr>
            <p:grpSpPr>
              <a:xfrm>
                <a:off x="1411920" y="2428920"/>
                <a:ext cx="616680" cy="586440"/>
                <a:chOff x="1411920" y="2428920"/>
                <a:chExt cx="616680" cy="586440"/>
              </a:xfrm>
            </p:grpSpPr>
            <p:pic>
              <p:nvPicPr>
                <p:cNvPr id="204" name="Picture 6" descr="D:\user\mw\Zeichnung1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411920" y="2428920"/>
                  <a:ext cx="616680" cy="58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Textfeld 98"/>
                <p:cNvSpPr/>
                <p:nvPr/>
              </p:nvSpPr>
              <p:spPr>
                <a:xfrm>
                  <a:off x="1520640" y="2543040"/>
                  <a:ext cx="26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6" name="Textfeld 96"/>
              <p:cNvSpPr/>
              <p:nvPr/>
            </p:nvSpPr>
            <p:spPr>
              <a:xfrm>
                <a:off x="1123920" y="22035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chunks.peanuts.or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" name="Gruppieren 39"/>
            <p:cNvGrpSpPr/>
            <p:nvPr/>
          </p:nvGrpSpPr>
          <p:grpSpPr>
            <a:xfrm>
              <a:off x="1483920" y="2490120"/>
              <a:ext cx="616680" cy="586440"/>
              <a:chOff x="1483920" y="2490120"/>
              <a:chExt cx="616680" cy="586440"/>
            </a:xfrm>
          </p:grpSpPr>
          <p:pic>
            <p:nvPicPr>
              <p:cNvPr id="208" name="Picture 6" descr="D:\user\mw\Zeichnung1.png"/>
              <p:cNvPicPr/>
              <p:nvPr/>
            </p:nvPicPr>
            <p:blipFill>
              <a:blip r:embed="rId13"/>
              <a:stretch/>
            </p:blipFill>
            <p:spPr>
              <a:xfrm>
                <a:off x="1483920" y="249012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feld 94"/>
              <p:cNvSpPr/>
              <p:nvPr/>
            </p:nvSpPr>
            <p:spPr>
              <a:xfrm>
                <a:off x="1592640" y="260424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0" name="Gruppieren 39"/>
            <p:cNvGrpSpPr/>
            <p:nvPr/>
          </p:nvGrpSpPr>
          <p:grpSpPr>
            <a:xfrm>
              <a:off x="1587240" y="2500560"/>
              <a:ext cx="616680" cy="586440"/>
              <a:chOff x="1587240" y="2500560"/>
              <a:chExt cx="616680" cy="586440"/>
            </a:xfrm>
          </p:grpSpPr>
          <p:pic>
            <p:nvPicPr>
              <p:cNvPr id="211" name="Picture 6" descr="D:\user\mw\Zeichnung1.png"/>
              <p:cNvPicPr/>
              <p:nvPr/>
            </p:nvPicPr>
            <p:blipFill>
              <a:blip r:embed="rId14"/>
              <a:stretch/>
            </p:blipFill>
            <p:spPr>
              <a:xfrm>
                <a:off x="1587240" y="250056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extfeld 92"/>
              <p:cNvSpPr/>
              <p:nvPr/>
            </p:nvSpPr>
            <p:spPr>
              <a:xfrm>
                <a:off x="1695960" y="2614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3" name="Gruppieren 39"/>
            <p:cNvGrpSpPr/>
            <p:nvPr/>
          </p:nvGrpSpPr>
          <p:grpSpPr>
            <a:xfrm>
              <a:off x="1699920" y="2572560"/>
              <a:ext cx="616680" cy="586440"/>
              <a:chOff x="1699920" y="2572560"/>
              <a:chExt cx="616680" cy="586440"/>
            </a:xfrm>
          </p:grpSpPr>
          <p:pic>
            <p:nvPicPr>
              <p:cNvPr id="214" name="Picture 6" descr="D:\user\mw\Zeichnung1.png"/>
              <p:cNvPicPr/>
              <p:nvPr/>
            </p:nvPicPr>
            <p:blipFill>
              <a:blip r:embed="rId15"/>
              <a:stretch/>
            </p:blipFill>
            <p:spPr>
              <a:xfrm>
                <a:off x="1699920" y="257256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Textfeld 90"/>
              <p:cNvSpPr/>
              <p:nvPr/>
            </p:nvSpPr>
            <p:spPr>
              <a:xfrm>
                <a:off x="1808640" y="2686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6" name="Gruppieren 99"/>
          <p:cNvGrpSpPr/>
          <p:nvPr/>
        </p:nvGrpSpPr>
        <p:grpSpPr>
          <a:xfrm>
            <a:off x="7380360" y="1844640"/>
            <a:ext cx="1295280" cy="879480"/>
            <a:chOff x="7380360" y="1844640"/>
            <a:chExt cx="1295280" cy="879480"/>
          </a:xfrm>
        </p:grpSpPr>
        <p:pic>
          <p:nvPicPr>
            <p:cNvPr id="217" name="Picture 9" descr="D:\user\mw\Desktop\Zeichnung1.png"/>
            <p:cNvPicPr/>
            <p:nvPr/>
          </p:nvPicPr>
          <p:blipFill>
            <a:blip r:embed="rId16"/>
            <a:stretch/>
          </p:blipFill>
          <p:spPr>
            <a:xfrm>
              <a:off x="7668000" y="2276640"/>
              <a:ext cx="5756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feld 101"/>
            <p:cNvSpPr/>
            <p:nvPr/>
          </p:nvSpPr>
          <p:spPr>
            <a:xfrm>
              <a:off x="7380360" y="18446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933E-006 L 0.02361 1.11933E-006 E">
                                      <p:cBhvr>
                                        <p:cTn id="17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1.11933E-006 L 0.18907 1.11933E-006 E">
                                      <p:cBhvr>
                                        <p:cTn id="183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06 1.11933E-006 L 0.38593 1.11933E-006 E">
                                      <p:cBhvr>
                                        <p:cTn id="18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933E-006 L 0.02361 1.11933E-006 E">
                                      <p:cBhvr>
                                        <p:cTn id="193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93 1.11933E-006 L 0.575 1.11933E-006 E">
                                      <p:cBhvr>
                                        <p:cTn id="19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1.11933E-006 L 0.18907 1.11933E-006 E">
                                      <p:cBhvr>
                                        <p:cTn id="201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953E-006 L -0.72448 -3.70953E-006 E">
                                      <p:cBhvr>
                                        <p:cTn id="206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06 1.11933E-006 L 0.38593 1.11933E-006 E">
                                      <p:cBhvr>
                                        <p:cTn id="20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al Illu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of multiple 10 Mbit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chain topology with 100 Mbit/s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06C3-FF6F-4C6E-B091-E70C622275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6084720" y="3000240"/>
          <a:ext cx="2638440" cy="24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3000240"/>
                    <a:ext cx="263844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"/>
          <p:cNvGraphicFramePr/>
          <p:nvPr/>
        </p:nvGraphicFramePr>
        <p:xfrm>
          <a:off x="3281400" y="2997360"/>
          <a:ext cx="265896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1400" y="2997360"/>
                    <a:ext cx="265896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4"/>
          <p:cNvGraphicFramePr/>
          <p:nvPr/>
        </p:nvGraphicFramePr>
        <p:xfrm>
          <a:off x="539640" y="3011400"/>
          <a:ext cx="2627280" cy="241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011400"/>
                    <a:ext cx="26272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feld 10"/>
          <p:cNvSpPr/>
          <p:nvPr/>
        </p:nvSpPr>
        <p:spPr>
          <a:xfrm>
            <a:off x="971640" y="54878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feld 11"/>
          <p:cNvSpPr/>
          <p:nvPr/>
        </p:nvSpPr>
        <p:spPr>
          <a:xfrm>
            <a:off x="3851280" y="54878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feld 12"/>
          <p:cNvSpPr/>
          <p:nvPr/>
        </p:nvSpPr>
        <p:spPr>
          <a:xfrm>
            <a:off x="6443640" y="5487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Thre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ource Exhau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 Decorre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s need to be coherent, otherwise service disruption or unwanted traffic fl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th &amp; name infilt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work mainly focus on authenticity of content, but not on poisonous injections of paths and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che poll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iled cache reduces overall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yptographic breach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tures of long-lived content can be ha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E6E7-A221-4F33-AAA1-249076A923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 Threats to Att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s related to resource exhau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tely initiated over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ling requests due to a slow 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e block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s related to state decor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inging content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out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mming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A3F9-F504-4D8D-912B-DFDCC8D88B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 Thoughts on the Solution Sp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limiting: Limit the frequency of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end user: Increased complexity of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domain: Threat to additional e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y per content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flexibility for e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s with the open paradigm of the Intern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FDED-C8AB-485B-B271-60DD80D433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21:13:44Z</dcterms:created>
  <dc:creator>mw</dc:creator>
  <dc:description/>
  <dc:language>en-US</dc:language>
  <cp:lastModifiedBy>Dirk Kutscher</cp:lastModifiedBy>
  <dcterms:modified xsi:type="dcterms:W3CDTF">2012-08-01T04:45:18Z</dcterms:modified>
  <cp:revision>729</cp:revision>
  <dc:subject/>
  <dc:title>Folie 1</dc:title>
</cp:coreProperties>
</file>