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D667-BE29-47B8-90F4-A9829F0D0D7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DBE6-B127-4F9D-9D9D-E66E3A6A67F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2BC8-DC6C-4CC3-AF44-4310946E3A7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5487-6284-4E5F-9A00-A7044F750E5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0ACD-A213-4EB7-9D0E-D210315D31D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CE0C-3381-4B0A-9BD8-F56360146EE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2D9F7-746F-4011-847C-E7D042208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6DC6E-2B4F-441F-8412-A8B77D0BE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86C5F-A4A4-4E2D-A86C-ED7681DC1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5B2E8-D7E4-4BEB-B669-866D617BF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5ABAB-5F37-4C6A-ADC9-315FD7841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72D91-92E7-4A25-AB94-8EB6F182D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1B378-F234-49E8-9027-93E6D9B1E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96C88-A5E8-4DE6-A991-EDA5FBF59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A2373-0B8F-42F0-97F8-26E07128B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75C71-0B34-4E8B-85A1-2D9E42E36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AD336-E443-48BB-B7D8-A6108D9C8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E07BF-31F3-453E-86DF-23AC87385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2827-6852-40CB-B90F-8CD8571EA26D}"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ietf.org/iesg/ieee/20120725/RAC_Virtualization_July2012.pd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wdec@cisco.com"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Well</a:t>
            </a:r>
            <a:endParaRPr b="0" lang="en-US" sz="4400" spc="-1" strike="noStrike">
              <a:solidFill>
                <a:srgbClr val="000000"/>
              </a:solidFill>
              <a:latin typeface="Times New Roman"/>
            </a:endParaRPr>
          </a:p>
        </p:txBody>
      </p:sp>
      <p:sp>
        <p:nvSpPr>
          <p:cNvPr id="49" name="Rectangle 2"/>
          <p:cNvSpPr/>
          <p:nvPr/>
        </p:nvSpPr>
        <p:spPr>
          <a:xfrm>
            <a:off x="684360" y="1773360"/>
            <a:ext cx="777528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TF plenary session</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SG, or any member thereof on behalf of the IESG</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ETF mailing list, including the IETF list itself, any working group or design team list, or any other list functioning under IETF auspices</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ETF working group or portion thereof</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Birds of a Feather (BOF) session</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AB or any member thereof on behalf of the IAB</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FC Editor or the Internet-Drafts function</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ETF Contributions are subject to the rules of RFC 5378 and RFC 3979 (updated by RFC 487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s made outside of an IETF session, mailing list or other function, that are clearly not intended to be input to an IETF activity, group or function, are not IETF Contributions in the context of this not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nsult RFC 5378 and RFC 3979 for detai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ticipant in any IETF activity is deemed to accept all IETF rules of process, as documented in Best Current Practices RFCs and IESG State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ticipant in any IETF activity acknowledges that written, audio and video records of meetings may be made and may be available to the publi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ote on WG Adoption</a:t>
            </a:r>
            <a:endParaRPr b="0" lang="en-US" sz="4400" spc="-1" strike="noStrike">
              <a:solidFill>
                <a:srgbClr val="000000"/>
              </a:solidFill>
              <a:latin typeface="Times New Roman"/>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document a reasonable base to start work on achieving a milest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what specific text changes are nee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is is not a WG last call and the authors/editors must reflect WG consensus once the document is adop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tualization and Ethernet Addressing</a:t>
            </a:r>
            <a:endParaRPr b="0" lang="en-US" sz="4400" spc="-1" strike="noStrike">
              <a:solidFill>
                <a:srgbClr val="000000"/>
              </a:solidFill>
              <a:latin typeface="Times New Roman"/>
            </a:endParaRPr>
          </a:p>
        </p:txBody>
      </p:sp>
      <p:sp>
        <p:nvSpPr>
          <p:cNvPr id="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RAC chair gave the following presentation to the IESG on impact of virtualization on Ethernet OUI/EUI space</a:t>
            </a:r>
            <a:endParaRPr b="0" lang="en-US" sz="3200" spc="-1" strike="noStrike">
              <a:solidFill>
                <a:srgbClr val="000000"/>
              </a:solidFill>
              <a:latin typeface="Times New Roman"/>
            </a:endParaRPr>
          </a:p>
          <a:p>
            <a:pPr lvl="1" marL="39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http://www.ietf.org/iesg/ieee/20120725/RAC_Virtualization_July2012.pdf</a:t>
            </a:r>
            <a:endParaRPr b="0" lang="en-US" sz="2800" spc="-1" strike="noStrike">
              <a:solidFill>
                <a:srgbClr val="000000"/>
              </a:solidFill>
              <a:latin typeface="Times New Roman"/>
            </a:endParaRPr>
          </a:p>
          <a:p>
            <a:pPr lvl="1" marL="39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also be presented in RTG area open meeting on Thursday at 9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Statement Draft(s)</a:t>
            </a:r>
            <a:endParaRPr b="0" lang="en-US" sz="4400" spc="-1" strike="noStrike">
              <a:solidFill>
                <a:srgbClr val="000000"/>
              </a:solidFill>
              <a:latin typeface="Times New Roman"/>
            </a:endParaRPr>
          </a:p>
        </p:txBody>
      </p:sp>
      <p:sp>
        <p:nvSpPr>
          <p:cNvPr id="7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has read both draf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draft is a better sta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specific open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amework Draft</a:t>
            </a:r>
            <a:endParaRPr b="0" lang="en-US" sz="4400" spc="-1" strike="noStrike">
              <a:solidFill>
                <a:srgbClr val="000000"/>
              </a:solidFill>
              <a:latin typeface="Times New Roman"/>
            </a:endParaRPr>
          </a:p>
        </p:txBody>
      </p:sp>
      <p:sp>
        <p:nvSpPr>
          <p:cNvPr id="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has read the draf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revised draft ready for adop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not, what are the specific issu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Virtualization Overlays (NVO3)</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240" y="3886200"/>
            <a:ext cx="68007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ETF 84, Vancouver, Canada</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nson Schliesser (bensons</a:t>
            </a:r>
            <a:r>
              <a:rPr b="0" lang="en-GB" sz="2400" spc="-1" strike="noStrike" u="sng">
                <a:solidFill>
                  <a:srgbClr val="ccccff"/>
                </a:solidFill>
                <a:uFillTx/>
                <a:latin typeface="Times New Roman"/>
                <a:hlinkClick r:id="rId1"/>
              </a:rPr>
              <a:t>@</a:t>
            </a:r>
            <a:r>
              <a:rPr b="0" lang="en-GB" sz="2400" spc="-1" strike="noStrike">
                <a:solidFill>
                  <a:srgbClr val="000000"/>
                </a:solidFill>
                <a:latin typeface="Times New Roman"/>
              </a:rPr>
              <a:t>queuefull.ne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tthew Bocci (matthew.bocci@alcatel-lucen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dministriv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lue She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te takers + Jabber Scrib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iling List:</a:t>
            </a:r>
            <a:endParaRPr b="0" lang="en-US" sz="32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eneral Discussion: nvo3@ietf.org</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 Subscribe: nvo3-request@ietf.org</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Body: subscribe your_email_address</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chive: http://www.ietf.org/mail-archive/web/nvo3/index.html</a:t>
            </a:r>
            <a:endParaRPr b="0"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eting Objectives</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ess the problem statement and framework drafts so that they can be adopted by the working gro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 - 1</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28640"/>
            <a:ext cx="77724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ning Intro ----------- 5 m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Blue sheets, Agenda bash, Status update – Chair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blem Statement and Framework Discussion ----------- 80 m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VPN for Data Centers Problem Statement - draft-fang-vpn4dc-problem-statement-01 - Maria Napierala</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Problem Statement - draft-narten-nvo3-overlay-problems-statement-03 - Thomas Narte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5 mins - Progressing the problem statement discussion - Chair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Framework - draft-lasserre-nvo3-framework-03 - Marc Lasserre</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5 mins - Progressing the framework - Chai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 - 2</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28640"/>
            <a:ext cx="7772400" cy="411480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ther Milestone-related Drafts ----------- 45 m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Data Plane Requirements - draft-bl-nvo3-dataplane-requirements - Marc Lasserre  </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Issues of Mobility in DC Overlay network - draft-dunbar-nvo3-overlay-mobility-issues-00 - Linda Dunbar</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Using Signaling to Simplify Network Virtualization Provisioning - draft-kompella-nvo3-server2nve – Thomas Mor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Requirements on TES-NVE interface and Additional requirements on control plane - Yingjie Gu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draft-gu-nvo3-tes-nve-mechanism-00</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draft-gu-nvo3-overlay-cp-arch-00 </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nvo3 operational requirements - draft-ashwood-nvo3-operational-requirement - Peter Ashwood Smith or Ali Sajass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 – 3 (If time allow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28640"/>
            <a:ext cx="77724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ther Drafts ----------- 20 m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Use Cases for DC Network Virtualization Overlays - draft-mity-nvo3-use-case-01 - Mehmet Toy</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Analysis of Security Threats, Security Requirements for nvo3</a:t>
            </a:r>
            <a:br>
              <a:rPr sz="2000"/>
            </a:br>
            <a:r>
              <a:rPr b="0" lang="en-GB" sz="2000" spc="-1" strike="noStrike">
                <a:solidFill>
                  <a:srgbClr val="000000"/>
                </a:solidFill>
                <a:latin typeface="Times New Roman"/>
              </a:rPr>
              <a:t>    draft-wei-nvo3-security-framework-00 - Yinxing Wei</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Layer 3 address considerations for Network Virtualization Overlay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draft-carpenter-nvo3-addressing-00 - Sheng Jiang</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Accessing Cloud Services - draft-stein-cloud-access-01 - Yaakov Stein</a:t>
            </a: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estones</a:t>
            </a:r>
            <a:endParaRPr b="0" lang="en-US" sz="4400" spc="-1" strike="noStrike">
              <a:solidFill>
                <a:srgbClr val="000000"/>
              </a:solidFill>
              <a:latin typeface="Times New Roman"/>
            </a:endParaRPr>
          </a:p>
        </p:txBody>
      </p:sp>
      <p:sp>
        <p:nvSpPr>
          <p:cNvPr id="63" name=""/>
          <p:cNvSpPr txBox="1"/>
          <p:nvPr/>
        </p:nvSpPr>
        <p:spPr>
          <a:xfrm>
            <a:off x="395280" y="1916280"/>
            <a:ext cx="842472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 2012 - Problem Statement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 2012 - Framework document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 2012 - Data plane requirements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 2012 - Operational Requirements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r 2013 - Control plane requirements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r 2013 - Gap Analysis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r 2013 - Recharter or close Working Grou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 Status</a:t>
            </a:r>
            <a:endParaRPr b="0" lang="en-US" sz="4400" spc="-1" strike="noStrike">
              <a:solidFill>
                <a:srgbClr val="000000"/>
              </a:solidFill>
              <a:latin typeface="Times New Roman"/>
            </a:endParaRPr>
          </a:p>
        </p:txBody>
      </p:sp>
      <p:sp>
        <p:nvSpPr>
          <p:cNvPr id="65" name=""/>
          <p:cNvSpPr txBox="1"/>
          <p:nvPr/>
        </p:nvSpPr>
        <p:spPr>
          <a:xfrm>
            <a:off x="685800" y="170028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is our first meeting as a working group after a successful BoF in Paris</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anks to everyone involved!</a:t>
            </a:r>
            <a:endParaRPr b="0" lang="en-US" sz="28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 RFCs or WG drafts, yet</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ll for adoption prior to this IETF:</a:t>
            </a:r>
            <a:endParaRPr b="0" lang="en-US" sz="32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narten-nvo3-overlay-problems-statement-03</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lasserre-nvo3-framework-03</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many comments to adopt before this IETF</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l try to make progress towards consensus on adoption in Vancouver</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15:36:29Z</dcterms:created>
  <dc:creator>Matthew Bocci</dc:creator>
  <dc:description/>
  <dc:language>en-US</dc:language>
  <cp:lastModifiedBy>Matthew Bocci</cp:lastModifiedBy>
  <dcterms:modified xsi:type="dcterms:W3CDTF">2012-07-31T15:28:18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302876</vt:r8>
  </property>
  <property fmtid="{D5CDD505-2E9C-101B-9397-08002B2CF9AE}" pid="3" name="_AuthorEmail">
    <vt:lpwstr>wdec@cisco.com</vt:lpwstr>
  </property>
  <property fmtid="{D5CDD505-2E9C-101B-9397-08002B2CF9AE}" pid="4" name="_AuthorEmailDisplayName">
    <vt:lpwstr>Wojciech Dec (wdec)</vt:lpwstr>
  </property>
  <property fmtid="{D5CDD505-2E9C-101B-9397-08002B2CF9AE}" pid="5" name="_EmailSubject">
    <vt:lpwstr>L2CP-BoF-00.ppt</vt:lpwstr>
  </property>
  <property fmtid="{D5CDD505-2E9C-101B-9397-08002B2CF9AE}" pid="6" name="_NewReviewCycle">
    <vt:lpwstr/>
  </property>
</Properties>
</file>