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81472-F140-48F4-B518-FA5C49084ADB}"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33CC7-46F4-43C2-AB9E-C37A76EEA336}"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C3D6F-221B-408A-BFD0-0CDA1C0D67D8}"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BD1EF-7DE8-4CE0-A896-67756A29EB1E}"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E5E3-A21F-495E-B9B6-36B33D8B8F8C}"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25D9F-BB7C-4DF4-ADF9-3BECD87A74BC}"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E3EDC-F620-4D9C-B519-BEDA80D91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F8EE9-88C6-4333-99DE-5865CB8A7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8550E-88F0-475C-8946-B47412F93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27E8A-A4C2-45AB-8498-22DF5FEC5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9D47A-9055-4643-9B1C-73F5B156C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87D37-0ACC-4B69-A6BB-B4A5CB938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CA4BD-3CCC-41AF-AA3B-CF76CE3B9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43E3B-F947-4467-9CE1-2E86B4805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1CB42-7C8D-484F-9357-974AA6A91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0498C-FFC8-4A9F-AC9B-848BD2F4F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00129-D6E4-4C6A-A46E-105D5A6B4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7EF29-73C7-42B4-911B-FC212D4378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AF3A7-2285-447F-8590-73585BD5D2EE}" type="slidenum">
              <a:rPr b="0" lang="en-GB"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ietf.org/iesg/ieee/20120725/RAC_Virtualization_July2012.pdf"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wdec@cisco.com"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 Well</a:t>
            </a:r>
            <a:endParaRPr b="0" lang="en-US" sz="4400" spc="-1" strike="noStrike">
              <a:solidFill>
                <a:srgbClr val="000000"/>
              </a:solidFill>
              <a:latin typeface="Times New Roman"/>
            </a:endParaRPr>
          </a:p>
        </p:txBody>
      </p:sp>
      <p:sp>
        <p:nvSpPr>
          <p:cNvPr id="49" name="Rectangle 2"/>
          <p:cNvSpPr/>
          <p:nvPr/>
        </p:nvSpPr>
        <p:spPr>
          <a:xfrm>
            <a:off x="684360" y="1773360"/>
            <a:ext cx="7775280" cy="465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ETF plenary session</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ESG, or any member thereof on behalf of the IESG</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IETF mailing list, including the IETF list itself, any working group or design team list, or any other list functioning under IETF auspices</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IETF working group or portion thereof</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Birds of a Feather (BOF) session</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AB or any member thereof on behalf of the IAB</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FC Editor or the Internet-Drafts function</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ETF Contributions are subject to the rules of RFC 5378 and RFC 3979 (updated by RFC 487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ments made outside of an IETF session, mailing list or other function, that are clearly not intended to be input to an IETF activity, group or function, are not IETF Contributions in the context of this noti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consult RFC 5378 and RFC 3979 for detail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rticipant in any IETF activity is deemed to accept all IETF rules of process, as documented in Best Current Practices RFCs and IESG State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rticipant in any IETF activity acknowledges that written, audio and video records of meetings may be made and may be available to the publi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Note on WG Adoption</a:t>
            </a:r>
            <a:endParaRPr b="0" lang="en-US" sz="4400" spc="-1" strike="noStrike">
              <a:solidFill>
                <a:srgbClr val="000000"/>
              </a:solidFill>
              <a:latin typeface="Times New Roman"/>
            </a:endParaRPr>
          </a:p>
        </p:txBody>
      </p:sp>
      <p:sp>
        <p:nvSpPr>
          <p:cNvPr id="67"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document a reasonable base to start work on achieving a milest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what specific text changes are nee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is is not a WG last call and the authors/editors must reflect WG consensus once the document is adop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rtualization and Ethernet Addressing</a:t>
            </a:r>
            <a:endParaRPr b="0" lang="en-US" sz="4400" spc="-1" strike="noStrike">
              <a:solidFill>
                <a:srgbClr val="000000"/>
              </a:solidFill>
              <a:latin typeface="Times New Roman"/>
            </a:endParaRPr>
          </a:p>
        </p:txBody>
      </p:sp>
      <p:sp>
        <p:nvSpPr>
          <p:cNvPr id="6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RAC chair gave the following presentation to the IESG on impact of virtualization on Ethernet OUI/EUI space</a:t>
            </a:r>
            <a:endParaRPr b="0" lang="en-US" sz="3200" spc="-1" strike="noStrike">
              <a:solidFill>
                <a:srgbClr val="000000"/>
              </a:solidFill>
              <a:latin typeface="Times New Roman"/>
            </a:endParaRPr>
          </a:p>
          <a:p>
            <a:pPr lvl="1" marL="399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http://www.ietf.org/iesg/ieee/20120725/RAC_Virtualization_July2012.pdf</a:t>
            </a:r>
            <a:endParaRPr b="0" lang="en-US" sz="2800" spc="-1" strike="noStrike">
              <a:solidFill>
                <a:srgbClr val="000000"/>
              </a:solidFill>
              <a:latin typeface="Times New Roman"/>
            </a:endParaRPr>
          </a:p>
          <a:p>
            <a:pPr lvl="1" marL="399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also be presented in RTG area open meeting on Thursday at 9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Statement Draft(s)</a:t>
            </a:r>
            <a:endParaRPr b="0" lang="en-US" sz="4400" spc="-1" strike="noStrike">
              <a:solidFill>
                <a:srgbClr val="000000"/>
              </a:solidFill>
              <a:latin typeface="Times New Roman"/>
            </a:endParaRPr>
          </a:p>
        </p:txBody>
      </p:sp>
      <p:sp>
        <p:nvSpPr>
          <p:cNvPr id="7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has read both draf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draft is a better sta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specific open iss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amework Draft</a:t>
            </a:r>
            <a:endParaRPr b="0" lang="en-US" sz="4400" spc="-1" strike="noStrike">
              <a:solidFill>
                <a:srgbClr val="000000"/>
              </a:solidFill>
              <a:latin typeface="Times New Roman"/>
            </a:endParaRPr>
          </a:p>
        </p:txBody>
      </p:sp>
      <p:sp>
        <p:nvSpPr>
          <p:cNvPr id="7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has read the draf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revised draft ready for adop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not, what are the specific issu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Virtualization Overlays (NVO3)</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371240" y="3886200"/>
            <a:ext cx="680076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ETF 84, Vancouver, Canada</a:t>
            </a:r>
            <a:endParaRPr b="0" lang="en-US" sz="32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nson Schliesser (bensons</a:t>
            </a:r>
            <a:r>
              <a:rPr b="0" lang="en-GB" sz="2400" spc="-1" strike="noStrike" u="sng">
                <a:solidFill>
                  <a:srgbClr val="ccccff"/>
                </a:solidFill>
                <a:uFillTx/>
                <a:latin typeface="Times New Roman"/>
                <a:hlinkClick r:id="rId1"/>
              </a:rPr>
              <a:t>@</a:t>
            </a:r>
            <a:r>
              <a:rPr b="0" lang="en-GB" sz="2400" spc="-1" strike="noStrike">
                <a:solidFill>
                  <a:srgbClr val="000000"/>
                </a:solidFill>
                <a:latin typeface="Times New Roman"/>
              </a:rPr>
              <a:t>queuefull.net)</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tthew Bocci (matthew.bocci@alcatel-lucent.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dministrivia</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lue She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te takers + Jabber Scrib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iling List:</a:t>
            </a:r>
            <a:endParaRPr b="0" lang="en-US" sz="32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General Discussion: nvo3@ietf.org</a:t>
            </a: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 Subscribe: nvo3-request@ietf.org</a:t>
            </a: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Body: subscribe your_email_address</a:t>
            </a: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rchive: http://www.ietf.org/mail-archive/web/nvo3/index.html</a:t>
            </a:r>
            <a:endParaRPr b="0" lang="en-US" sz="16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eting Objectives</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ess the problem statement and framework drafts so that they can be adopted by the working grou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 - 1</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28640"/>
            <a:ext cx="7772400" cy="41148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pening Intro ----------- 5 min</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mins - Blue sheets, Agenda bash, Status update – Chairs</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blem Statement and Framework Discussion ----------- 80 min</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 mins - VPN for Data Centers Problem Statement - draft-fang-vpn4dc-problem-statement-01 - Maria Napierala</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 mins - Problem Statement - draft-narten-nvo3-overlay-problems-statement-03 - Thomas Narten</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5 mins - Progressing the problem statement discussion - Chairs</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 mins - Framework - draft-lasserre-nvo3-framework-03 - Marc Lasserre</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5 mins - Progressing the framework - Chai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 - 2</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628640"/>
            <a:ext cx="7772400" cy="4114800"/>
          </a:xfrm>
          <a:prstGeom prst="rect">
            <a:avLst/>
          </a:prstGeom>
          <a:noFill/>
          <a:ln w="0">
            <a:noFill/>
          </a:ln>
        </p:spPr>
        <p:txBody>
          <a:bodyPr anchor="t">
            <a:normAutofit fontScale="91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ther Milestone-related Drafts ----------- 45 min</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 mins - Data Plane Requirements - draft-bl-nvo3-dataplane-requirements - Marc Lasserre  </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mins - Issues of Mobility in DC Overlay network - draft-dunbar-nvo3-overlay-mobility-issues-00 - Linda Dunbar</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 mins - Using Signaling to Simplify Network Virtualization Provisioning - draft-kompella-nvo3-server2nve – Thomas Morin</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 mins - Requirements on TES-NVE interface and Additional requirements on control plane - Yingjie Gu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draft-gu-nvo3-tes-nve-mechanism-00</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draft-gu-nvo3-overlay-cp-arch-00 </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 mins - nvo3 operational requirements - draft-ashwood-nvo3-operational-requirement - Peter Ashwood Smith or Ali Sajass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 – 3 (If time allow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628640"/>
            <a:ext cx="7772400" cy="41148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ther Drafts ----------- 20 min</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mins - Use Cases for DC Network Virtualization Overlays - draft-mity-nvo3-use-case-01 - Mehmet Toy</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mins - Analysis of Security Threats, Security Requirements for nvo3</a:t>
            </a:r>
            <a:br>
              <a:rPr sz="2000"/>
            </a:br>
            <a:r>
              <a:rPr b="0" lang="en-GB" sz="2000" spc="-1" strike="noStrike">
                <a:solidFill>
                  <a:srgbClr val="000000"/>
                </a:solidFill>
                <a:latin typeface="Times New Roman"/>
              </a:rPr>
              <a:t>    draft-wei-nvo3-security-framework-00 - Yinxing Wei</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mins - Layer 3 address considerations for Network Virtualization Overlays</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draft-carpenter-nvo3-addressing-00 - Sheng Jiang</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mins - Accessing Cloud Services - draft-stein-cloud-access-01 - Yaakov Stein</a:t>
            </a:r>
            <a:endParaRPr b="0" lang="en-US" sz="2000" spc="-1" strike="noStrike">
              <a:solidFill>
                <a:srgbClr val="000000"/>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lestones</a:t>
            </a:r>
            <a:endParaRPr b="0" lang="en-US" sz="4400" spc="-1" strike="noStrike">
              <a:solidFill>
                <a:srgbClr val="000000"/>
              </a:solidFill>
              <a:latin typeface="Times New Roman"/>
            </a:endParaRPr>
          </a:p>
        </p:txBody>
      </p:sp>
      <p:sp>
        <p:nvSpPr>
          <p:cNvPr id="63" name=""/>
          <p:cNvSpPr txBox="1"/>
          <p:nvPr/>
        </p:nvSpPr>
        <p:spPr>
          <a:xfrm>
            <a:off x="395280" y="1916280"/>
            <a:ext cx="842472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c 2012 - Problem Statement submitted for IESG review</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c 2012 - Framework document submitted for IESG review</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c 2012 - Data plane requirements submitted for IESG review</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c 2012 - Operational Requirements submitted for IESG review</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r 2013 - Control plane requirements submitted for IESG review</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r 2013 - Gap Analysis submitted for IESG review</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r 2013 - Recharter or close Working Grou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cument Status</a:t>
            </a:r>
            <a:endParaRPr b="0" lang="en-US" sz="4400" spc="-1" strike="noStrike">
              <a:solidFill>
                <a:srgbClr val="000000"/>
              </a:solidFill>
              <a:latin typeface="Times New Roman"/>
            </a:endParaRPr>
          </a:p>
        </p:txBody>
      </p:sp>
      <p:sp>
        <p:nvSpPr>
          <p:cNvPr id="65" name=""/>
          <p:cNvSpPr txBox="1"/>
          <p:nvPr/>
        </p:nvSpPr>
        <p:spPr>
          <a:xfrm>
            <a:off x="685800" y="170028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is is our first meeting as a working group after a successful BoF in Paris</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anks to everyone involved!</a:t>
            </a:r>
            <a:endParaRPr b="0" lang="en-US" sz="28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 RFCs or WG drafts, yet</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all for adoption prior to this IETF:</a:t>
            </a:r>
            <a:endParaRPr b="0" lang="en-US" sz="32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aft-narten-nvo3-overlay-problems-statement-03</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aft-lasserre-nvo3-framework-03</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o many comments to adopt before this IETF</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ll try to make progress towards consensus on adoption in Vancouver</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5T15:36:29Z</dcterms:created>
  <dc:creator>Matthew Bocci</dc:creator>
  <dc:description/>
  <dc:language>en-US</dc:language>
  <cp:lastModifiedBy>Matthew Bocci</cp:lastModifiedBy>
  <dcterms:modified xsi:type="dcterms:W3CDTF">2012-07-31T15:28:18Z</dcterms:modified>
  <cp:revision>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302876</vt:r8>
  </property>
  <property fmtid="{D5CDD505-2E9C-101B-9397-08002B2CF9AE}" pid="3" name="_AuthorEmail">
    <vt:lpwstr>wdec@cisco.com</vt:lpwstr>
  </property>
  <property fmtid="{D5CDD505-2E9C-101B-9397-08002B2CF9AE}" pid="4" name="_AuthorEmailDisplayName">
    <vt:lpwstr>Wojciech Dec (wdec)</vt:lpwstr>
  </property>
  <property fmtid="{D5CDD505-2E9C-101B-9397-08002B2CF9AE}" pid="5" name="_EmailSubject">
    <vt:lpwstr>L2CP-BoF-00.ppt</vt:lpwstr>
  </property>
  <property fmtid="{D5CDD505-2E9C-101B-9397-08002B2CF9AE}" pid="6" name="_NewReviewCycle">
    <vt:lpwstr/>
  </property>
</Properties>
</file>