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D14-84EA-4EFB-BC5E-082079ED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6BB-A56B-4D69-B386-5AEE7DA0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1BF-3739-4279-93B1-349AE3B9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223-C158-4F73-89B0-F32EA267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F95-68F0-4D2E-B5AE-A946EC92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A29-C1FE-48FB-AD7F-42940E7B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173-6948-405D-AF05-107EBF78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FCB-8DF2-41DD-BF96-E24712D1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D2D-540A-47D6-94D1-980D016A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077-63A4-4F50-86D0-7880530D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D74-922F-4EE8-83A8-92BF4E80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E1E-068C-4598-94F5-A1CACD9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89C1-63B4-49A7-9276-BC3B1656B1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verlay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lasserre-nvo3-framework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Lass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in B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l B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kov Rekh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the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ocument provides a framework for Data Center Network Virtualization over L3 tunn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ence model &amp; function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s to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nges in -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ed comments made on the list and priv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d and harmonized terminology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d V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dentification (VNID or local reference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fication of DP learning applicability vs CP/Management based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ed L2/L3 service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N to VNI mapping (1-to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WG feel comfortable with the base draft for WG 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re some specific text that needs to be changed/added/rem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dd’l details w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ol-plane versus management versus data-plan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erarchical N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3:29:07Z</dcterms:created>
  <dc:creator>mlasserr</dc:creator>
  <dc:description/>
  <dc:language>en-US</dc:language>
  <cp:lastModifiedBy>mlasserr</cp:lastModifiedBy>
  <dcterms:modified xsi:type="dcterms:W3CDTF">2012-07-30T20:27:16Z</dcterms:modified>
  <cp:revision>18</cp:revision>
  <dc:subject/>
  <dc:title>Network Overlay Framework</dc:title>
</cp:coreProperties>
</file>