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5C0-BA94-4BBB-919A-C7C3CDA4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158-4A6F-472B-94E7-43CD7016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055-35CF-4E93-AACE-422AFD3F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E6C-1323-4A18-91C8-526DF078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E2C-3FE9-4307-A3F0-6F52E429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564-7AFA-46DD-B19D-4BF97570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4BE-10AD-4C64-8362-D3F84B6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868-82DD-4DC6-A26E-1986DA75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DAB-59D9-4E5D-A820-EBAC1550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190-B3F2-42FE-AA18-11ECE97C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6F4-0918-4802-ACEC-56B230F0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CF6-9F4D-455C-A2ED-B34B3CD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3F00-D61A-4B08-9B52-4D5F26A9DB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verlay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lasserre-nvo3-framework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Lass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n B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l B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kov Rekh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ocument provides a framework for Data Center Network Virtualization over L3 tunn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 model &amp; function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s to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nges in 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ed comments made on the list and priv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d and harmonized terminology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d V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fication (VNID or local referenc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ication of DP learning applicability vs CP/Management base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ed L2/L3 service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N to VNI mapping (1-to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WG feel comfortable with the base draft for W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re some specific text that needs to be changed/added/rem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dd’l details w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ol-plane versus management versus data-plan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erarchical N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29:07Z</dcterms:created>
  <dc:creator>mlasserr</dc:creator>
  <dc:description/>
  <dc:language>en-US</dc:language>
  <cp:lastModifiedBy>mlasserr</cp:lastModifiedBy>
  <dcterms:modified xsi:type="dcterms:W3CDTF">2012-07-30T20:27:16Z</dcterms:modified>
  <cp:revision>18</cp:revision>
  <dc:subject/>
  <dc:title>Network Overlay Framework</dc:title>
</cp:coreProperties>
</file>