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F33-416C-47B2-A50C-79B77E55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83E-4901-41EA-B844-BCA7F173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591-BD23-40D7-861B-F38817A9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B83-1E95-456D-95E7-24F44838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C47-8517-439A-A412-D91B627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292-AD1B-4180-B4A6-883309D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919-EB3A-4E7C-9F49-969A655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DAF-D027-49F2-A7F1-FD8B57A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56A-5995-490F-BB4D-91DB10DE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4F5-EF83-4359-A132-B16F03A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7D6-611F-4584-9C2A-9593ED1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16B-40CD-4416-8492-331A86C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347A-BDCB-4300-B1DF-5D17AC49D7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Dataplan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nb-nvo3-dataplane-requirements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plane requirements for Data Center Network Virtualization over L3 tunn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P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2 &amp; L3 VNI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O3 header and tu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N contex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licit unique id (e.g. VNID) or locally significant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QoS/Cos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E tunnell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 encaps (MUST) &amp; MPLS encaps (M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G &amp; ECMP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Serv &amp; ECN 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M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rnal connectivity via 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MT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NI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2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ulated Ethernet multipoi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address learning 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pla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/Management plane MAC addr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3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ized IP routing &amp;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multica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integrated bridging &amp; rou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entropy requirement more gen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capsulation MUST result in sufficient entropy to exercise all paths through several LAG/ECMP ho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2Z</dcterms:modified>
  <cp:revision>20</cp:revision>
  <dc:subject/>
  <dc:title>Network Overlay Framework</dc:title>
</cp:coreProperties>
</file>