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B76-6264-4BCF-98F2-1E8EE6B5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5AE-8AE3-4F2E-BE02-43C1148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F1D-C203-4F47-9659-0B6E222E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CD0-CD7F-4756-9EA2-9D052A5D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93A-8F03-4FEB-9CDD-76C602EC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3DD-83EA-4142-A847-C37E398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F68-7FB1-4A3B-81E2-6B22295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CC1-B65E-4A82-B8D2-B9F5E621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613-25A2-49DA-993A-D2EE7CA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E84-C205-4110-86E4-E868F38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F51-F50D-457F-A5E3-917967E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8F6-54CA-47B9-ADCB-79B5C26C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0DC5-E566-4042-8549-D86EBBDC68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Data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nb-nvo3-dataplane-requirements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plane requirements for Data Center Network Virtualization over L3 tunn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P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2 &amp; L3 VNI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O3 header and tu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N contex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licit unique id (e.g. VNID) or locally significant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QoS/Cos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E tunnell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 encaps (MUST) &amp; MPLS encaps (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G &amp; ECMP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Serv &amp; ECN 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M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 connectivity via 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MT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NI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2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Ethernet multipoi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 learning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pla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/Management plane MAC addr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3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ized IP routing &amp;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multica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integrated bridging &amp; rou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entropy requirement more gen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capsulation MUST result in sufficient entropy to exercise all paths through several LAG/ECMP ho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2Z</dcterms:modified>
  <cp:revision>20</cp:revision>
  <dc:subject/>
  <dc:title>Network Overlay Framework</dc:title>
</cp:coreProperties>
</file>