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451-59A4-4713-89E4-C5950E8D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2B8-9CB9-471B-989F-CDEF6A0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4D8-222B-4604-927D-491CC330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FCE-A224-4406-80D6-2F945F9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3E7-01DF-4D1D-97B1-46C9846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D3E-54DE-4CEB-9E25-85FF41F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857-431F-4FC1-B77A-245D783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C43-EA19-4789-A3E8-9A70593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999-2C30-4E4D-B8A1-0726466F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8E8-EFB3-4C7D-9F75-C291461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9B3-A807-42BB-9BC5-8158389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FEE-34BB-4CB9-B495-98A0D7D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892-BE87-48EA-9DDC-540BBAFD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ashwoodsmith@huawei.com" TargetMode="External"/><Relationship Id="rId2" Type="http://schemas.openxmlformats.org/officeDocument/2006/relationships/hyperlink" Target="mailto:sajassi@cisco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-ashwood-nvo3-operational-requirement-00.tx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Ashwood-Sm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ashwoodsmith@huawei.com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i Sajass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jassi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9) NVO3 OAM M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daptation/inter-working with its IP underlay OAM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example, this would be useful to allow fault notifications from the IP layer to be sent to the  NVO3 layer and likewise exposure of LAG / ECMP will require such non-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0) NVO3 OAM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pendent of the applic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pecific application OAM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/Remove requirement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 removed requirements and reason to avoid future debat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email deb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bottom up, i.e. ad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s we g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Light weight, Con: les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top down, i.e. take existing requirements and cut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Heavier weight, Pro: more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 chose to go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wealth/dearth of OAM work already done so we went looking for existing requirements (I’m laz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IETF we used RFC 61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base .. which in turn builds on OSI O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yer 2 Virtual Private Network (L2VPN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rations Administration, and Maintenance (OAM) Requirements and Framework. March 2011 A. Sajassi and D. Moh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this is overkill and needs pruning b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that’s a group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ling RFC 6136 requirements and re-homing for NVO3 with little pruning yet yield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n NV Edge device to discover other NV  Edge de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hare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proactive connectivity 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s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monitoring/tracing of all possible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NV Edge devices such that equal cost paths that traverse LAG and/or ECMP may be differenti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loc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instance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fault notification to be triggered as a result of the IP under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 faults.  This fault notification SHOULD be used for the suppression of redundant service-level ala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7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ss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8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two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9) NVO3 OAM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one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0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 delay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1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forwarded along the same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links (including LAG members) and nodes) as the NVO3 data fr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2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vide a mechanisms to exercise/trace all data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 due to ECMP/LAG h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scalable such that an NV edge device can support proactive OAM for each V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supported by the device. (Note - Likely very hard to achieve with hash based ECMP/LAG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ext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new functionality and information elements related to this functionality can be introduced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) NVO3 OAM MUST be defined such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ices not supporting  the OAM are able to forward the OAM fr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imilar fashion as the regular NVO3 data frames/pack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) NVO3 OAM frames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le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side their NVO3 dom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7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en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VO3 domain when such OAM frames belong to the same level or to a lower-level OAM. (Trivially met because hierarchical domains are independent technolog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8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ported transpa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ide the NVO3 domain when such OAM frames belong to a higher-level NVO3 domain. (Trivially met because hierarchical domains are independent technolog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</cp:lastModifiedBy>
  <dcterms:modified xsi:type="dcterms:W3CDTF">2012-07-29T01:52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43526610</vt:lpwstr>
  </property>
</Properties>
</file>