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7B26DA-A767-418A-A96E-57EA20CAE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icture is copied from “bg-sharma-evb-VSI-discovery-0110-v0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E21D44-3CBF-4F83-8A25-28D59B00054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D identifies a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04B439-967D-4E27-B66B-BFBB76D87DC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F0F-3B15-4DF2-8C89-0FD12A75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99640" y="39448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CA0-6D39-4CBA-AA3C-7A3EAE6E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9964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8232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44C-8043-4614-AC95-EC272CAD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27640" y="15566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55280" y="15566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99640" y="3944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27640" y="3944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55280" y="3944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75C-0545-4505-8978-259027F7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3391-A4F3-4F34-9647-CE8A5376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99640" y="1556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05F4-1D6A-491A-8166-8EF692A5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E90D-FA6D-4072-8F57-B4231F99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726B-DB51-4680-B286-14D610AD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D276-6CA4-4999-A263-03F1F408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99640" y="332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A3D9-EADD-4E7D-8D4E-7D6F7DD4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9964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2F45-6F96-4793-8CD9-8258C0DE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99640" y="1556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58F-CF5B-4EFF-BB08-2E6987F9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32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91D2-DD42-4650-9E30-40E4C31D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99640" y="39448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8B01-1345-4F69-AC8E-488878B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99640" y="39448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FFF8-449B-4A97-B885-02B575EA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9964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32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342D-5F7A-471B-B6D2-52682E94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7640" y="15566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280" y="15566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99640" y="3944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7640" y="3944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280" y="3944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C41D-4B83-4AC8-AD47-CEF65514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CBC-B7DB-404C-8533-B6C2C832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907-E1D8-4E7E-A0C6-32AF891F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0CA-A0F6-4300-A752-33579A2C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99640" y="332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B54-D1C4-47FC-A0B4-D2C5610B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8CA-A6A8-4258-A8C8-8C9C1A2E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232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A58-3813-4DA7-AFBD-EB0D2356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99640" y="39448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206-4E29-4A6C-9D93-2435944C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圆角矩形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矩形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圆角矩形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2AB47EA-D87E-4CC9-841A-07F3287DA50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矩形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矩形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Franklin Gothic Book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1" name="Picture 2" descr=""/>
          <p:cNvPicPr/>
          <p:nvPr/>
        </p:nvPicPr>
        <p:blipFill>
          <a:blip r:embed="rId3"/>
          <a:stretch/>
        </p:blipFill>
        <p:spPr>
          <a:xfrm>
            <a:off x="0" y="1124640"/>
            <a:ext cx="9143640" cy="3839400"/>
          </a:xfrm>
          <a:prstGeom prst="rect">
            <a:avLst/>
          </a:prstGeom>
          <a:ln w="9525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50" name="圆角矩形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696464"/>
                </a:solidFill>
                <a:latin typeface="Basemic Symbo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899640" y="1556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Perpetua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zh-CN" sz="2400" spc="-1" strike="noStrike">
                <a:solidFill>
                  <a:srgbClr val="000000"/>
                </a:solidFill>
                <a:latin typeface="Perpetua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zh-CN" sz="2000" spc="-1" strike="noStrike">
                <a:solidFill>
                  <a:srgbClr val="000000"/>
                </a:solidFill>
                <a:latin typeface="Perpetua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zh-CN" sz="2000" spc="-1" strike="noStrike">
                <a:solidFill>
                  <a:srgbClr val="000000"/>
                </a:solidFill>
                <a:latin typeface="Perpetua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zh-CN" sz="2000" spc="-1" strike="noStrike">
                <a:solidFill>
                  <a:srgbClr val="000000"/>
                </a:solidFill>
                <a:latin typeface="Perpetua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20280"/>
          </a:xfrm>
          <a:prstGeom prst="rect">
            <a:avLst/>
          </a:prstGeom>
          <a:ln w="9525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2997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asemic Symbol"/>
              </a:rPr>
              <a:t>Yingjie</a:t>
            </a:r>
            <a:r>
              <a:rPr b="0" lang="en-US" sz="2600" spc="-1" strike="noStrike">
                <a:solidFill>
                  <a:srgbClr val="ffffff"/>
                </a:solidFill>
                <a:latin typeface="Basemic Symbo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Basemic Symbol"/>
              </a:rPr>
              <a:t>G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4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7AF2C2AD-3B78-42CF-BF55-56778B24A96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0" y="1196640"/>
            <a:ext cx="612036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ffff"/>
                </a:solidFill>
                <a:latin typeface="Basemic Symbol"/>
                <a:ea typeface="Gungsuh"/>
              </a:rPr>
              <a:t>Requirements on NVE and introduction of VDP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84/NVO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Basemic Symbol"/>
              </a:rPr>
              <a:t>Basic Functionality Reqs on NV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860000" y="1124640"/>
            <a:ext cx="3744000" cy="38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Basemic Symbol"/>
              </a:rPr>
              <a:t>NVE to VNI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Basemic Symbol"/>
              </a:rPr>
              <a:t>VNI to Multicast Addr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Basemic Symbo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80808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808080"/>
                </a:solidFill>
                <a:latin typeface="Basemic Symbol"/>
              </a:rPr>
              <a:t>Optional </a:t>
            </a:r>
            <a:r>
              <a:rPr b="0" lang="en-US" sz="2000" spc="-1" strike="noStrike">
                <a:solidFill>
                  <a:srgbClr val="808080"/>
                </a:solidFill>
                <a:latin typeface="PMingLiU"/>
                <a:ea typeface="PMingLiU"/>
              </a:rPr>
              <a:t>: </a:t>
            </a:r>
            <a:r>
              <a:rPr b="0" lang="en-US" sz="2000" spc="-1" strike="noStrike">
                <a:solidFill>
                  <a:srgbClr val="808080"/>
                </a:solidFill>
                <a:latin typeface="Basemic Symbol"/>
                <a:ea typeface="PMingLiU"/>
              </a:rPr>
              <a:t>QoS, DHCP snooping,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43640" y="2349000"/>
            <a:ext cx="2333160" cy="1771200"/>
          </a:xfrm>
          <a:prstGeom prst="rect">
            <a:avLst/>
          </a:prstGeom>
          <a:ln w="9525">
            <a:noFill/>
          </a:ln>
        </p:spPr>
      </p:pic>
      <p:sp>
        <p:nvSpPr>
          <p:cNvPr id="106" name="线形标注 2 10"/>
          <p:cNvSpPr/>
          <p:nvPr/>
        </p:nvSpPr>
        <p:spPr>
          <a:xfrm>
            <a:off x="3564000" y="2493000"/>
            <a:ext cx="1007640" cy="71964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7"/>
              <a:gd name="adj5" fmla="val 112500"/>
              <a:gd name="adj6" fmla="val -4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Perpetua"/>
              </a:rPr>
              <a:t>Per-V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"/>
          <p:cNvSpPr/>
          <p:nvPr/>
        </p:nvSpPr>
        <p:spPr>
          <a:xfrm>
            <a:off x="2915640" y="472500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800" spc="-1" strike="noStrike">
                <a:solidFill>
                  <a:srgbClr val="000000"/>
                </a:solidFill>
                <a:latin typeface="Basemic Symbol"/>
              </a:rPr>
              <a:t>Connectivity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800" spc="-1" strike="noStrike">
                <a:solidFill>
                  <a:srgbClr val="000000"/>
                </a:solidFill>
                <a:latin typeface="Basemic Symbol"/>
              </a:rPr>
              <a:t>Inner Address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800" spc="-1" strike="noStrike">
                <a:solidFill>
                  <a:srgbClr val="000000"/>
                </a:solidFill>
                <a:latin typeface="Basemic Symbol"/>
              </a:rPr>
              <a:t>Local Tag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线形标注 2 12"/>
          <p:cNvSpPr/>
          <p:nvPr/>
        </p:nvSpPr>
        <p:spPr>
          <a:xfrm>
            <a:off x="1619640" y="4437000"/>
            <a:ext cx="1007640" cy="71964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7"/>
              <a:gd name="adj5" fmla="val -92839"/>
              <a:gd name="adj6" fmla="val 37283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Perpetua"/>
              </a:rPr>
              <a:t>VM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ETF84/NVO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67640" y="1556640"/>
            <a:ext cx="4266720" cy="2914200"/>
          </a:xfrm>
          <a:prstGeom prst="rect">
            <a:avLst/>
          </a:prstGeom>
          <a:ln w="9525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Basemic Symbol"/>
              </a:rPr>
              <a:t>Architectur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7"/>
          <p:cNvSpPr/>
          <p:nvPr/>
        </p:nvSpPr>
        <p:spPr>
          <a:xfrm>
            <a:off x="2195640" y="1350000"/>
            <a:ext cx="1800000" cy="503640"/>
          </a:xfrm>
          <a:prstGeom prst="ellipse">
            <a:avLst/>
          </a:prstGeom>
          <a:noFill/>
          <a:ln w="57150"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13" name="椭圆 16"/>
          <p:cNvSpPr/>
          <p:nvPr/>
        </p:nvSpPr>
        <p:spPr>
          <a:xfrm>
            <a:off x="990360" y="3645000"/>
            <a:ext cx="1800000" cy="503640"/>
          </a:xfrm>
          <a:prstGeom prst="ellipse">
            <a:avLst/>
          </a:prstGeom>
          <a:noFill/>
          <a:ln w="57150"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14" name="矩形标注 17"/>
          <p:cNvSpPr/>
          <p:nvPr/>
        </p:nvSpPr>
        <p:spPr>
          <a:xfrm>
            <a:off x="683640" y="4797000"/>
            <a:ext cx="6336360" cy="1800000"/>
          </a:xfrm>
          <a:prstGeom prst="wedgeRectCallout">
            <a:avLst>
              <a:gd name="adj1" fmla="val -30817"/>
              <a:gd name="adj2" fmla="val -74955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chemeClr val="lt1"/>
                </a:solidFill>
                <a:latin typeface="Perpetua"/>
              </a:rPr>
              <a:t>Able to : Connectivity Notification, Inner Address Notification, and Local Tag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chemeClr val="lt1"/>
                </a:solidFill>
                <a:latin typeface="Basemic Symbol"/>
              </a:rPr>
              <a:t>Advantages </a:t>
            </a:r>
            <a:r>
              <a:rPr b="1" lang="en-US" sz="1800" spc="-1" strike="noStrike">
                <a:solidFill>
                  <a:schemeClr val="lt1"/>
                </a:solidFill>
                <a:latin typeface="Perpetua"/>
              </a:rPr>
              <a:t>: Distributed burden from single controller/database, real-time awareness of VMs/ser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标注 18"/>
          <p:cNvSpPr/>
          <p:nvPr/>
        </p:nvSpPr>
        <p:spPr>
          <a:xfrm>
            <a:off x="5004000" y="1268640"/>
            <a:ext cx="3960000" cy="1295640"/>
          </a:xfrm>
          <a:prstGeom prst="wedgeRectCallout">
            <a:avLst>
              <a:gd name="adj1" fmla="val -74783"/>
              <a:gd name="adj2" fmla="val -38112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1" lang="en-US" sz="1600" spc="-1" strike="noStrike">
                <a:solidFill>
                  <a:schemeClr val="lt1"/>
                </a:solidFill>
                <a:latin typeface="Perpetua"/>
              </a:rPr>
              <a:t>Able to : </a:t>
            </a:r>
            <a:r>
              <a:rPr b="1" lang="en-US" sz="1800" spc="-1" strike="noStrike">
                <a:solidFill>
                  <a:schemeClr val="lt1"/>
                </a:solidFill>
                <a:latin typeface="Perpetua"/>
              </a:rPr>
              <a:t>NVE to VNI Registration, VNI to Multicast Addr Mapping,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ETF84/NVO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Basemic Symbol"/>
              </a:rPr>
              <a:t>A potential mechanism</a:t>
            </a:r>
            <a:br>
              <a:rPr sz="4000"/>
            </a:br>
            <a:r>
              <a:rPr b="1" lang="en-US" sz="3100" spc="-1" strike="noStrike">
                <a:solidFill>
                  <a:srgbClr val="c00000"/>
                </a:solidFill>
                <a:latin typeface="Basemic Symbol"/>
              </a:rPr>
              <a:t>---- Brief Introduction of VDP</a:t>
            </a: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180360" y="1340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VDP = VSI Discovery &amp; Configuration Protoco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1640" y="2133000"/>
            <a:ext cx="7519680" cy="4476240"/>
          </a:xfrm>
          <a:prstGeom prst="rect">
            <a:avLst/>
          </a:prstGeom>
          <a:ln w="9525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4762440" y="548640"/>
            <a:ext cx="4381200" cy="17712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ETF84/NVO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5796000" y="4077000"/>
            <a:ext cx="3285720" cy="1076040"/>
          </a:xfrm>
          <a:prstGeom prst="rect">
            <a:avLst/>
          </a:prstGeom>
          <a:ln w="9525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971640" y="764640"/>
            <a:ext cx="7416360" cy="2347560"/>
          </a:xfrm>
          <a:prstGeom prst="rect">
            <a:avLst/>
          </a:prstGeom>
          <a:ln w="9525">
            <a:noFill/>
          </a:ln>
        </p:spPr>
      </p:pic>
      <p:sp>
        <p:nvSpPr>
          <p:cNvPr id="123" name="灯片编号占位符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直接箭头连接符 7"/>
          <p:cNvCxnSpPr>
            <a:endCxn id="122" idx="1"/>
          </p:cNvCxnSpPr>
          <p:nvPr/>
        </p:nvCxnSpPr>
        <p:spPr>
          <a:xfrm flipH="1">
            <a:off x="971280" y="1412640"/>
            <a:ext cx="648720" cy="525960"/>
          </a:xfrm>
          <a:prstGeom prst="straightConnector1">
            <a:avLst/>
          </a:prstGeom>
          <a:ln w="28575">
            <a:solidFill>
              <a:srgbClr val="b0350b"/>
            </a:solidFill>
            <a:round/>
            <a:tailEnd len="med" type="arrow" w="med"/>
          </a:ln>
        </p:spPr>
      </p:cxnSp>
      <p:sp>
        <p:nvSpPr>
          <p:cNvPr id="125" name="TextBox 8"/>
          <p:cNvSpPr/>
          <p:nvPr/>
        </p:nvSpPr>
        <p:spPr>
          <a:xfrm>
            <a:off x="-56520" y="1917000"/>
            <a:ext cx="1647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Pre-ass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De-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箭头连接符 10"/>
          <p:cNvCxnSpPr/>
          <p:nvPr/>
        </p:nvCxnSpPr>
        <p:spPr>
          <a:xfrm flipH="1">
            <a:off x="3203640" y="1412640"/>
            <a:ext cx="432360" cy="504360"/>
          </a:xfrm>
          <a:prstGeom prst="straightConnector1">
            <a:avLst/>
          </a:prstGeom>
          <a:ln w="28575">
            <a:solidFill>
              <a:srgbClr val="b0350b"/>
            </a:solidFill>
            <a:round/>
            <a:tailEnd len="med" type="arrow" w="med"/>
          </a:ln>
        </p:spPr>
      </p:cxnSp>
      <p:sp>
        <p:nvSpPr>
          <p:cNvPr id="127" name="TextBox 11"/>
          <p:cNvSpPr/>
          <p:nvPr/>
        </p:nvSpPr>
        <p:spPr>
          <a:xfrm>
            <a:off x="1997640" y="1917000"/>
            <a:ext cx="1988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VSI is mig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Or su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左大括号 12"/>
          <p:cNvSpPr/>
          <p:nvPr/>
        </p:nvSpPr>
        <p:spPr>
          <a:xfrm>
            <a:off x="4428000" y="1197360"/>
            <a:ext cx="359640" cy="1151640"/>
          </a:xfrm>
          <a:prstGeom prst="lef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b0350b"/>
            </a:solidFill>
            <a:round/>
          </a:ln>
          <a:scene3d>
            <a:camera prst="orthographicFront">
              <a:rot lat="0" lon="0" rev="5400000"/>
            </a:camera>
            <a:lightRig dir="t" rig="threePt"/>
          </a:scene3d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129" name="直接箭头连接符 14"/>
          <p:cNvCxnSpPr/>
          <p:nvPr/>
        </p:nvCxnSpPr>
        <p:spPr>
          <a:xfrm flipH="1">
            <a:off x="3923640" y="1916640"/>
            <a:ext cx="668160" cy="1656720"/>
          </a:xfrm>
          <a:prstGeom prst="straightConnector1">
            <a:avLst/>
          </a:prstGeom>
          <a:ln w="28575">
            <a:solidFill>
              <a:srgbClr val="b0350b"/>
            </a:solidFill>
            <a:round/>
            <a:tailEnd len="med" type="arrow" w="med"/>
          </a:ln>
        </p:spPr>
      </p:cxnSp>
      <p:sp>
        <p:nvSpPr>
          <p:cNvPr id="130" name="TextBox 15"/>
          <p:cNvSpPr/>
          <p:nvPr/>
        </p:nvSpPr>
        <p:spPr>
          <a:xfrm>
            <a:off x="2339640" y="3429000"/>
            <a:ext cx="2160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Find the VSI’s property in Profil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左大括号 16"/>
          <p:cNvSpPr/>
          <p:nvPr/>
        </p:nvSpPr>
        <p:spPr>
          <a:xfrm>
            <a:off x="7308360" y="1053360"/>
            <a:ext cx="287640" cy="1295640"/>
          </a:xfrm>
          <a:prstGeom prst="lef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b0350b"/>
            </a:solidFill>
            <a:round/>
          </a:ln>
          <a:scene3d>
            <a:camera prst="orthographicFront">
              <a:rot lat="0" lon="0" rev="5400000"/>
            </a:camera>
            <a:lightRig dir="t" rig="threePt"/>
          </a:scene3d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132" name="直接箭头连接符 17"/>
          <p:cNvCxnSpPr/>
          <p:nvPr/>
        </p:nvCxnSpPr>
        <p:spPr>
          <a:xfrm>
            <a:off x="7442280" y="1844640"/>
            <a:ext cx="360" cy="1296360"/>
          </a:xfrm>
          <a:prstGeom prst="straightConnector1">
            <a:avLst/>
          </a:prstGeom>
          <a:ln w="28575">
            <a:solidFill>
              <a:srgbClr val="b0350b"/>
            </a:solidFill>
            <a:round/>
            <a:tailEnd len="med" type="arrow" w="med"/>
          </a:ln>
        </p:spPr>
      </p:cxnSp>
      <p:sp>
        <p:nvSpPr>
          <p:cNvPr id="133" name="TextBox 18"/>
          <p:cNvSpPr/>
          <p:nvPr/>
        </p:nvSpPr>
        <p:spPr>
          <a:xfrm>
            <a:off x="6806160" y="3141000"/>
            <a:ext cx="24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Notification or feedback of MAC/VLAN/Group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左大括号 19"/>
          <p:cNvSpPr/>
          <p:nvPr/>
        </p:nvSpPr>
        <p:spPr>
          <a:xfrm>
            <a:off x="5776560" y="1197360"/>
            <a:ext cx="359640" cy="1151640"/>
          </a:xfrm>
          <a:prstGeom prst="lef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b0350b"/>
            </a:solidFill>
            <a:round/>
          </a:ln>
          <a:scene3d>
            <a:camera prst="orthographicFront">
              <a:rot lat="0" lon="0" rev="5400000"/>
            </a:camera>
            <a:lightRig dir="t" rig="threePt"/>
          </a:scene3d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135" name="直接箭头连接符 20"/>
          <p:cNvCxnSpPr>
            <a:endCxn id="136" idx="0"/>
          </p:cNvCxnSpPr>
          <p:nvPr/>
        </p:nvCxnSpPr>
        <p:spPr>
          <a:xfrm flipH="1">
            <a:off x="4969080" y="1844640"/>
            <a:ext cx="971280" cy="2664720"/>
          </a:xfrm>
          <a:prstGeom prst="straightConnector1">
            <a:avLst/>
          </a:prstGeom>
          <a:ln w="28575">
            <a:solidFill>
              <a:srgbClr val="b0350b"/>
            </a:solidFill>
            <a:round/>
            <a:tailEnd len="med" type="arrow" w="med"/>
          </a:ln>
        </p:spPr>
      </p:cxnSp>
      <p:sp>
        <p:nvSpPr>
          <p:cNvPr id="136" name="TextBox 21"/>
          <p:cNvSpPr/>
          <p:nvPr/>
        </p:nvSpPr>
        <p:spPr>
          <a:xfrm>
            <a:off x="3348000" y="4509000"/>
            <a:ext cx="3242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Identifier of  V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Constant during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Global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ETF84/NVO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696464"/>
              </a:solidFill>
              <a:latin typeface="Basemic Symbol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re exists more than one way to fulfill the assistance to NVE, and even there is more than one existing protocol that we can consider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using is better than inven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DP is just a possible on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ETF84/NVO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平衡">
  <a:themeElements>
    <a:clrScheme name="平衡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平衡">
  <a:themeElements>
    <a:clrScheme name="平衡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713</TotalTime>
  <Application>LibreOffice/7.4.7.2$Linux_X86_64 LibreOffice_project/40$Build-2</Application>
  <AppVersion>15.0000</AppVersion>
  <Words>192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00107907</cp:lastModifiedBy>
  <dcterms:modified xsi:type="dcterms:W3CDTF">2012-07-26T07:11:15Z</dcterms:modified>
  <cp:revision>8</cp:revision>
  <dc:subject/>
  <dc:title>NVE awareness of VM activities and Other top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6</vt:r8>
  </property>
  <property fmtid="{D5CDD505-2E9C-101B-9397-08002B2CF9AE}" pid="5" name="sflag">
    <vt:lpwstr>1343268474</vt:lpwstr>
  </property>
</Properties>
</file>