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CD4-D281-4860-8867-74E86E56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9CB-B220-4D37-9348-19B2DB47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F21-65CF-4EFA-B182-E19525EC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5A5-75B1-4A9B-9FC3-9955AD8C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ECE-69D2-405E-B031-4A6C7375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4C7-D4CF-4EF8-8530-18ACDA9C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73D-B1E6-4745-BB1D-24C0DCC8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464-D876-4206-9940-245AED73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27AC-0BF3-4FD8-B783-F3BA1903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74D-3A8B-4BC1-AFBA-15C09E3F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C8F9-F7C6-4962-889C-999D4F22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5B3-B765-42C1-B80B-F573CF26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BFE0-0C8A-4685-8BB8-21C4E4A64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stream Media Con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 Bu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csson 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westerlund-clue-multistream-conference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al Channel S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558972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152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558972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70880" y="4941720"/>
            <a:ext cx="64116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" y="6063"/>
                </a:moveTo>
                <a:arcTo wR="10800" hR="10800" stAng="-9238911" swAng="7669204"/>
                <a:lnTo>
                  <a:pt x="10800" y="10800"/>
                </a:lnTo>
                <a:close/>
              </a:path>
              <a:path fill="none" w="21600" h="21600">
                <a:moveTo>
                  <a:pt x="1095" y="6063"/>
                </a:moveTo>
                <a:arcTo wR="10800" hR="10800" stAng="-9238911" swAng="7669204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16360" y="3789360"/>
            <a:ext cx="2232000" cy="180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3789360"/>
            <a:ext cx="719280" cy="1079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88000" y="2133720"/>
            <a:ext cx="0" cy="71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635280" y="1197000"/>
            <a:ext cx="1873080" cy="936720"/>
            <a:chOff x="3635280" y="1197000"/>
            <a:chExt cx="1873080" cy="936720"/>
          </a:xfrm>
        </p:grpSpPr>
        <p:sp>
          <p:nvSpPr>
            <p:cNvPr id="161" name=""/>
            <p:cNvSpPr/>
            <p:nvPr/>
          </p:nvSpPr>
          <p:spPr>
            <a:xfrm>
              <a:off x="3635280" y="1197000"/>
              <a:ext cx="1873080" cy="936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119700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356000" y="2133720"/>
            <a:ext cx="0" cy="71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9236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1476360" y="486900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5157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276360" y="4869000"/>
            <a:ext cx="21564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71240" y="4941720"/>
            <a:ext cx="64116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" y="6063"/>
                </a:moveTo>
                <a:arcTo wR="10800" hR="10800" stAng="-9238911" swAng="7669204"/>
                <a:lnTo>
                  <a:pt x="10800" y="10800"/>
                </a:lnTo>
                <a:close/>
              </a:path>
              <a:path fill="none" w="21600" h="21600">
                <a:moveTo>
                  <a:pt x="1095" y="6063"/>
                </a:moveTo>
                <a:arcTo wR="10800" hR="10800" stAng="-9238911" swAng="7669204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1600" y="4941720"/>
            <a:ext cx="64116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" y="6063"/>
                </a:moveTo>
                <a:arcTo wR="10800" hR="10800" stAng="-9238911" swAng="7669204"/>
                <a:lnTo>
                  <a:pt x="10800" y="10800"/>
                </a:lnTo>
                <a:close/>
              </a:path>
              <a:path fill="none" w="21600" h="21600">
                <a:moveTo>
                  <a:pt x="1095" y="6063"/>
                </a:moveTo>
                <a:arcTo wR="10800" hR="10800" stAng="-9238911" swAng="7669204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51640" y="515772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5435640" y="4869000"/>
            <a:ext cx="216000" cy="288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072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6108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2144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76360" y="3789360"/>
            <a:ext cx="2664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692000" y="3789360"/>
            <a:ext cx="2663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276720" y="3789360"/>
            <a:ext cx="122400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64000" y="3789360"/>
            <a:ext cx="107928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32360" y="3789360"/>
            <a:ext cx="719280" cy="1079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3789360"/>
            <a:ext cx="3024360" cy="180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7960" y="2133720"/>
            <a:ext cx="247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concerns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solu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ifferent qualit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described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for eac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1600" y="2900520"/>
            <a:ext cx="28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choice “policies”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e 2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in 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ing user cho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184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189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32000" y="558972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195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3280" y="558972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32000" y="558972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202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635280" y="1197000"/>
            <a:ext cx="1873080" cy="936720"/>
            <a:chOff x="3635280" y="1197000"/>
            <a:chExt cx="1873080" cy="936720"/>
          </a:xfrm>
        </p:grpSpPr>
        <p:sp>
          <p:nvSpPr>
            <p:cNvPr id="206" name=""/>
            <p:cNvSpPr/>
            <p:nvPr/>
          </p:nvSpPr>
          <p:spPr>
            <a:xfrm>
              <a:off x="3635280" y="1197000"/>
              <a:ext cx="1873080" cy="936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72000" y="119700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403280" y="558972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558972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212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Channel S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558972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32000" y="558972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220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00360" y="1197000"/>
            <a:ext cx="3746520" cy="936720"/>
            <a:chOff x="2700360" y="1197000"/>
            <a:chExt cx="3746520" cy="936720"/>
          </a:xfrm>
        </p:grpSpPr>
        <p:sp>
          <p:nvSpPr>
            <p:cNvPr id="224" name=""/>
            <p:cNvSpPr/>
            <p:nvPr/>
          </p:nvSpPr>
          <p:spPr>
            <a:xfrm>
              <a:off x="2700360" y="1197000"/>
              <a:ext cx="3746520" cy="936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e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37080" y="119700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73440" y="119700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08720" y="119700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42160" y="1268280"/>
            <a:ext cx="12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w many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nnel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ld an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ould b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05800" y="256536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recv-ssrc=“man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0616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send-ssrc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06520" y="364500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send-ssrc=“man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5240" y="637524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westerlund-avtcore-max-ssrc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2764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4328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236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692360" y="3789360"/>
            <a:ext cx="25192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492360" y="3789360"/>
            <a:ext cx="9352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3789360"/>
            <a:ext cx="1008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3789360"/>
            <a:ext cx="21607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789360"/>
            <a:ext cx="29527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90160" y="5084640"/>
            <a:ext cx="187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recv-ssrc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26440" y="5084640"/>
            <a:ext cx="187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recv-ssrc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66080" y="5084640"/>
            <a:ext cx="187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recv-ssrc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4440" y="5084640"/>
            <a:ext cx="187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recv-ssrc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96680" y="4365720"/>
            <a:ext cx="576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answerer’s max-send-ssrc ≤ offerer’s max-recv-s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quality Local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87240" y="2684520"/>
            <a:ext cx="146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uming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TP Mix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 choi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f qualitie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79240" y="364500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: max-send-ssrc=“man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5240" y="638172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westerlund-avtcore-max-ssrc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4036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2764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4328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3236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067280" y="3789360"/>
            <a:ext cx="217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789360"/>
            <a:ext cx="21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16360" y="378936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3789360"/>
            <a:ext cx="57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59280" y="378936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4437000"/>
            <a:ext cx="25210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: max-recv-ssrc=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: max-recv-ssrc=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: max-recv-ssrc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635280" y="5445000"/>
            <a:ext cx="1873080" cy="936360"/>
            <a:chOff x="3635280" y="5445000"/>
            <a:chExt cx="1873080" cy="936360"/>
          </a:xfrm>
        </p:grpSpPr>
        <p:grpSp>
          <p:nvGrpSpPr>
            <p:cNvPr id="263" name=""/>
            <p:cNvGrpSpPr/>
            <p:nvPr/>
          </p:nvGrpSpPr>
          <p:grpSpPr>
            <a:xfrm>
              <a:off x="3635280" y="5445000"/>
              <a:ext cx="1873080" cy="936360"/>
              <a:chOff x="3635280" y="5445000"/>
              <a:chExt cx="1873080" cy="936360"/>
            </a:xfrm>
          </p:grpSpPr>
          <p:sp>
            <p:nvSpPr>
              <p:cNvPr id="264" name=""/>
              <p:cNvSpPr/>
              <p:nvPr/>
            </p:nvSpPr>
            <p:spPr>
              <a:xfrm>
                <a:off x="3635280" y="5445000"/>
                <a:ext cx="1873080" cy="9363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ig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72000" y="544500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5219640" y="609264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0200" y="5445000"/>
              <a:ext cx="432000" cy="431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19640" y="544500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70200" y="6092640"/>
              <a:ext cx="2890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Cloud"/>
          <p:cNvSpPr/>
          <p:nvPr/>
        </p:nvSpPr>
        <p:spPr>
          <a:xfrm>
            <a:off x="3635280" y="1197000"/>
            <a:ext cx="1812960" cy="1214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er Stream Roles and SS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7240" y="4005360"/>
            <a:ext cx="236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xer SSRC has a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role” and the sour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at currently hol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at “role” is identifie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y C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7640" y="335772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47640" y="1773360"/>
            <a:ext cx="2519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003280" y="1773360"/>
            <a:ext cx="2521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067280" y="3789360"/>
            <a:ext cx="217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3789360"/>
            <a:ext cx="21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16360" y="378936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88000" y="3789360"/>
            <a:ext cx="57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9280" y="378936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635280" y="5445000"/>
            <a:ext cx="1873080" cy="936360"/>
            <a:chOff x="3635280" y="5445000"/>
            <a:chExt cx="1873080" cy="936360"/>
          </a:xfrm>
        </p:grpSpPr>
        <p:grpSp>
          <p:nvGrpSpPr>
            <p:cNvPr id="284" name=""/>
            <p:cNvGrpSpPr/>
            <p:nvPr/>
          </p:nvGrpSpPr>
          <p:grpSpPr>
            <a:xfrm>
              <a:off x="3635280" y="5445000"/>
              <a:ext cx="1873080" cy="936360"/>
              <a:chOff x="3635280" y="5445000"/>
              <a:chExt cx="1873080" cy="936360"/>
            </a:xfrm>
          </p:grpSpPr>
          <p:sp>
            <p:nvSpPr>
              <p:cNvPr id="285" name=""/>
              <p:cNvSpPr/>
              <p:nvPr/>
            </p:nvSpPr>
            <p:spPr>
              <a:xfrm>
                <a:off x="3635280" y="5445000"/>
                <a:ext cx="1873080" cy="9363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tive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peak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72000" y="544500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5219640" y="609264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70200" y="5445000"/>
              <a:ext cx="432000" cy="431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19640" y="544500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0200" y="6092640"/>
              <a:ext cx="2890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11280" y="1268280"/>
            <a:ext cx="93636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24720" y="1268280"/>
            <a:ext cx="93672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2852640"/>
            <a:ext cx="93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24720" y="285264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067280" y="1268280"/>
            <a:ext cx="93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003280" y="3357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70520" y="2990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02160" y="407664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1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4160" y="22701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58520" y="2276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69080" y="29973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41800" y="18446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61440" y="4797360"/>
            <a:ext cx="1576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2 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50520" y="3860640"/>
            <a:ext cx="15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3 (A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4 (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5 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55600" y="526248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xer SSRC need not chang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ften and should be feasibl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tie to a certain decod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er Stream Roles and SS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7240" y="4005360"/>
            <a:ext cx="236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xer SSRC has a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role” and the sour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at currently hol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at “role” is identifie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y C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47640" y="335772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47640" y="1773360"/>
            <a:ext cx="2519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003280" y="1773360"/>
            <a:ext cx="2521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067280" y="3789360"/>
            <a:ext cx="217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3789360"/>
            <a:ext cx="21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16360" y="378936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88000" y="3789360"/>
            <a:ext cx="57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59280" y="378936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635280" y="5445000"/>
            <a:ext cx="1873080" cy="936360"/>
            <a:chOff x="3635280" y="5445000"/>
            <a:chExt cx="1873080" cy="936360"/>
          </a:xfrm>
        </p:grpSpPr>
        <p:grpSp>
          <p:nvGrpSpPr>
            <p:cNvPr id="319" name=""/>
            <p:cNvGrpSpPr/>
            <p:nvPr/>
          </p:nvGrpSpPr>
          <p:grpSpPr>
            <a:xfrm>
              <a:off x="3635280" y="5445000"/>
              <a:ext cx="1873080" cy="936360"/>
              <a:chOff x="3635280" y="5445000"/>
              <a:chExt cx="1873080" cy="936360"/>
            </a:xfrm>
          </p:grpSpPr>
          <p:sp>
            <p:nvSpPr>
              <p:cNvPr id="320" name=""/>
              <p:cNvSpPr/>
              <p:nvPr/>
            </p:nvSpPr>
            <p:spPr>
              <a:xfrm>
                <a:off x="3635280" y="5445000"/>
                <a:ext cx="1873080" cy="9363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tive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peak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72000" y="544500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5219640" y="609264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70200" y="5445000"/>
              <a:ext cx="432000" cy="431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544500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70200" y="6092640"/>
              <a:ext cx="2890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611280" y="2852640"/>
            <a:ext cx="93636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1268280"/>
            <a:ext cx="93636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24720" y="126828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24720" y="285264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67280" y="1268280"/>
            <a:ext cx="93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003280" y="3357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70520" y="2990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702160" y="407664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1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4160" y="22701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58520" y="2276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869080" y="29973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341800" y="18446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61080" y="4797360"/>
            <a:ext cx="1564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2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50520" y="3860640"/>
            <a:ext cx="15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3 (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4 (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5 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55600" y="526248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xer SSRC need not chang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ften and should be feasibl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tie to a certain decod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er Stream Roles and SS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7240" y="4005360"/>
            <a:ext cx="236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xer SSRC has a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role” and the sour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at currently hol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at “role” is identifie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y C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47640" y="335772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47640" y="1773360"/>
            <a:ext cx="2519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003280" y="1773360"/>
            <a:ext cx="2521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067280" y="3789360"/>
            <a:ext cx="217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16360" y="3789360"/>
            <a:ext cx="360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635280" y="5445000"/>
            <a:ext cx="1873080" cy="936360"/>
            <a:chOff x="3635280" y="5445000"/>
            <a:chExt cx="1873080" cy="936360"/>
          </a:xfrm>
        </p:grpSpPr>
        <p:grpSp>
          <p:nvGrpSpPr>
            <p:cNvPr id="351" name=""/>
            <p:cNvGrpSpPr/>
            <p:nvPr/>
          </p:nvGrpSpPr>
          <p:grpSpPr>
            <a:xfrm>
              <a:off x="3635280" y="5445000"/>
              <a:ext cx="1873080" cy="936360"/>
              <a:chOff x="3635280" y="5445000"/>
              <a:chExt cx="1873080" cy="936360"/>
            </a:xfrm>
          </p:grpSpPr>
          <p:sp>
            <p:nvSpPr>
              <p:cNvPr id="352" name=""/>
              <p:cNvSpPr/>
              <p:nvPr/>
            </p:nvSpPr>
            <p:spPr>
              <a:xfrm>
                <a:off x="3635280" y="5445000"/>
                <a:ext cx="1873080" cy="9363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tive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peak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572000" y="544500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5219640" y="609264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70200" y="5445000"/>
              <a:ext cx="432000" cy="431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19640" y="544500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70200" y="6092640"/>
              <a:ext cx="2890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11280" y="2852640"/>
            <a:ext cx="93636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1268280"/>
            <a:ext cx="93636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24720" y="126828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24720" y="285264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067280" y="1268280"/>
            <a:ext cx="93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003280" y="3357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270520" y="2990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702160" y="407664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1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4160" y="22701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58520" y="2276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69080" y="29973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341800" y="18446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3440" y="443700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2 (B, D, C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654160" y="5262480"/>
            <a:ext cx="25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 Mixer SSRC may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 “composed” by th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xer and contai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ultiple C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iver Stream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6160" y="4005360"/>
            <a:ext cx="227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eiving end-poi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ants to tie a certai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 SSRC to a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rtain Mixer SSRC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nd thus r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47640" y="335772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547640" y="1773360"/>
            <a:ext cx="2519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5003280" y="1773360"/>
            <a:ext cx="2521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4067280" y="3789360"/>
            <a:ext cx="217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0" y="3789360"/>
            <a:ext cx="21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16360" y="378936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788000" y="3789360"/>
            <a:ext cx="57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859280" y="378936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635280" y="5445000"/>
            <a:ext cx="1873080" cy="936360"/>
            <a:chOff x="3635280" y="5445000"/>
            <a:chExt cx="1873080" cy="936360"/>
          </a:xfrm>
        </p:grpSpPr>
        <p:grpSp>
          <p:nvGrpSpPr>
            <p:cNvPr id="385" name=""/>
            <p:cNvGrpSpPr/>
            <p:nvPr/>
          </p:nvGrpSpPr>
          <p:grpSpPr>
            <a:xfrm>
              <a:off x="3635280" y="5445000"/>
              <a:ext cx="1873080" cy="936360"/>
              <a:chOff x="3635280" y="5445000"/>
              <a:chExt cx="1873080" cy="936360"/>
            </a:xfrm>
          </p:grpSpPr>
          <p:sp>
            <p:nvSpPr>
              <p:cNvPr id="386" name=""/>
              <p:cNvSpPr/>
              <p:nvPr/>
            </p:nvSpPr>
            <p:spPr>
              <a:xfrm>
                <a:off x="3635280" y="5445000"/>
                <a:ext cx="1873080" cy="9363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tive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peak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572000" y="544500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219640" y="609264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70200" y="5445000"/>
              <a:ext cx="432000" cy="431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19640" y="544500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70200" y="6092640"/>
              <a:ext cx="2890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11280" y="2852640"/>
            <a:ext cx="93636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1268280"/>
            <a:ext cx="93636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24720" y="126828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524720" y="285264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067280" y="1268280"/>
            <a:ext cx="93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003280" y="3357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70520" y="2990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02160" y="407664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1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74160" y="22701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58520" y="2276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869080" y="29973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1800" y="18446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61080" y="4797360"/>
            <a:ext cx="1564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2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150520" y="3860640"/>
            <a:ext cx="15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3 (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4 (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5 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055240" y="5084640"/>
            <a:ext cx="182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ive me D in M1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7040" y="6381720"/>
            <a:ext cx="48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westerlund-dispatch-stream-selection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3780000" y="3789000"/>
            <a:ext cx="360360" cy="165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iver Stream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6160" y="4005360"/>
            <a:ext cx="227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eiving end-poi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ants to tie a certai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 SSRC to a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rtain Mixer SSRC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nd thus override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rol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547640" y="335772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47640" y="1773360"/>
            <a:ext cx="2519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003280" y="1773360"/>
            <a:ext cx="2521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067280" y="3789360"/>
            <a:ext cx="217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3789360"/>
            <a:ext cx="21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716360" y="378936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788000" y="3789360"/>
            <a:ext cx="57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59280" y="378936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635280" y="5445000"/>
            <a:ext cx="1873080" cy="936360"/>
            <a:chOff x="3635280" y="5445000"/>
            <a:chExt cx="1873080" cy="936360"/>
          </a:xfrm>
        </p:grpSpPr>
        <p:grpSp>
          <p:nvGrpSpPr>
            <p:cNvPr id="422" name=""/>
            <p:cNvGrpSpPr/>
            <p:nvPr/>
          </p:nvGrpSpPr>
          <p:grpSpPr>
            <a:xfrm>
              <a:off x="3635280" y="5445000"/>
              <a:ext cx="1873080" cy="936360"/>
              <a:chOff x="3635280" y="5445000"/>
              <a:chExt cx="1873080" cy="936360"/>
            </a:xfrm>
          </p:grpSpPr>
          <p:sp>
            <p:nvSpPr>
              <p:cNvPr id="423" name=""/>
              <p:cNvSpPr/>
              <p:nvPr/>
            </p:nvSpPr>
            <p:spPr>
              <a:xfrm>
                <a:off x="3635280" y="5445000"/>
                <a:ext cx="1873080" cy="9363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ui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572000" y="544500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5219640" y="609264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70200" y="5445000"/>
              <a:ext cx="432000" cy="431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19640" y="5445000"/>
              <a:ext cx="28872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70200" y="6092640"/>
              <a:ext cx="2890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611280" y="2852640"/>
            <a:ext cx="93636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1268280"/>
            <a:ext cx="93636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524720" y="126828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524720" y="285264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067280" y="1268280"/>
            <a:ext cx="93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003280" y="3357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70520" y="2990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2520" y="407664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1 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4160" y="22701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58520" y="2276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9080" y="29973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341800" y="18446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61080" y="4797360"/>
            <a:ext cx="1564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2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50520" y="3860640"/>
            <a:ext cx="15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3 (A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4 (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5 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483720" y="3789360"/>
            <a:ext cx="6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7040" y="6381720"/>
            <a:ext cx="48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westerlund-dispatch-stream-selection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780000" y="3789000"/>
            <a:ext cx="360360" cy="165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35280" y="544500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656320" y="526248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at to do with replace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roles” is subject to Mix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lementation and policy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further consi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 Unused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8320" y="4005360"/>
            <a:ext cx="252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xer notices that C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E streams ar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rrently not receive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y anyone and decide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pa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547640" y="335772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47640" y="1773360"/>
            <a:ext cx="2519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5003280" y="1773360"/>
            <a:ext cx="2521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067280" y="3789360"/>
            <a:ext cx="217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0" y="3789360"/>
            <a:ext cx="21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788000" y="3789360"/>
            <a:ext cx="57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635280" y="5445000"/>
            <a:ext cx="1873440" cy="936720"/>
            <a:chOff x="3635280" y="5445000"/>
            <a:chExt cx="1873440" cy="936720"/>
          </a:xfrm>
        </p:grpSpPr>
        <p:grpSp>
          <p:nvGrpSpPr>
            <p:cNvPr id="459" name=""/>
            <p:cNvGrpSpPr/>
            <p:nvPr/>
          </p:nvGrpSpPr>
          <p:grpSpPr>
            <a:xfrm>
              <a:off x="3635280" y="5445000"/>
              <a:ext cx="1873080" cy="936720"/>
              <a:chOff x="3635280" y="5445000"/>
              <a:chExt cx="1873080" cy="936720"/>
            </a:xfrm>
          </p:grpSpPr>
          <p:sp>
            <p:nvSpPr>
              <p:cNvPr id="460" name=""/>
              <p:cNvSpPr/>
              <p:nvPr/>
            </p:nvSpPr>
            <p:spPr>
              <a:xfrm>
                <a:off x="3635280" y="5445000"/>
                <a:ext cx="1873080" cy="936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tive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peak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572000" y="544500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4570560" y="5445000"/>
              <a:ext cx="431640" cy="432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219640" y="5445000"/>
              <a:ext cx="2890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611280" y="2852640"/>
            <a:ext cx="93636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11280" y="1268280"/>
            <a:ext cx="93636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524720" y="126828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24720" y="285264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067280" y="1268280"/>
            <a:ext cx="93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5003280" y="3357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70520" y="2990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02160" y="407664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1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74160" y="22701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158520" y="2276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869080" y="29973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341800" y="18446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61080" y="4797360"/>
            <a:ext cx="1564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2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150520" y="443088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3 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55960" y="638172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westerlund-avtext-rtp-stream-pause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4356000" y="2204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03640" y="3573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78880" y="2300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use C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869440" y="357336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use 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 Unused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26160" y="400536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and E streams ar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used and th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uses are ack’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547640" y="335772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47640" y="1773360"/>
            <a:ext cx="2519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003280" y="1773360"/>
            <a:ext cx="2521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4067280" y="3789360"/>
            <a:ext cx="217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0" y="3789360"/>
            <a:ext cx="21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788000" y="3789360"/>
            <a:ext cx="57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635280" y="5445000"/>
            <a:ext cx="1873440" cy="936720"/>
            <a:chOff x="3635280" y="5445000"/>
            <a:chExt cx="1873440" cy="936720"/>
          </a:xfrm>
        </p:grpSpPr>
        <p:grpSp>
          <p:nvGrpSpPr>
            <p:cNvPr id="493" name=""/>
            <p:cNvGrpSpPr/>
            <p:nvPr/>
          </p:nvGrpSpPr>
          <p:grpSpPr>
            <a:xfrm>
              <a:off x="3635280" y="5445000"/>
              <a:ext cx="1873080" cy="936720"/>
              <a:chOff x="3635280" y="5445000"/>
              <a:chExt cx="1873080" cy="936720"/>
            </a:xfrm>
          </p:grpSpPr>
          <p:sp>
            <p:nvSpPr>
              <p:cNvPr id="494" name=""/>
              <p:cNvSpPr/>
              <p:nvPr/>
            </p:nvSpPr>
            <p:spPr>
              <a:xfrm>
                <a:off x="3635280" y="5445000"/>
                <a:ext cx="1873080" cy="936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tive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peak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72000" y="544500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4570560" y="5445000"/>
              <a:ext cx="431640" cy="432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19640" y="5445000"/>
              <a:ext cx="2890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11280" y="2852640"/>
            <a:ext cx="93636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11280" y="1268280"/>
            <a:ext cx="93636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24720" y="126828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524720" y="285264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067280" y="1268280"/>
            <a:ext cx="93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270520" y="2990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702160" y="407664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1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574160" y="22701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158520" y="2276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869080" y="29973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341800" y="18446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061080" y="4797360"/>
            <a:ext cx="1564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2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150520" y="443088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3 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654880" y="5262480"/>
            <a:ext cx="274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used streams must b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ssible to resume very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ickly if they are wante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5960" y="638172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westerlund-avtext-rtp-stream-pause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356000" y="2204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003640" y="3573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15400" y="23004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k C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869440" y="357336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k 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raft defines a framework and requirements for allowing endpoints with different capabilities to participate in a conference, with each endpoint being able to use as high-quality media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Out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E is asked to take the presented use cases and proposed solutions into account in its work and when progressing the WG dra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selected 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focusing on an end-po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es to avoid trans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methods to support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P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ing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-points of different “quality categories” are present in the sam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desirable to use as high quality media as possible to every end-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re capable, higher quality, end-point can always receive a lower quality stream encoded with the same cod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Quality S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84720" y="1628640"/>
            <a:ext cx="504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558972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54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558972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92000" y="3789360"/>
            <a:ext cx="2879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92000" y="3789360"/>
            <a:ext cx="1079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789360"/>
            <a:ext cx="1152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89360"/>
            <a:ext cx="2879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19640" y="486900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651720" y="4439880"/>
            <a:ext cx="1602360" cy="85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" y="6063"/>
                </a:moveTo>
                <a:arcTo wR="10800" hR="10800" stAng="-9238911" swAng="7669204"/>
                <a:lnTo>
                  <a:pt x="10800" y="10800"/>
                </a:lnTo>
                <a:close/>
              </a:path>
              <a:path fill="none" w="21600" h="21600">
                <a:moveTo>
                  <a:pt x="1095" y="6063"/>
                </a:moveTo>
                <a:arcTo wR="10800" hR="10800" stAng="-9238911" swAng="7669204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088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>
            <a:off x="1692000" y="3789360"/>
            <a:ext cx="287964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5157720"/>
            <a:ext cx="360360" cy="36036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um Quality S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2000" y="558972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72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558972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651720" y="4439880"/>
            <a:ext cx="1602360" cy="85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" y="6063"/>
                </a:moveTo>
                <a:arcTo wR="10800" hR="10800" stAng="-9238911" swAng="7669204"/>
                <a:lnTo>
                  <a:pt x="10800" y="10800"/>
                </a:lnTo>
                <a:close/>
              </a:path>
              <a:path fill="none" w="21600" h="21600">
                <a:moveTo>
                  <a:pt x="1095" y="6063"/>
                </a:moveTo>
                <a:arcTo wR="10800" hR="10800" stAng="-9238911" swAng="7669204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1088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11640" y="141300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7019640" y="4869000"/>
            <a:ext cx="431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3789360"/>
            <a:ext cx="287964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3789360"/>
            <a:ext cx="115236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13372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492000" y="3789360"/>
            <a:ext cx="107964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flipH="1">
            <a:off x="1692000" y="4076640"/>
            <a:ext cx="237492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um Quality S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2000" y="558972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89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558972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651720" y="4439880"/>
            <a:ext cx="1602360" cy="85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" y="6063"/>
                </a:moveTo>
                <a:arcTo wR="10800" hR="10800" stAng="-9238911" swAng="7669204"/>
                <a:lnTo>
                  <a:pt x="10800" y="10800"/>
                </a:lnTo>
                <a:close/>
              </a:path>
              <a:path fill="none" w="21600" h="21600">
                <a:moveTo>
                  <a:pt x="1095" y="6063"/>
                </a:moveTo>
                <a:arcTo wR="10800" hR="10800" stAng="-9238911" swAng="7669204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1088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141300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019640" y="4869000"/>
            <a:ext cx="431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3789360"/>
            <a:ext cx="287964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789360"/>
            <a:ext cx="115236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213372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492000" y="3789360"/>
            <a:ext cx="107964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3789360"/>
            <a:ext cx="28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57440" y="373680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flipH="1">
            <a:off x="1692000" y="3789360"/>
            <a:ext cx="2808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um Quality S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558972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109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558972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651720" y="4439880"/>
            <a:ext cx="1602360" cy="85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" y="6063"/>
                </a:moveTo>
                <a:arcTo wR="10800" hR="10800" stAng="-9238911" swAng="7669204"/>
                <a:lnTo>
                  <a:pt x="10800" y="10800"/>
                </a:lnTo>
                <a:close/>
              </a:path>
              <a:path fill="none" w="21600" h="21600">
                <a:moveTo>
                  <a:pt x="1095" y="6063"/>
                </a:moveTo>
                <a:arcTo wR="10800" hR="10800" stAng="-9238911" swAng="7669204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1088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141300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019640" y="4869000"/>
            <a:ext cx="431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3789360"/>
            <a:ext cx="287964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3789360"/>
            <a:ext cx="115236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213372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492000" y="3789360"/>
            <a:ext cx="107964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61800" y="227664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2421000"/>
            <a:ext cx="504720" cy="7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240" y="6375240"/>
            <a:ext cx="40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westerlund-avtcore-rtp-simul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flipH="1">
            <a:off x="1692000" y="3789360"/>
            <a:ext cx="2808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um Quality S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558972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130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558972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651720" y="4439880"/>
            <a:ext cx="1602360" cy="85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" y="6063"/>
                </a:moveTo>
                <a:arcTo wR="10800" hR="10800" stAng="-9238911" swAng="7669204"/>
                <a:lnTo>
                  <a:pt x="10800" y="10800"/>
                </a:lnTo>
                <a:close/>
              </a:path>
              <a:path fill="none" w="21600" h="21600">
                <a:moveTo>
                  <a:pt x="1095" y="6063"/>
                </a:moveTo>
                <a:arcTo wR="10800" hR="10800" stAng="-9238911" swAng="7669204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1088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141300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019640" y="4869000"/>
            <a:ext cx="431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789360"/>
            <a:ext cx="287964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789360"/>
            <a:ext cx="115236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13372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492000" y="3789360"/>
            <a:ext cx="107964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419640" y="3789360"/>
            <a:ext cx="10792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98920" y="3789360"/>
            <a:ext cx="11527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98920" y="3789360"/>
            <a:ext cx="2879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946560" y="486900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2276640"/>
            <a:ext cx="18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le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2421000"/>
            <a:ext cx="360360" cy="7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0:35:03Z</dcterms:created>
  <dc:creator>EAB/TVM Bo Burman</dc:creator>
  <dc:description>
Rev PA3</dc:description>
  <dc:language>en-US</dc:language>
  <cp:lastModifiedBy>Bo Burman</cp:lastModifiedBy>
  <dcterms:modified xsi:type="dcterms:W3CDTF">2012-02-10T15:36:22Z</dcterms:modified>
  <cp:revision>16</cp:revision>
  <dc:subject>Multi-stream Media Conferencing</dc:subject>
  <dc:title>Multi-stream Media Conferenc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> </vt:lpwstr>
  </property>
  <property fmtid="{D5CDD505-2E9C-101B-9397-08002B2CF9AE}" pid="3" name="Checked">
    <vt:lpwstr> </vt:lpwstr>
  </property>
  <property fmtid="{D5CDD505-2E9C-101B-9397-08002B2CF9AE}" pid="4" name="Date">
    <vt:lpwstr>2012-02-10</vt:lpwstr>
  </property>
  <property fmtid="{D5CDD505-2E9C-101B-9397-08002B2CF9AE}" pid="5" name="DocName">
    <vt:lpwstr>PRESENTATION</vt:lpwstr>
  </property>
  <property fmtid="{D5CDD505-2E9C-101B-9397-08002B2CF9AE}" pid="6" name="Prepared">
    <vt:lpwstr>EAB/TVM Bo Burman</vt:lpwstr>
  </property>
  <property fmtid="{D5CDD505-2E9C-101B-9397-08002B2CF9AE}" pid="7" name="Revision">
    <vt:lpwstr>PA3</vt:lpwstr>
  </property>
  <property fmtid="{D5CDD505-2E9C-101B-9397-08002B2CF9AE}" pid="8" name="Title">
    <vt:lpwstr>Multi-stream Media Conferencing</vt:lpwstr>
  </property>
</Properties>
</file>