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0EE-2192-472D-9C3F-2EB861FD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940-0743-4241-9370-6AEA3DBC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DCD-165C-433B-879C-0B3C58DF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B41-D6CF-496B-BB44-D8FEACC9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B5F-F790-401E-AE92-D7E2BAC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04F-E68F-4314-9C2F-85EAA71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22A-58FB-46FA-AF62-1B07050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100-3F68-46C8-831D-57836E7C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955-6B8A-4472-AC2E-376F9B6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6BE-3F80-4F64-9352-5A220A7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114-0843-4165-81DC-E57CC9B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986-51AF-43D2-A5BC-D62BE44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92F7-22A2-482B-96CF-AE9C4919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stream Media Con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Bu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sso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westerlund-clue-multistream-conference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Channel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5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088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3789360"/>
            <a:ext cx="223200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789360"/>
            <a:ext cx="71928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13372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1197000"/>
            <a:ext cx="1873080" cy="936720"/>
            <a:chOff x="3635280" y="1197000"/>
            <a:chExt cx="1873080" cy="936720"/>
          </a:xfrm>
        </p:grpSpPr>
        <p:sp>
          <p:nvSpPr>
            <p:cNvPr id="161" name=""/>
            <p:cNvSpPr/>
            <p:nvPr/>
          </p:nvSpPr>
          <p:spPr>
            <a:xfrm>
              <a:off x="3635280" y="1197000"/>
              <a:ext cx="187308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56000" y="213372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476360" y="486900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276360" y="4869000"/>
            <a:ext cx="215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124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1600" y="4941720"/>
            <a:ext cx="6411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5157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435640" y="4869000"/>
            <a:ext cx="21600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072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108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1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76360" y="3789360"/>
            <a:ext cx="2664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692000" y="3789360"/>
            <a:ext cx="26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276720" y="3789360"/>
            <a:ext cx="1224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4000" y="3789360"/>
            <a:ext cx="107928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3789360"/>
            <a:ext cx="71928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3789360"/>
            <a:ext cx="3024360" cy="18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7960" y="2133720"/>
            <a:ext cx="247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oncern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olu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fferent qual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scribe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or eac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600" y="2900520"/>
            <a:ext cx="28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hoice “policies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 2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n 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 user cho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84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8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95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0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635280" y="1197000"/>
            <a:ext cx="1873080" cy="936720"/>
            <a:chOff x="3635280" y="1197000"/>
            <a:chExt cx="1873080" cy="936720"/>
          </a:xfrm>
        </p:grpSpPr>
        <p:sp>
          <p:nvSpPr>
            <p:cNvPr id="206" name=""/>
            <p:cNvSpPr/>
            <p:nvPr/>
          </p:nvSpPr>
          <p:spPr>
            <a:xfrm>
              <a:off x="3635280" y="1197000"/>
              <a:ext cx="187308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1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Channel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220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00360" y="1197000"/>
            <a:ext cx="3746520" cy="936720"/>
            <a:chOff x="2700360" y="1197000"/>
            <a:chExt cx="3746520" cy="936720"/>
          </a:xfrm>
        </p:grpSpPr>
        <p:sp>
          <p:nvSpPr>
            <p:cNvPr id="224" name=""/>
            <p:cNvSpPr/>
            <p:nvPr/>
          </p:nvSpPr>
          <p:spPr>
            <a:xfrm>
              <a:off x="2700360" y="1197000"/>
              <a:ext cx="374652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3708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344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119700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42160" y="1268280"/>
            <a:ext cx="12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man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ld an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uld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5800" y="256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616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send-ssrc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6520" y="36450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send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240" y="63752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max-ssrc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692360" y="3789360"/>
            <a:ext cx="2519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92360" y="3789360"/>
            <a:ext cx="935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3789360"/>
            <a:ext cx="10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789360"/>
            <a:ext cx="216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789360"/>
            <a:ext cx="2952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9016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44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608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440" y="5084640"/>
            <a:ext cx="187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recv-ssr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96680" y="4365720"/>
            <a:ext cx="576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answerer’s max-send-ssrc ≤ offerer’s max-recv-s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quality Local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7240" y="2684520"/>
            <a:ext cx="146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umin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TP Mix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choi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qualiti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240" y="3645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: max-send-ssrc=“m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240" y="638172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max-ssrc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4437000"/>
            <a:ext cx="2521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: max-recv-ssrc=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: max-recv-ssrc=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: max-recv-ssrc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263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264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Cloud"/>
          <p:cNvSpPr/>
          <p:nvPr/>
        </p:nvSpPr>
        <p:spPr>
          <a:xfrm>
            <a:off x="3635280" y="1197000"/>
            <a:ext cx="1812960" cy="1214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284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285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61440" y="4797360"/>
            <a:ext cx="157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5600" y="52624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need not chang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ten and should be feasib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tie to a certain decod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19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20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55600" y="52624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need not chang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ten and should be feasib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tie to a certain decod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r Stream Roles and SS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240" y="4005360"/>
            <a:ext cx="236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SSRC has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 and the sour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currently hol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t “role” is identifi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378936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51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52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3440" y="443700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, D, C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4160" y="5262480"/>
            <a:ext cx="25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 Mixer SSRC ma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“composed” by th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and con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ple C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 Stream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6160" y="4005360"/>
            <a:ext cx="227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ving end-poi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nts to tie a cer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 SSRC to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tain Mixer SSR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nd thus r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385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386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5240" y="508464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ive me D in M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7040" y="638172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dispatch-stream-selection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780000" y="378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 Stream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6160" y="4005360"/>
            <a:ext cx="227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ving end-poi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nts to tie a certa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 SSRC to 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tain Mixer SSR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nd thus overrid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1636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59280" y="378936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635280" y="5445000"/>
            <a:ext cx="1873080" cy="936360"/>
            <a:chOff x="3635280" y="5445000"/>
            <a:chExt cx="1873080" cy="936360"/>
          </a:xfrm>
        </p:grpSpPr>
        <p:grpSp>
          <p:nvGrpSpPr>
            <p:cNvPr id="422" name=""/>
            <p:cNvGrpSpPr/>
            <p:nvPr/>
          </p:nvGrpSpPr>
          <p:grpSpPr>
            <a:xfrm>
              <a:off x="3635280" y="5445000"/>
              <a:ext cx="1873080" cy="936360"/>
              <a:chOff x="3635280" y="5445000"/>
              <a:chExt cx="1873080" cy="93636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5280" y="5445000"/>
                <a:ext cx="1873080" cy="936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i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544500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219640" y="6092640"/>
              <a:ext cx="28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0200" y="5445000"/>
              <a:ext cx="4320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19640" y="5445000"/>
              <a:ext cx="28872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0200" y="6092640"/>
              <a:ext cx="289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2520" y="407664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50520" y="386064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4 (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5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83720" y="3789360"/>
            <a:ext cx="6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7040" y="638172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dispatch-stream-selection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780000" y="378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5280" y="544500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6320" y="52624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to do with replac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roles” is subject to Mix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ation and policy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further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Unuse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8320" y="4005360"/>
            <a:ext cx="25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xer notices that 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E streams a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rently not receiv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anyone and decid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pa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635280" y="5445000"/>
            <a:ext cx="1873440" cy="936720"/>
            <a:chOff x="3635280" y="5445000"/>
            <a:chExt cx="1873440" cy="936720"/>
          </a:xfrm>
        </p:grpSpPr>
        <p:grpSp>
          <p:nvGrpSpPr>
            <p:cNvPr id="459" name=""/>
            <p:cNvGrpSpPr/>
            <p:nvPr/>
          </p:nvGrpSpPr>
          <p:grpSpPr>
            <a:xfrm>
              <a:off x="3635280" y="5445000"/>
              <a:ext cx="1873080" cy="936720"/>
              <a:chOff x="3635280" y="5445000"/>
              <a:chExt cx="1873080" cy="936720"/>
            </a:xfrm>
          </p:grpSpPr>
          <p:sp>
            <p:nvSpPr>
              <p:cNvPr id="460" name=""/>
              <p:cNvSpPr/>
              <p:nvPr/>
            </p:nvSpPr>
            <p:spPr>
              <a:xfrm>
                <a:off x="3635280" y="5445000"/>
                <a:ext cx="1873080" cy="936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72000" y="54450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4570560" y="5445000"/>
              <a:ext cx="43164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19640" y="5445000"/>
              <a:ext cx="2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00328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50520" y="44308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5960" y="638172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ext-rtp-stream-paus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3560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0364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8880" y="2300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use C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69440" y="35733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use 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Unuse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6160" y="400536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and E streams a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d and th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s are ack’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47640" y="3357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1773360"/>
            <a:ext cx="251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003280" y="1773360"/>
            <a:ext cx="252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067280" y="3789360"/>
            <a:ext cx="217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3789360"/>
            <a:ext cx="21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88000" y="378936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635280" y="5445000"/>
            <a:ext cx="1873440" cy="936720"/>
            <a:chOff x="3635280" y="5445000"/>
            <a:chExt cx="1873440" cy="936720"/>
          </a:xfrm>
        </p:grpSpPr>
        <p:grpSp>
          <p:nvGrpSpPr>
            <p:cNvPr id="493" name=""/>
            <p:cNvGrpSpPr/>
            <p:nvPr/>
          </p:nvGrpSpPr>
          <p:grpSpPr>
            <a:xfrm>
              <a:off x="3635280" y="5445000"/>
              <a:ext cx="1873080" cy="936720"/>
              <a:chOff x="3635280" y="5445000"/>
              <a:chExt cx="1873080" cy="936720"/>
            </a:xfrm>
          </p:grpSpPr>
          <p:sp>
            <p:nvSpPr>
              <p:cNvPr id="494" name=""/>
              <p:cNvSpPr/>
              <p:nvPr/>
            </p:nvSpPr>
            <p:spPr>
              <a:xfrm>
                <a:off x="3635280" y="5445000"/>
                <a:ext cx="1873080" cy="936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p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72000" y="54450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570560" y="5445000"/>
              <a:ext cx="43164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19640" y="5445000"/>
              <a:ext cx="2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11280" y="2852640"/>
            <a:ext cx="93636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280" y="1268280"/>
            <a:ext cx="936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24720" y="126828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24720" y="2852640"/>
            <a:ext cx="93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67280" y="1268280"/>
            <a:ext cx="93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70520" y="2990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02160" y="4076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1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4160" y="2270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15852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9080" y="2997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41800" y="1844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61080" y="4797360"/>
            <a:ext cx="156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2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50520" y="44308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RC M3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4880" y="5262480"/>
            <a:ext cx="27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used streams must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 to resume ver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ickly if they are want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960" y="638172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ext-rtp-stream-paus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3560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0364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15400" y="23004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 C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869440" y="35733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k 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aft defines a framework and requirements for allowing endpoints with different capabilities to participate in a conference, with each endpoint being able to use as high-quality media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E is asked to take the presented use cases and proposed solutions into account in its work and when progressing the WG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selected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ocusing on an end-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s to avoid trans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ethods to support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P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ng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points of different “quality categories” are present in the sam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esirable to use as high quality media as possible to every end-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e capable, higher quality, end-point can always receive a lower quality stream encoded with the same co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628640"/>
            <a:ext cx="50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54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92000" y="3789360"/>
            <a:ext cx="28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1692000" y="3789360"/>
            <a:ext cx="28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5157720"/>
            <a:ext cx="360360" cy="36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72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1692000" y="4076640"/>
            <a:ext cx="23749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8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3789360"/>
            <a:ext cx="28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37368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>
            <a:off x="1692000" y="3789360"/>
            <a:ext cx="28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09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1800" y="2276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421000"/>
            <a:ext cx="50472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40" y="637524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westerlund-avtcore-rtp-simul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H="1">
            <a:off x="1692000" y="3789360"/>
            <a:ext cx="280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Quality S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58972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89720"/>
            <a:ext cx="936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516720" y="5589720"/>
            <a:ext cx="1873080" cy="936360"/>
            <a:chOff x="6516720" y="5589720"/>
            <a:chExt cx="1873080" cy="936360"/>
          </a:xfrm>
        </p:grpSpPr>
        <p:sp>
          <p:nvSpPr>
            <p:cNvPr id="130" name=""/>
            <p:cNvSpPr/>
            <p:nvPr/>
          </p:nvSpPr>
          <p:spPr>
            <a:xfrm>
              <a:off x="6516720" y="5589720"/>
              <a:ext cx="1873080" cy="93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l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3440" y="55897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67280" y="2852640"/>
            <a:ext cx="93636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58972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51720" y="4439880"/>
            <a:ext cx="1602360" cy="85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" y="6063"/>
                </a:moveTo>
                <a:arcTo wR="10800" hR="10800" stAng="-9238911" swAng="7669204"/>
                <a:lnTo>
                  <a:pt x="10800" y="10800"/>
                </a:lnTo>
                <a:close/>
              </a:path>
              <a:path fill="none" w="21600" h="21600">
                <a:moveTo>
                  <a:pt x="1095" y="6063"/>
                </a:moveTo>
                <a:arcTo wR="10800" hR="10800" stAng="-9238911" swAng="766920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088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1413000"/>
            <a:ext cx="720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19640" y="4869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789360"/>
            <a:ext cx="2879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789360"/>
            <a:ext cx="1152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000" y="3789360"/>
            <a:ext cx="107964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19640" y="3789360"/>
            <a:ext cx="1079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8920" y="3789360"/>
            <a:ext cx="1152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789360"/>
            <a:ext cx="28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946560" y="4869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227664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2421000"/>
            <a:ext cx="36036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0:35:03Z</dcterms:created>
  <dc:creator>EAB/TVM Bo Burman</dc:creator>
  <dc:description>
Rev PA3</dc:description>
  <dc:language>en-US</dc:language>
  <cp:lastModifiedBy>Bo Burman</cp:lastModifiedBy>
  <dcterms:modified xsi:type="dcterms:W3CDTF">2012-02-10T15:36:22Z</dcterms:modified>
  <cp:revision>16</cp:revision>
  <dc:subject>Multi-stream Media Conferencing</dc:subject>
  <dc:title>Multi-stream Media Conferen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 </vt:lpwstr>
  </property>
  <property fmtid="{D5CDD505-2E9C-101B-9397-08002B2CF9AE}" pid="3" name="Checked">
    <vt:lpwstr> </vt:lpwstr>
  </property>
  <property fmtid="{D5CDD505-2E9C-101B-9397-08002B2CF9AE}" pid="4" name="Date">
    <vt:lpwstr>2012-02-10</vt:lpwstr>
  </property>
  <property fmtid="{D5CDD505-2E9C-101B-9397-08002B2CF9AE}" pid="5" name="DocName">
    <vt:lpwstr>PRESENTATION</vt:lpwstr>
  </property>
  <property fmtid="{D5CDD505-2E9C-101B-9397-08002B2CF9AE}" pid="6" name="Prepared">
    <vt:lpwstr>EAB/TVM Bo Burman</vt:lpwstr>
  </property>
  <property fmtid="{D5CDD505-2E9C-101B-9397-08002B2CF9AE}" pid="7" name="Revision">
    <vt:lpwstr>PA3</vt:lpwstr>
  </property>
  <property fmtid="{D5CDD505-2E9C-101B-9397-08002B2CF9AE}" pid="8" name="Title">
    <vt:lpwstr>Multi-stream Media Conferencing</vt:lpwstr>
  </property>
</Properties>
</file>