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5B4F-B014-4017-90B2-601D982DB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2DCB-3952-4281-8B86-596F3545E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97224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304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1840" y="106668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03160" y="106668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97224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1840" y="397224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03160" y="397224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610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3040" y="397224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06668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97224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2840" y="888480"/>
            <a:ext cx="816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UE Framework 03 – comments and issue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227664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im meeting February 201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ni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ietflogo"/>
          <p:cNvPicPr/>
          <p:nvPr/>
        </p:nvPicPr>
        <p:blipFill>
          <a:blip r:embed="rId1"/>
          <a:stretch/>
        </p:blipFill>
        <p:spPr>
          <a:xfrm>
            <a:off x="6948360" y="5300640"/>
            <a:ext cx="1676520" cy="9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ajor iss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E and SDP media descri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vidual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work roadma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essage flo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 9.4 specifies three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er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ture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figure enco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re a need for three messages? Can we use just tw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er capabilities for decoding can be different from the number of moni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er can advertise full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mer can use part of a capture set entry based on the number of streams it wants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ing full information will allow the consumer a better sel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285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ving two messages will work better with offer / answer model and will use less mess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have the consumer capabilities as a separate optional message, not part of the message flow with some basic information. No need for all attribut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CLUE and SDP media descrip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E media capture provides information about a media stream, e.g. left camera. There are multiple media captures in C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P provides information about the media stream like encoding and decoding cap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provide information that will map a media capture to an RTP str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a need for an attribute in C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this be specified in the CLUE transport 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draft-lennox-clue-rtp-usage-02 that propose part of the sol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d an initial proposal in draft-even-clue-rtp-mapping-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a description in SDP can be mapped to multiple M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media different media description is as the number of simultaneous MCs in a capture set entry. The mapping can be done using SDP group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conference mapping information for identifying participants stream can be done using the conference event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Individual enco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7.1 defines the following variables for individual enco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H264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um supported frame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ese variables are specified also in SDP and some of them are codec speci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codec may require new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 to map the SDP information to CLUE and nit duplicat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usage see next slide on encoding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Encoding grou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ing groups are used to specify encoding constrains of an endpoint for multiple stre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not a CLUE specific problem. A non CLUE use case if for Dual stream (H.239 like people and content). May have different encoding constrains if sending one or two video stre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include maxGroupBandwidth which is also specified in SD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uld this be in CLUE or a separate general functionality  using SDP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in CLUE, should be optional for the provider since can have no constra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0666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or Consumer, who decide what will be the media content. Switching / mixing of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CLUE message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CLUE message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3427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0:15:14Z</dcterms:created>
  <dc:creator>Roni Even</dc:creator>
  <dc:description/>
  <dc:language>en-US</dc:language>
  <cp:lastModifiedBy>Mary Barnes</cp:lastModifiedBy>
  <dcterms:modified xsi:type="dcterms:W3CDTF">2012-02-15T03:45:57Z</dcterms:modified>
  <cp:revision>351</cp:revision>
  <dc:subject/>
  <dc:title>CLUE comments</dc:title>
</cp:coreProperties>
</file>