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5714-AC3E-47C5-AC80-BF4318CE8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4390-7FD8-4A26-B9EA-52839077D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788-BA1C-4414-9F9F-E045A030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F13-9F4B-4143-9637-50A4FA04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B00-3F74-4838-9120-32777DC2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D3D-A736-45E0-AC9C-DD0AE82E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984-EC60-4157-9740-85DC3018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47-4BF7-4756-94E0-5057E1E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E4D-6FA6-4C68-83FD-37DA1E2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8E5-4FA3-4D77-8ECB-E94D76EF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AD0-570F-48E5-961A-DEDF11F8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4B3-4EA6-44A8-A873-1942310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8E5-A771-4ED8-AE12-37E54F1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684-7CD4-4443-BB5A-45F9803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0B5-7838-40D7-BFB9-613D24FEA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s for RT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Multiplexing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TF CLUE – 15/16 Feb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Gerard Fernando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gerard.fernando@zteus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Xiaoyang Ye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ye.xiaoyang@zte.com.c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ultiplexing all media streams in a single RTP session: Just like CASE 2, but both audio and video streams are included in the same RTP s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380880" y="3124080"/>
          <a:ext cx="85788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5788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Hybrid model: 2 or more cases above can be used at the same time. In a single RTP session, can transmit multiple streams through different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391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s for RT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 we addressing these in the CLUE W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TP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 key feature of an RTP Session is that each session maintains a full and separate address space for SSRC. Westerlund in 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raft-westerlund-avtcore-multiplex-architecture-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] defines an RTP Session as a 5-tuple (Transport protocol, Source address, Source port, Destination address, Destination por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port flow is used to transport RTP packets; each transport flow has separate packet sequence number sp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T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 RTP Source stream includes continuous data which can be encoded and/or decoded separately from another RTP Source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 multiplexing: Each RTP session just include one media type, corresponding to one transport flow, which transmit one RTP source stream)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457200" y="3276720"/>
          <a:ext cx="770400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77040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Multiplexing based on media type: Each RTP session includes one media type which includes multiple transport flows and each transport flow corresponding to one RTP source strea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838080" y="3002040"/>
          <a:ext cx="754380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02040"/>
                    <a:ext cx="75438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Multiple streams in one transport flow using the same SSRC : one transport flow with one SSRC can include multiple streams identified by extended RTP header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is is especially useful for audio in CLU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86720" cy="12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ultiple streams in one transport flow identified by different SSRC: one transport flow can include multiple streams with the same sequence number space and different SSRC. The receivers identify the media stream from the SSR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31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36:05Z</dcterms:created>
  <dc:creator>Information Technology</dc:creator>
  <dc:description/>
  <dc:language>en-US</dc:language>
  <cp:lastModifiedBy>Gerard</cp:lastModifiedBy>
  <dcterms:modified xsi:type="dcterms:W3CDTF">2012-02-03T17:29:47Z</dcterms:modified>
  <cp:revision>161</cp:revision>
  <dc:subject/>
  <dc:title>Slide 1</dc:title>
</cp:coreProperties>
</file>