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98B3-B9DB-45F9-B8F9-817B4E21F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7A17-CBE7-48C1-9178-B9DC2E3FC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38D-33DE-4CED-98CE-56E699B8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B58A-149D-4150-A4C1-2F994C7B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53D-6DFE-4B2A-9C07-1FC506B7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377-CAFE-44EA-B89E-A9EFE091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50D0-8226-4B01-99B9-4A31AA7B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F15-A3C4-408F-965C-2F35AE61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866-2F79-4CE9-B2B9-916409DB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79F-2C91-479B-A06F-AF4A34ED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722-4EA8-43CE-8A4E-8E21A5F2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75F-0D50-470A-AB81-CA02A75D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E74-5C4D-4387-9DCA-715E53E4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BDF1-062F-4C74-9188-05AB8DDA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1E8E-D7FA-4918-8B9B-88483397C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s for RTP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Multiplexing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ETF CLUE – 15/16 Feb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Gerard Fernando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gerard.fernando@zteusa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Xiaoyang Ye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ye.xiaoyang@zte.com.c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 multiplexing: use case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ultiplexing all media streams in a single RTP session: Just like CASE 2, but both audio and video streams are included in the same RTP ses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1"/>
          <p:cNvGraphicFramePr/>
          <p:nvPr/>
        </p:nvGraphicFramePr>
        <p:xfrm>
          <a:off x="380880" y="3124080"/>
          <a:ext cx="857880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5788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 multiplexing: use case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Hybrid model: 2 or more cases above can be used at the same time. In a single RTP session, can transmit multiple streams through different mod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83916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s for RTP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Multiplex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are we addressing these in the CLUE W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RTP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 key feature of an RTP Session is that each session maintains a full and separate address space for SSRC. Westerlund in [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draft-westerlund-avtcore-multiplex-architecture-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] defines an RTP Session as a 5-tuple (Transport protocol, Source address, Source port, Destination address, Destination por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ransport flow is used to transport RTP packets; each transport flow has separate packet sequence number spa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RTP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 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e RTP Source stream includes continuous data which can be encoded and/or decoded separately from another RTP Source str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 multiplexing: use cas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o multiplexing: Each RTP session just include one media type, corresponding to one transport flow, which transmit one RTP source stream).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"/>
          <p:cNvGraphicFramePr/>
          <p:nvPr/>
        </p:nvGraphicFramePr>
        <p:xfrm>
          <a:off x="457200" y="3276720"/>
          <a:ext cx="770400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76720"/>
                    <a:ext cx="770400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 multiplexing: use cas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宋体"/>
              </a:rPr>
              <a:t>Multiplexing based on media type: Each RTP session includes one media type which includes multiple transport flows and each transport flow corresponding to one RTP source strea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3"/>
          <p:cNvGraphicFramePr/>
          <p:nvPr/>
        </p:nvGraphicFramePr>
        <p:xfrm>
          <a:off x="838080" y="3002040"/>
          <a:ext cx="7543800" cy="38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02040"/>
                    <a:ext cx="754380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 multiplexing: use cas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宋体"/>
              </a:rPr>
              <a:t>Multiple streams in one transport flow using the same SSRC : one transport flow with one SSRC can include multiple streams identified by extended RTP header.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his is especially useful for audio in CLU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686720" cy="128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7167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 multiplexing: use cas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95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ultiple streams in one transport flow identified by different SSRC: one transport flow can include multiple streams with the same sequence number space and different SSRC. The receivers identify the media stream from the SSR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8731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8:36:05Z</dcterms:created>
  <dc:creator>Information Technology</dc:creator>
  <dc:description/>
  <dc:language>en-US</dc:language>
  <cp:lastModifiedBy>Gerard</cp:lastModifiedBy>
  <dcterms:modified xsi:type="dcterms:W3CDTF">2012-02-03T17:29:47Z</dcterms:modified>
  <cp:revision>161</cp:revision>
  <dc:subject/>
  <dc:title>Slide 1</dc:title>
</cp:coreProperties>
</file>